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6C556-4EE2-48F6-932E-4B099D256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0214A-E0F6-4E38-893B-78EDF5051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A876-70BB-42CA-9EC9-11621E2C60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01B8-DCB0-484F-8D80-1A0BAF71D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84B3-C3A5-4201-A6AD-3F8232295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C8577-A826-4FF6-A422-BCE2551AF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CE64-C026-4A4F-BC48-CC3BF300A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D490A-7856-4CBB-A847-5BF7C7B81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4A1B-2E29-44A6-8B83-ECC163100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D0D-6457-400A-A4BA-659214C63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29477-3D0B-43CB-B1F2-5D5D278D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9F22C-82F4-44C0-8DD1-377C6EB55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f4f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94FD2-E52A-42E5-89BC-676D982E86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" Target=""/><Relationship Id="rId4" Type="http://schemas.openxmlformats.org/officeDocument/2006/relationships/slide" Target=""/><Relationship Id="rId5" Type="http://schemas.openxmlformats.org/officeDocument/2006/relationships/slide" Target="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f4f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2120" y="3581280"/>
            <a:ext cx="7653240" cy="48600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33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5dcf9"/>
          </a:solidFill>
          <a:ln w="32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771640" y="2852640"/>
          <a:ext cx="3733920" cy="1784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2852640"/>
                    <a:ext cx="3733920" cy="178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7" name=""/>
          <p:cNvGrpSpPr/>
          <p:nvPr/>
        </p:nvGrpSpPr>
        <p:grpSpPr>
          <a:xfrm>
            <a:off x="987480" y="1314360"/>
            <a:ext cx="7221240" cy="4446360"/>
            <a:chOff x="987480" y="1314360"/>
            <a:chExt cx="7221240" cy="4446360"/>
          </a:xfrm>
        </p:grpSpPr>
        <p:sp>
          <p:nvSpPr>
            <p:cNvPr id="48" name=""/>
            <p:cNvSpPr/>
            <p:nvPr/>
          </p:nvSpPr>
          <p:spPr>
            <a:xfrm>
              <a:off x="2190600" y="1314360"/>
              <a:ext cx="4740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3333cc"/>
                  </a:solidFill>
                  <a:latin typeface="Palatino"/>
                </a:rPr>
                <a:t>Nueva Visión de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400" spc="-1" strike="noStrike">
                  <a:solidFill>
                    <a:srgbClr val="3333cc"/>
                  </a:solidFill>
                  <a:latin typeface="Palatino"/>
                </a:rPr>
                <a:t> </a:t>
              </a:r>
              <a:r>
                <a:rPr b="1" lang="es-MX" sz="2400" spc="-1" strike="noStrike">
                  <a:solidFill>
                    <a:srgbClr val="3333cc"/>
                  </a:solidFill>
                  <a:latin typeface="Palatino"/>
                </a:rPr>
                <a:t>Control de la Gestión Públic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987480" y="4554360"/>
              <a:ext cx="70102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3333cc"/>
                  </a:solidFill>
                  <a:latin typeface="Palatino"/>
                </a:rPr>
                <a:t>Procesos y Perspectivas Estratégica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016680" y="5240160"/>
              <a:ext cx="2192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2800" spc="-1" strike="noStrike">
                  <a:solidFill>
                    <a:srgbClr val="3333cc"/>
                  </a:solidFill>
                  <a:latin typeface="Times New Roman"/>
                </a:rPr>
                <a:t>Enero 200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1" name=""/>
          <p:cNvSpPr/>
          <p:nvPr/>
        </p:nvSpPr>
        <p:spPr>
          <a:xfrm>
            <a:off x="762120" y="2362320"/>
            <a:ext cx="765324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3399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609480" y="6019920"/>
            <a:ext cx="8001000" cy="152280"/>
            <a:chOff x="609480" y="6019920"/>
            <a:chExt cx="8001000" cy="152280"/>
          </a:xfrm>
        </p:grpSpPr>
        <p:sp>
          <p:nvSpPr>
            <p:cNvPr id="53" name=""/>
            <p:cNvSpPr/>
            <p:nvPr/>
          </p:nvSpPr>
          <p:spPr>
            <a:xfrm>
              <a:off x="609480" y="6019920"/>
              <a:ext cx="76201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990360" y="6172200"/>
              <a:ext cx="7620120" cy="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f4f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5dc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189000"/>
            <a:ext cx="85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0000"/>
                </a:solidFill>
                <a:latin typeface="Times New Roman"/>
              </a:rPr>
              <a:t>ORGANO INTERNO EN EL CONSEJO NACIONAL DE CIENCIA Y TECNOLOG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0" y="476280"/>
            <a:ext cx="914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00"/>
                </a:solidFill>
                <a:latin typeface="Times New Roman"/>
              </a:rPr>
              <a:t>CIRCULOS VIRTUOSOS DE CONTROL Y EVALUACION DE LA GESTION PU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1835280" y="1413000"/>
            <a:ext cx="5329080" cy="5184720"/>
            <a:chOff x="1835280" y="1413000"/>
            <a:chExt cx="5329080" cy="5184720"/>
          </a:xfrm>
        </p:grpSpPr>
        <p:sp>
          <p:nvSpPr>
            <p:cNvPr id="322" name=""/>
            <p:cNvSpPr/>
            <p:nvPr/>
          </p:nvSpPr>
          <p:spPr>
            <a:xfrm>
              <a:off x="1835280" y="1413000"/>
              <a:ext cx="5329080" cy="5184720"/>
            </a:xfrm>
            <a:prstGeom prst="ellipse">
              <a:avLst/>
            </a:prstGeom>
            <a:gradFill rotWithShape="0">
              <a:gsLst>
                <a:gs pos="0">
                  <a:srgbClr val="bde5d1"/>
                </a:gs>
                <a:gs pos="50000">
                  <a:srgbClr val="99cc00"/>
                </a:gs>
                <a:gs pos="100000">
                  <a:srgbClr val="bde5d1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 txBox="1"/>
            <p:nvPr/>
          </p:nvSpPr>
          <p:spPr>
            <a:xfrm>
              <a:off x="2971800" y="1905120"/>
              <a:ext cx="2951280" cy="7189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OIC’S UNIVERSIDADES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24" name=""/>
            <p:cNvSpPr txBox="1"/>
            <p:nvPr/>
          </p:nvSpPr>
          <p:spPr>
            <a:xfrm>
              <a:off x="2819520" y="5638680"/>
              <a:ext cx="3352680" cy="457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"/>
                </a:rPr>
                <a:t>CENTROS DE INVESTIGACION PUBLICOS</a:t>
              </a:r>
              <a:endParaRPr b="0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  <a:ea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050920" y="2637000"/>
              <a:ext cx="3024360" cy="2952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5cded">
                    <a:alpha val="70196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132000" y="3789360"/>
              <a:ext cx="792360" cy="7920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995640" y="2637000"/>
              <a:ext cx="3024360" cy="2952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5cded">
                    <a:alpha val="70196"/>
                  </a:srgbClr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 txBox="1"/>
            <p:nvPr/>
          </p:nvSpPr>
          <p:spPr>
            <a:xfrm rot="20667000">
              <a:off x="3276360" y="4005000"/>
              <a:ext cx="447480" cy="34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FOMIX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148360" y="3789360"/>
              <a:ext cx="792000" cy="792000"/>
            </a:xfrm>
            <a:prstGeom prst="ellipse">
              <a:avLst/>
            </a:prstGeom>
            <a:gradFill rotWithShape="0">
              <a:gsLst>
                <a:gs pos="0">
                  <a:srgbClr val="99cc00"/>
                </a:gs>
                <a:gs pos="100000">
                  <a:srgbClr val="ffcc99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 txBox="1"/>
            <p:nvPr/>
          </p:nvSpPr>
          <p:spPr>
            <a:xfrm rot="20667000">
              <a:off x="5292360" y="4005000"/>
              <a:ext cx="447840" cy="34272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FOSEC</a:t>
              </a:r>
              <a:endParaRPr b="0" lang="en-US" sz="1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1" name=""/>
            <p:cNvSpPr txBox="1"/>
            <p:nvPr/>
          </p:nvSpPr>
          <p:spPr>
            <a:xfrm rot="3715800">
              <a:off x="4998960" y="3217680"/>
              <a:ext cx="1720800" cy="171144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IC'S SECTORIALE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2" name=""/>
            <p:cNvSpPr txBox="1"/>
            <p:nvPr/>
          </p:nvSpPr>
          <p:spPr>
            <a:xfrm rot="18563400">
              <a:off x="2447640" y="3247920"/>
              <a:ext cx="1511280" cy="1584360"/>
            </a:xfrm>
            <a:prstGeom prst="rect">
              <a:avLst/>
            </a:prstGeom>
          </p:spPr>
          <p:txBody>
            <a:bodyPr wrap="none" fromWordArt="1" lIns="90000" rIns="90000" tIns="46800" bIns="46800" anchor="t" anchorCtr="1">
              <a:prstTxWarp prst="textArchUp">
                <a:avLst>
                  <a:gd name="adj" fmla="val 1080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00"/>
                  </a:solidFill>
                  <a:latin typeface="Arial Black"/>
                </a:rPr>
                <a:t>OIC'S ESTATALES</a:t>
              </a:r>
              <a:endParaRPr b="0" lang="en-US" sz="1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924360" y="3860640"/>
              <a:ext cx="1224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800000"/>
                  </a:solidFill>
                  <a:latin typeface="Arial"/>
                </a:rPr>
                <a:t>OIC CONACY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f4f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5dcf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9480" y="5805360"/>
            <a:ext cx="8001000" cy="671760"/>
            <a:chOff x="609480" y="5805360"/>
            <a:chExt cx="8001000" cy="671760"/>
          </a:xfrm>
        </p:grpSpPr>
        <p:sp>
          <p:nvSpPr>
            <p:cNvPr id="57" name=""/>
            <p:cNvSpPr/>
            <p:nvPr/>
          </p:nvSpPr>
          <p:spPr>
            <a:xfrm>
              <a:off x="609480" y="6297480"/>
              <a:ext cx="5791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990720" y="6477120"/>
              <a:ext cx="7619760" cy="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59" name=""/>
            <p:cNvGraphicFramePr/>
            <p:nvPr/>
          </p:nvGraphicFramePr>
          <p:xfrm>
            <a:off x="7164360" y="5805360"/>
            <a:ext cx="1006560" cy="56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64360" y="5805360"/>
                      <a:ext cx="1006560" cy="56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1" name=""/>
          <p:cNvSpPr/>
          <p:nvPr/>
        </p:nvSpPr>
        <p:spPr>
          <a:xfrm>
            <a:off x="762120" y="1143000"/>
            <a:ext cx="3429000" cy="4114800"/>
          </a:xfrm>
          <a:custGeom>
            <a:avLst/>
            <a:gdLst>
              <a:gd name="textAreaLeft" fmla="*/ 0 w 3429000"/>
              <a:gd name="textAreaRight" fmla="*/ 3429360 w 3429000"/>
              <a:gd name="textAreaTop" fmla="*/ 0 h 4114800"/>
              <a:gd name="textAreaBottom" fmla="*/ 4115160 h 4114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333333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Palatino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Palatino"/>
              </a:rPr>
              <a:t>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Palatin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Palatino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Palatino"/>
              </a:rPr>
              <a:t>Básic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Palatino"/>
              </a:rPr>
              <a:t>       </a:t>
            </a:r>
            <a:r>
              <a:rPr b="1" lang="es-ES_tradnl" sz="2800" spc="-1" strike="noStrike">
                <a:solidFill>
                  <a:srgbClr val="3333cc"/>
                </a:solidFill>
                <a:latin typeface="Palatino"/>
              </a:rPr>
              <a:t>d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Palatino"/>
              </a:rPr>
              <a:t>    </a:t>
            </a:r>
            <a:r>
              <a:rPr b="1" lang="es-ES_tradnl" sz="2800" spc="-1" strike="noStrike">
                <a:solidFill>
                  <a:srgbClr val="3333cc"/>
                </a:solidFill>
                <a:latin typeface="Palatino"/>
              </a:rPr>
              <a:t>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>
                <a:solidFill>
                  <a:srgbClr val="3333cc"/>
                </a:solidFill>
                <a:latin typeface="Palatino"/>
              </a:rPr>
              <a:t>Gubernam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86200" y="762120"/>
            <a:ext cx="4572000" cy="4647960"/>
          </a:xfrm>
          <a:custGeom>
            <a:avLst/>
            <a:gdLst>
              <a:gd name="textAreaLeft" fmla="*/ 0 w 4572000"/>
              <a:gd name="textAreaRight" fmla="*/ 4572360 w 4572000"/>
              <a:gd name="textAreaTop" fmla="*/ 0 h 4647960"/>
              <a:gd name="textAreaBottom" fmla="*/ 4648320 h 464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lnTo>
                  <a:pt x="5400" y="108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9044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990720"/>
            <a:ext cx="2743200" cy="435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pego a 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legal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Goberna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emocrá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Fede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Transpar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Rendición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u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xit" presetID="21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heel(4)" transition="out">
                                      <p:cBhvr additive="repl">
                                        <p:cTn id="13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f4f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-225360" y="0"/>
            <a:ext cx="9369360" cy="6804000"/>
          </a:xfrm>
          <a:prstGeom prst="rect">
            <a:avLst/>
          </a:prstGeom>
          <a:solidFill>
            <a:srgbClr val="b5dcf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946080" y="6350040"/>
            <a:ext cx="5934240" cy="0"/>
          </a:xfrm>
          <a:prstGeom prst="line">
            <a:avLst/>
          </a:prstGeom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336680" y="6527880"/>
            <a:ext cx="7807320" cy="0"/>
          </a:xfrm>
          <a:prstGeom prst="line">
            <a:avLst/>
          </a:prstGeom>
          <a:ln w="7632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7954920" y="5877000"/>
          <a:ext cx="1033560" cy="565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954920" y="5877000"/>
                    <a:ext cx="1033560" cy="56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2151000" y="189000"/>
            <a:ext cx="4869000" cy="3366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63400" y="189000"/>
            <a:ext cx="79646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 Black"/>
              </a:rPr>
              <a:t>MEDICIÓN DEL DESEMPEÑO Y EVALUACIÓN DE LA GESTIÓN PÚBL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3333cc"/>
                </a:solidFill>
                <a:latin typeface="Arial Black"/>
              </a:rPr>
              <a:t> </a:t>
            </a:r>
            <a:r>
              <a:rPr b="0" lang="es-ES_tradnl" sz="1400" spc="-1" strike="noStrike">
                <a:solidFill>
                  <a:srgbClr val="3333cc"/>
                </a:solidFill>
                <a:latin typeface="Arial Black"/>
              </a:rPr>
              <a:t>A TRAVÉS DE RESULTAD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23840" y="836640"/>
            <a:ext cx="2287440" cy="2214360"/>
          </a:xfrm>
          <a:prstGeom prst="flowChartConnector">
            <a:avLst/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12840" y="1341360"/>
            <a:ext cx="431640" cy="1357560"/>
          </a:xfrm>
          <a:prstGeom prst="can">
            <a:avLst>
              <a:gd name="adj" fmla="val 10712"/>
            </a:avLst>
          </a:prstGeom>
          <a:solidFill>
            <a:srgbClr val="b5dcf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31760" y="907920"/>
            <a:ext cx="474840" cy="2149560"/>
          </a:xfrm>
          <a:prstGeom prst="can">
            <a:avLst>
              <a:gd name="adj" fmla="val 11189"/>
            </a:avLst>
          </a:prstGeom>
          <a:solidFill>
            <a:srgbClr val="b5dcf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752480" y="1341360"/>
            <a:ext cx="451080" cy="1365480"/>
          </a:xfrm>
          <a:prstGeom prst="can">
            <a:avLst>
              <a:gd name="adj" fmla="val 11189"/>
            </a:avLst>
          </a:prstGeom>
          <a:solidFill>
            <a:srgbClr val="b5dcf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 flipV="1" rot="5400000">
            <a:off x="217080" y="2021040"/>
            <a:ext cx="727920" cy="231840"/>
          </a:xfrm>
          <a:prstGeom prst="rect">
            <a:avLst/>
          </a:prstGeom>
          <a:solidFill>
            <a:srgbClr val="b5dcf9"/>
          </a:solidFill>
          <a:ln w="3240">
            <a:solidFill>
              <a:srgbClr val="b5dc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just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Times New Roman"/>
              </a:rPr>
              <a:t>P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6200000">
            <a:off x="425880" y="1950480"/>
            <a:ext cx="1735920" cy="218880"/>
          </a:xfrm>
          <a:prstGeom prst="rect">
            <a:avLst/>
          </a:prstGeom>
          <a:solidFill>
            <a:srgbClr val="b5dcf9"/>
          </a:solidFill>
          <a:ln w="3240">
            <a:solidFill>
              <a:srgbClr val="b5dc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PR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S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rot="16200000">
            <a:off x="1653480" y="1860480"/>
            <a:ext cx="727920" cy="235080"/>
          </a:xfrm>
          <a:prstGeom prst="rect">
            <a:avLst/>
          </a:prstGeom>
          <a:solidFill>
            <a:srgbClr val="b5dcf9"/>
          </a:solidFill>
          <a:ln w="3240">
            <a:solidFill>
              <a:srgbClr val="b5dcf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PO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62360" y="981000"/>
            <a:ext cx="2214360" cy="2143080"/>
          </a:xfrm>
          <a:prstGeom prst="rightArrow">
            <a:avLst>
              <a:gd name="adj1" fmla="val 50000"/>
              <a:gd name="adj2" fmla="val 25832"/>
            </a:avLst>
          </a:prstGeom>
          <a:solidFill>
            <a:srgbClr val="ff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17880" y="1700280"/>
            <a:ext cx="1746360" cy="641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lementos rectores que establecen con la ciudadaní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995720" y="2852640"/>
            <a:ext cx="3341880" cy="604800"/>
          </a:xfrm>
          <a:prstGeom prst="downArrowCallout">
            <a:avLst>
              <a:gd name="adj1" fmla="val 138153"/>
              <a:gd name="adj2" fmla="val 138140"/>
              <a:gd name="adj3" fmla="val 16667"/>
              <a:gd name="adj4" fmla="val 6666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41880" y="2925720"/>
            <a:ext cx="31003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NUESTRO COMPROMISO 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03040" y="3500280"/>
            <a:ext cx="1992600" cy="114480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4720" y="3573360"/>
            <a:ext cx="1474920" cy="100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Procurar el bien común, con integridad, honradez e imparcialid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63920" y="3500280"/>
            <a:ext cx="2655720" cy="113508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65600" y="3571920"/>
            <a:ext cx="2065320" cy="10065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Promover la cultura de transparencia en la gestión gubernamental, rendición de cuentas y combate a la corrupció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11680" y="3645000"/>
            <a:ext cx="1624320" cy="91116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93c6cd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764320" y="3789360"/>
            <a:ext cx="1326960" cy="641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Pertinencia y calidad en los servici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03600" y="4941720"/>
            <a:ext cx="4371840" cy="113508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681360" y="5086440"/>
            <a:ext cx="4137120" cy="641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Lo que conlleva a dar un nuevo enfoque al sistema de control y evaluación gubernamental, responsabilidad de SECODAM y de los Órganos Internos de Contro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3"/>
          <a:stretch/>
        </p:blipFill>
        <p:spPr>
          <a:xfrm>
            <a:off x="5867280" y="1268280"/>
            <a:ext cx="2305080" cy="10098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60440" y="4076640"/>
            <a:ext cx="31140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356080" y="4076640"/>
            <a:ext cx="311400" cy="18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12920" y="5373720"/>
            <a:ext cx="2287440" cy="1071360"/>
          </a:xfrm>
          <a:custGeom>
            <a:avLst/>
            <a:gdLst>
              <a:gd name="textAreaLeft" fmla="*/ 0 w 2287440"/>
              <a:gd name="textAreaRight" fmla="*/ 2287800 w 2287440"/>
              <a:gd name="textAreaTop" fmla="*/ 0 h 1071360"/>
              <a:gd name="textAreaBottom" fmla="*/ 1071720 h 1071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855720" y="5373720"/>
            <a:ext cx="1844640" cy="927000"/>
          </a:xfrm>
          <a:prstGeom prst="octagon">
            <a:avLst>
              <a:gd name="adj" fmla="val 29287"/>
            </a:avLst>
          </a:prstGeom>
          <a:noFill/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71600" y="4869000"/>
            <a:ext cx="2806560" cy="1357200"/>
          </a:xfrm>
          <a:custGeom>
            <a:avLst/>
            <a:gdLst>
              <a:gd name="textAreaLeft" fmla="*/ 0 w 2806560"/>
              <a:gd name="textAreaRight" fmla="*/ 2806920 w 2806560"/>
              <a:gd name="textAreaTop" fmla="*/ 0 h 1357200"/>
              <a:gd name="textAreaBottom" fmla="*/ 1357560 h 13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99"/>
          </a:solidFill>
          <a:ln w="1260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61960" y="4940280"/>
            <a:ext cx="2065320" cy="1410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Demandas que exigen replantear los procedimientos de control y evaluación gubernamenta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0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f4f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7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98" name=""/>
            <p:cNvSpPr/>
            <p:nvPr/>
          </p:nvSpPr>
          <p:spPr>
            <a:xfrm>
              <a:off x="0" y="0"/>
              <a:ext cx="9144000" cy="685800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  <a:effectLst>
              <a:outerShdw dist="107932" dir="189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1800" rIns="91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900000" y="5877000"/>
              <a:ext cx="8001000" cy="671400"/>
              <a:chOff x="900000" y="5877000"/>
              <a:chExt cx="8001000" cy="671400"/>
            </a:xfrm>
          </p:grpSpPr>
          <p:sp>
            <p:nvSpPr>
              <p:cNvPr id="100" name=""/>
              <p:cNvSpPr/>
              <p:nvPr/>
            </p:nvSpPr>
            <p:spPr>
              <a:xfrm>
                <a:off x="900000" y="6368760"/>
                <a:ext cx="5791320" cy="0"/>
              </a:xfrm>
              <a:prstGeom prst="line">
                <a:avLst/>
              </a:prstGeom>
              <a:ln w="2844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1281240" y="6548400"/>
                <a:ext cx="7619760" cy="0"/>
              </a:xfrm>
              <a:prstGeom prst="line">
                <a:avLst/>
              </a:prstGeom>
              <a:ln w="7632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02" name=""/>
              <p:cNvGraphicFramePr/>
              <p:nvPr/>
            </p:nvGraphicFramePr>
            <p:xfrm>
              <a:off x="7454880" y="5877000"/>
              <a:ext cx="1006560" cy="56808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3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454880" y="5877000"/>
                        <a:ext cx="1006560" cy="5680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  <p:cxnSp>
          <p:nvCxnSpPr>
            <p:cNvPr id="104" name=""/>
            <p:cNvCxnSpPr>
              <a:stCxn id="105" idx="2"/>
              <a:endCxn id="106" idx="0"/>
            </p:cNvCxnSpPr>
            <p:nvPr/>
          </p:nvCxnSpPr>
          <p:spPr>
            <a:xfrm flipH="1">
              <a:off x="1504800" y="3474720"/>
              <a:ext cx="1232280" cy="687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7" name=""/>
            <p:cNvCxnSpPr>
              <a:stCxn id="105" idx="2"/>
              <a:endCxn id="108" idx="0"/>
            </p:cNvCxnSpPr>
            <p:nvPr/>
          </p:nvCxnSpPr>
          <p:spPr>
            <a:xfrm flipH="1">
              <a:off x="2674440" y="3474720"/>
              <a:ext cx="62640" cy="687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09" name=""/>
            <p:cNvCxnSpPr>
              <a:stCxn id="110" idx="2"/>
              <a:endCxn id="111" idx="0"/>
            </p:cNvCxnSpPr>
            <p:nvPr/>
          </p:nvCxnSpPr>
          <p:spPr>
            <a:xfrm flipH="1">
              <a:off x="3846240" y="3481200"/>
              <a:ext cx="606960" cy="681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2" name=""/>
            <p:cNvCxnSpPr>
              <a:stCxn id="113" idx="2"/>
              <a:endCxn id="114" idx="0"/>
            </p:cNvCxnSpPr>
            <p:nvPr/>
          </p:nvCxnSpPr>
          <p:spPr>
            <a:xfrm flipH="1">
              <a:off x="5015880" y="3479760"/>
              <a:ext cx="1151640" cy="68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5" name=""/>
            <p:cNvCxnSpPr>
              <a:stCxn id="116" idx="2"/>
              <a:endCxn id="117" idx="0"/>
            </p:cNvCxnSpPr>
            <p:nvPr/>
          </p:nvCxnSpPr>
          <p:spPr>
            <a:xfrm flipH="1">
              <a:off x="6253920" y="3479760"/>
              <a:ext cx="1629720" cy="6829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8" name=""/>
            <p:cNvCxnSpPr>
              <a:stCxn id="111" idx="4"/>
              <a:endCxn id="119" idx="0"/>
            </p:cNvCxnSpPr>
            <p:nvPr/>
          </p:nvCxnSpPr>
          <p:spPr>
            <a:xfrm flipH="1">
              <a:off x="3828240" y="4728960"/>
              <a:ext cx="18360" cy="687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20" name=""/>
            <p:cNvSpPr/>
            <p:nvPr/>
          </p:nvSpPr>
          <p:spPr>
            <a:xfrm>
              <a:off x="1023840" y="3956040"/>
              <a:ext cx="398520" cy="30708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2209680" y="3956040"/>
              <a:ext cx="398520" cy="30708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3396960" y="3956040"/>
              <a:ext cx="398520" cy="30708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584600" y="3956040"/>
              <a:ext cx="398520" cy="30708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771880" y="3956040"/>
              <a:ext cx="398520" cy="30708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886520" y="3933720"/>
              <a:ext cx="398520" cy="30708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6" name=""/>
            <p:cNvCxnSpPr>
              <a:stCxn id="108" idx="4"/>
              <a:endCxn id="119" idx="2"/>
            </p:cNvCxnSpPr>
            <p:nvPr/>
          </p:nvCxnSpPr>
          <p:spPr>
            <a:xfrm>
              <a:off x="2674800" y="4728960"/>
              <a:ext cx="673920" cy="353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27" name=""/>
            <p:cNvCxnSpPr>
              <a:stCxn id="114" idx="4"/>
              <a:endCxn id="119" idx="6"/>
            </p:cNvCxnSpPr>
            <p:nvPr/>
          </p:nvCxnSpPr>
          <p:spPr>
            <a:xfrm flipH="1">
              <a:off x="4307760" y="4728960"/>
              <a:ext cx="708840" cy="35316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11" idx="2"/>
              <a:endCxn id="108" idx="6"/>
            </p:cNvCxnSpPr>
            <p:nvPr/>
          </p:nvCxnSpPr>
          <p:spPr>
            <a:xfrm flipH="1">
              <a:off x="3153600" y="4446360"/>
              <a:ext cx="212040" cy="10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129" name=""/>
            <p:cNvCxnSpPr>
              <a:stCxn id="111" idx="6"/>
              <a:endCxn id="114" idx="2"/>
            </p:cNvCxnSpPr>
            <p:nvPr/>
          </p:nvCxnSpPr>
          <p:spPr>
            <a:xfrm>
              <a:off x="4325400" y="4446360"/>
              <a:ext cx="210600" cy="1080"/>
            </a:xfrm>
            <a:prstGeom prst="straightConnector1">
              <a:avLst/>
            </a:prstGeom>
            <a:ln w="93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7012080" y="4162320"/>
              <a:ext cx="960480" cy="5670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munic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707080" y="4162320"/>
              <a:ext cx="1095480" cy="5670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Arial"/>
                </a:rPr>
                <a:t>Participació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s-ES" sz="1200" spc="-1" strike="noStrike">
                  <a:solidFill>
                    <a:srgbClr val="000099"/>
                  </a:solidFill>
                  <a:latin typeface="Arial"/>
                </a:rPr>
                <a:t>y atend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535640" y="4162320"/>
              <a:ext cx="960120" cy="5670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Sancion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348000" y="4797360"/>
              <a:ext cx="960480" cy="5666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Control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365640" y="4162320"/>
              <a:ext cx="960120" cy="5670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Detecta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193840" y="4162320"/>
              <a:ext cx="960480" cy="5670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Preveni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023840" y="4162320"/>
              <a:ext cx="960480" cy="56700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Impulsa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99"/>
                  </a:solidFill>
                  <a:latin typeface="Arial"/>
                </a:rPr>
                <a:t>mejor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79280" y="3500280"/>
              <a:ext cx="2222640" cy="52956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MACRO- PROCESOS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50000"/>
                </a:lnSpc>
                <a:spcBef>
                  <a:spcPts val="876"/>
                </a:spcBef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ECODA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8028000" y="4149720"/>
              <a:ext cx="960480" cy="5666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Arial"/>
                </a:rPr>
                <a:t>Administra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99"/>
                  </a:solidFill>
                  <a:latin typeface="Arial"/>
                </a:rPr>
                <a:t>patrimon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804000" y="3933720"/>
              <a:ext cx="422280" cy="30708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95280" y="1197000"/>
              <a:ext cx="1511280" cy="20052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LIEN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979640" y="765000"/>
              <a:ext cx="6734160" cy="38124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Ciudadanía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1979640" y="1125360"/>
              <a:ext cx="6734160" cy="833400"/>
              <a:chOff x="1979640" y="1125360"/>
              <a:chExt cx="6734160" cy="833400"/>
            </a:xfrm>
          </p:grpSpPr>
          <p:sp>
            <p:nvSpPr>
              <p:cNvPr id="137" name=""/>
              <p:cNvSpPr/>
              <p:nvPr/>
            </p:nvSpPr>
            <p:spPr>
              <a:xfrm>
                <a:off x="5397480" y="11253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7988400" y="11253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814840" y="1125360"/>
                <a:ext cx="0" cy="3045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 anchorCtr="1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1979640" y="1425240"/>
                <a:ext cx="6734160" cy="533520"/>
                <a:chOff x="1979640" y="1425240"/>
                <a:chExt cx="6734160" cy="53352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1979640" y="1425240"/>
                  <a:ext cx="1654200" cy="533520"/>
                </a:xfrm>
                <a:prstGeom prst="rect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Arial"/>
                    </a:rPr>
                    <a:t>Institución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178760" y="1425240"/>
                  <a:ext cx="1535040" cy="533520"/>
                </a:xfrm>
                <a:prstGeom prst="rect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99"/>
                      </a:solidFill>
                      <a:latin typeface="Arial"/>
                    </a:rPr>
                    <a:t>Usuari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668760" y="1425240"/>
                  <a:ext cx="3473640" cy="531720"/>
                </a:xfrm>
                <a:prstGeom prst="rect">
                  <a:avLst/>
                </a:prstGeom>
                <a:solidFill>
                  <a:srgbClr val="ffff99"/>
                </a:solidFill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800" spc="-1" strike="noStrike">
                      <a:solidFill>
                        <a:srgbClr val="000099"/>
                      </a:solidFill>
                      <a:latin typeface="Arial"/>
                    </a:rPr>
                    <a:t>SECODAM</a:t>
                  </a:r>
                  <a:endParaRPr b="0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44" name=""/>
            <p:cNvSpPr/>
            <p:nvPr/>
          </p:nvSpPr>
          <p:spPr>
            <a:xfrm>
              <a:off x="324000" y="2205000"/>
              <a:ext cx="1998360" cy="20052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ESTRUCTUR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5" name=""/>
            <p:cNvGrpSpPr/>
            <p:nvPr/>
          </p:nvGrpSpPr>
          <p:grpSpPr>
            <a:xfrm>
              <a:off x="1909800" y="2573280"/>
              <a:ext cx="6799320" cy="893880"/>
              <a:chOff x="1909800" y="2573280"/>
              <a:chExt cx="6799320" cy="893880"/>
            </a:xfrm>
          </p:grpSpPr>
          <p:sp>
            <p:nvSpPr>
              <p:cNvPr id="105" name=""/>
              <p:cNvSpPr/>
              <p:nvPr/>
            </p:nvSpPr>
            <p:spPr>
              <a:xfrm>
                <a:off x="1909800" y="2938680"/>
                <a:ext cx="1652760" cy="52200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marL="109440" indent="-109440" algn="ctr">
                  <a:lnSpc>
                    <a:spcPct val="85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  <a:ea typeface="Times New Roman"/>
                  </a:rPr>
                  <a:t>Control y Evaluación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3627720" y="2946600"/>
                <a:ext cx="1650960" cy="52056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marL="109440" indent="-109440" algn="ctr">
                  <a:lnSpc>
                    <a:spcPct val="85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99"/>
                    </a:solidFill>
                    <a:latin typeface="Arial"/>
                    <a:ea typeface="Times New Roman"/>
                  </a:rPr>
                  <a:t>Auditoría Intern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5342040" y="2944800"/>
                <a:ext cx="1650960" cy="52092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marL="109440" indent="-109440" algn="ctr">
                  <a:lnSpc>
                    <a:spcPct val="85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Arial"/>
                    <a:ea typeface="Times New Roman"/>
                  </a:rPr>
                  <a:t>Responsabilidad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7058160" y="2944800"/>
                <a:ext cx="1650960" cy="520920"/>
              </a:xfrm>
              <a:prstGeom prst="rect">
                <a:avLst/>
              </a:prstGeom>
              <a:solidFill>
                <a:srgbClr val="ffff99"/>
              </a:solidFill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 anchorCtr="1">
                <a:noAutofit/>
              </a:bodyPr>
              <a:p>
                <a:pPr marL="109440" indent="-109440" algn="ctr">
                  <a:lnSpc>
                    <a:spcPct val="85000"/>
                  </a:lnSpc>
                  <a:spcBef>
                    <a:spcPts val="437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400" spc="-1" strike="noStrike">
                    <a:solidFill>
                      <a:srgbClr val="000099"/>
                    </a:solidFill>
                    <a:latin typeface="Arial"/>
                    <a:ea typeface="Times New Roman"/>
                  </a:rPr>
                  <a:t>Queja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916280" y="2573280"/>
                <a:ext cx="326880" cy="337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  <a:ea typeface="Times New Roman"/>
                  </a:rPr>
                  <a:t>C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3629160" y="2573280"/>
                <a:ext cx="326880" cy="337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  <a:ea typeface="Times New Roman"/>
                  </a:rPr>
                  <a:t>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5348520" y="2598840"/>
                <a:ext cx="326880" cy="337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  <a:ea typeface="Times New Roman"/>
                  </a:rPr>
                  <a:t>R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071840" y="2598840"/>
                <a:ext cx="337680" cy="3373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99"/>
                    </a:solidFill>
                    <a:latin typeface="Arial"/>
                    <a:ea typeface="Times New Roman"/>
                  </a:rPr>
                  <a:t>Q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0" name=""/>
            <p:cNvSpPr/>
            <p:nvPr/>
          </p:nvSpPr>
          <p:spPr>
            <a:xfrm>
              <a:off x="2790720" y="2021040"/>
              <a:ext cx="0" cy="9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43480" y="2019240"/>
              <a:ext cx="0" cy="9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964640" y="2021040"/>
              <a:ext cx="0" cy="925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V="1">
              <a:off x="2790720" y="2027160"/>
              <a:ext cx="185256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flipV="1">
              <a:off x="6243120" y="2027160"/>
              <a:ext cx="1721160" cy="906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5" name=""/>
            <p:cNvCxnSpPr>
              <a:stCxn id="151" idx="0"/>
              <a:endCxn id="142" idx="2"/>
            </p:cNvCxnSpPr>
            <p:nvPr/>
          </p:nvCxnSpPr>
          <p:spPr>
            <a:xfrm flipV="1">
              <a:off x="6243480" y="1972440"/>
              <a:ext cx="1704240" cy="9723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6" name=""/>
            <p:cNvSpPr/>
            <p:nvPr/>
          </p:nvSpPr>
          <p:spPr>
            <a:xfrm>
              <a:off x="4719600" y="1989000"/>
              <a:ext cx="0" cy="92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 anchorCtr="1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57" name=""/>
            <p:cNvCxnSpPr/>
            <p:nvPr/>
          </p:nvCxnSpPr>
          <p:spPr>
            <a:xfrm flipH="1" flipV="1">
              <a:off x="2782080" y="2028240"/>
              <a:ext cx="1670760" cy="9039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158" name=""/>
            <p:cNvSpPr/>
            <p:nvPr/>
          </p:nvSpPr>
          <p:spPr>
            <a:xfrm>
              <a:off x="250920" y="5084640"/>
              <a:ext cx="2290680" cy="20052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50000"/>
                </a:lnSpc>
                <a:spcBef>
                  <a:spcPts val="876"/>
                </a:spcBef>
                <a:spcAft>
                  <a:spcPts val="876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MACRO-PROCESOS OIC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9" name=""/>
            <p:cNvGrpSpPr/>
            <p:nvPr/>
          </p:nvGrpSpPr>
          <p:grpSpPr>
            <a:xfrm>
              <a:off x="468360" y="5445000"/>
              <a:ext cx="7145280" cy="1282680"/>
              <a:chOff x="468360" y="5445000"/>
              <a:chExt cx="7145280" cy="1282680"/>
            </a:xfrm>
          </p:grpSpPr>
          <p:sp>
            <p:nvSpPr>
              <p:cNvPr id="160" name="">
                <a:hlinkClick r:id="rId3" action="ppaction://hlinksldjump"/>
              </p:cNvPr>
              <p:cNvSpPr/>
              <p:nvPr/>
            </p:nvSpPr>
            <p:spPr>
              <a:xfrm>
                <a:off x="468360" y="5445000"/>
                <a:ext cx="1028880" cy="4572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marL="63360"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99"/>
                    </a:solidFill>
                    <a:latin typeface="Arial"/>
                  </a:rPr>
                  <a:t>Promover la mejora de controles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>
                <a:hlinkClick r:id="rId4" action="ppaction://hlinksldjump"/>
              </p:cNvPr>
              <p:cNvSpPr/>
              <p:nvPr/>
            </p:nvSpPr>
            <p:spPr>
              <a:xfrm>
                <a:off x="468360" y="5902200"/>
                <a:ext cx="1028880" cy="304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99"/>
                    </a:solidFill>
                    <a:latin typeface="Arial"/>
                  </a:rPr>
                  <a:t>Mejorar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99"/>
                    </a:solidFill>
                    <a:latin typeface="Arial"/>
                  </a:rPr>
                  <a:t>Información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>
                <a:hlinkClick r:id="rId5" action="ppaction://hlinksldjump"/>
              </p:cNvPr>
              <p:cNvSpPr/>
              <p:nvPr/>
            </p:nvSpPr>
            <p:spPr>
              <a:xfrm>
                <a:off x="3935520" y="5445000"/>
                <a:ext cx="1028880" cy="304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Sancion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3935520" y="5749920"/>
                <a:ext cx="1028880" cy="30492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Denunci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5042160" y="5445000"/>
                <a:ext cx="1355760" cy="57168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000099"/>
                    </a:solidFill>
                    <a:latin typeface="Arial"/>
                  </a:rPr>
                  <a:t>Facilitar la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000099"/>
                    </a:solidFill>
                    <a:latin typeface="Arial"/>
                  </a:rPr>
                  <a:t>presentación de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000099"/>
                    </a:solidFill>
                    <a:latin typeface="Arial"/>
                  </a:rPr>
                  <a:t>sugerencias,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000099"/>
                    </a:solidFill>
                    <a:latin typeface="Arial"/>
                  </a:rPr>
                  <a:t>quejas y denuncia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5042160" y="6016680"/>
                <a:ext cx="1355760" cy="30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99"/>
                    </a:solidFill>
                    <a:latin typeface="Arial"/>
                  </a:rPr>
                  <a:t>Atender quejas y denuncia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5042160" y="6321240"/>
                <a:ext cx="1355760" cy="4064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99"/>
                    </a:solidFill>
                    <a:latin typeface="Arial"/>
                  </a:rPr>
                  <a:t>Informar al quejoso o denunciante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2714760" y="5445000"/>
                <a:ext cx="1130400" cy="482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99"/>
                    </a:solidFill>
                    <a:latin typeface="Arial"/>
                  </a:rPr>
                  <a:t>Identificar presuntas irregularidades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2714760" y="5927760"/>
                <a:ext cx="1130400" cy="2538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99"/>
                    </a:solidFill>
                    <a:latin typeface="Arial"/>
                  </a:rPr>
                  <a:t>I</a:t>
                </a: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nvestig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2714760" y="6181560"/>
                <a:ext cx="1130400" cy="266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99"/>
                    </a:solidFill>
                    <a:latin typeface="Arial"/>
                  </a:rPr>
                  <a:t>Aud</a:t>
                </a: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it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1594080" y="5445000"/>
                <a:ext cx="1028520" cy="39384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99"/>
                    </a:solidFill>
                    <a:latin typeface="Arial"/>
                  </a:rPr>
                  <a:t>Difundir 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99"/>
                    </a:solidFill>
                    <a:latin typeface="Arial"/>
                  </a:rPr>
                  <a:t>Normatividad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1594080" y="5838840"/>
                <a:ext cx="1028520" cy="3045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99"/>
                    </a:solidFill>
                    <a:latin typeface="Arial"/>
                  </a:rPr>
                  <a:t>Dar  Asesoría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6483600" y="5445000"/>
                <a:ext cx="1130040" cy="44460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99"/>
                    </a:solidFill>
                    <a:latin typeface="Arial"/>
                  </a:rPr>
                  <a:t>Coadyuvar en la comunica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2714760" y="6445080"/>
                <a:ext cx="1130400" cy="266760"/>
              </a:xfrm>
              <a:prstGeom prst="rect">
                <a:avLst/>
              </a:prstGeom>
              <a:solidFill>
                <a:srgbClr val="ffff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 anchorCtr="1">
                <a:noAutofit/>
              </a:bodyPr>
              <a:p>
                <a:pPr algn="ctr">
                  <a:lnSpc>
                    <a:spcPct val="75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100" spc="-1" strike="noStrike">
                    <a:solidFill>
                      <a:srgbClr val="000099"/>
                    </a:solidFill>
                    <a:latin typeface="Arial"/>
                  </a:rPr>
                  <a:t>Fundamentar</a:t>
                </a:r>
                <a:endParaRPr b="0" lang="en-US" sz="11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520560" y="216000"/>
              <a:ext cx="8012160" cy="40464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99"/>
                  </a:solidFill>
                  <a:latin typeface="Arial"/>
                </a:rPr>
                <a:t>OIC: Clientes, estructura y macro-proceso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0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8" dur="2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f4f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5dcf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11280" y="6021360"/>
            <a:ext cx="8001000" cy="671400"/>
            <a:chOff x="611280" y="6021360"/>
            <a:chExt cx="8001000" cy="671400"/>
          </a:xfrm>
        </p:grpSpPr>
        <p:sp>
          <p:nvSpPr>
            <p:cNvPr id="177" name=""/>
            <p:cNvSpPr/>
            <p:nvPr/>
          </p:nvSpPr>
          <p:spPr>
            <a:xfrm>
              <a:off x="611280" y="6513120"/>
              <a:ext cx="5791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992520" y="6692760"/>
              <a:ext cx="7619760" cy="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79" name=""/>
            <p:cNvGraphicFramePr/>
            <p:nvPr/>
          </p:nvGraphicFramePr>
          <p:xfrm>
            <a:off x="7166160" y="6021360"/>
            <a:ext cx="1006560" cy="56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8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66160" y="6021360"/>
                      <a:ext cx="100656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81" name=""/>
          <p:cNvSpPr/>
          <p:nvPr/>
        </p:nvSpPr>
        <p:spPr>
          <a:xfrm>
            <a:off x="1981080" y="114480"/>
            <a:ext cx="5162760" cy="399960"/>
          </a:xfrm>
          <a:prstGeom prst="rect">
            <a:avLst/>
          </a:prstGeom>
          <a:solidFill>
            <a:srgbClr val="b5dc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gruencia Objetiv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54440" y="584280"/>
            <a:ext cx="2878200" cy="307080"/>
          </a:xfrm>
          <a:prstGeom prst="rect">
            <a:avLst/>
          </a:prstGeom>
          <a:solidFill>
            <a:srgbClr val="b5dc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Arial"/>
              </a:rPr>
              <a:t>MACRO-PROCESOS SECODA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0920" y="3141720"/>
            <a:ext cx="1611360" cy="307080"/>
          </a:xfrm>
          <a:prstGeom prst="rect">
            <a:avLst/>
          </a:prstGeom>
          <a:solidFill>
            <a:srgbClr val="b5dc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3333cc"/>
                </a:solidFill>
                <a:latin typeface="Arial"/>
              </a:rPr>
              <a:t>OBJETIVOS O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258840" y="2060640"/>
            <a:ext cx="8885160" cy="1095480"/>
            <a:chOff x="258840" y="2060640"/>
            <a:chExt cx="8885160" cy="1095480"/>
          </a:xfrm>
        </p:grpSpPr>
        <p:sp>
          <p:nvSpPr>
            <p:cNvPr id="185" name=""/>
            <p:cNvSpPr/>
            <p:nvPr/>
          </p:nvSpPr>
          <p:spPr>
            <a:xfrm>
              <a:off x="7994520" y="2060640"/>
              <a:ext cx="1149480" cy="109548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Administrar con pertinencia y calidad el Patrimonio Inmobiliario Federa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58840" y="2060640"/>
              <a:ext cx="1046160" cy="91296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Impulsar la mejora de la calidad en la gestión públic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68520" y="2060640"/>
              <a:ext cx="1046160" cy="91296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Prevenir y abatir prácticas de corrupción e impunida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190760" y="2060640"/>
              <a:ext cx="1046160" cy="73044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Sancionar las prácticas de corrupción e impunida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881080" y="2060640"/>
              <a:ext cx="1046160" cy="73044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Controlar y detectar prácticas de corrupción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5503680" y="2060640"/>
              <a:ext cx="1044720" cy="73044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Lograr la participación de la socieda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815160" y="2060640"/>
              <a:ext cx="1046160" cy="73044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1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Dar transparencia a la gestión públic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529920" y="620640"/>
            <a:ext cx="8613720" cy="1297080"/>
            <a:chOff x="529920" y="620640"/>
            <a:chExt cx="8613720" cy="1297080"/>
          </a:xfrm>
        </p:grpSpPr>
        <p:sp>
          <p:nvSpPr>
            <p:cNvPr id="193" name=""/>
            <p:cNvSpPr/>
            <p:nvPr/>
          </p:nvSpPr>
          <p:spPr>
            <a:xfrm>
              <a:off x="8152920" y="1106280"/>
              <a:ext cx="398520" cy="30708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cc"/>
                  </a:solidFill>
                  <a:latin typeface="Arial"/>
                </a:rPr>
                <a:t>S7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8183520" y="1351080"/>
              <a:ext cx="960120" cy="566640"/>
            </a:xfrm>
            <a:prstGeom prst="ellipse">
              <a:avLst/>
            </a:prstGeom>
            <a:solidFill>
              <a:srgbClr val="b5dcf9">
                <a:alpha val="50000"/>
              </a:srgbClr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Arial"/>
                </a:rPr>
                <a:t>Administrar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3333cc"/>
                  </a:solidFill>
                  <a:latin typeface="Arial"/>
                </a:rPr>
                <a:t>patrimoni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95" name=""/>
            <p:cNvGrpSpPr/>
            <p:nvPr/>
          </p:nvGrpSpPr>
          <p:grpSpPr>
            <a:xfrm>
              <a:off x="529920" y="620640"/>
              <a:ext cx="7365960" cy="1297080"/>
              <a:chOff x="529920" y="620640"/>
              <a:chExt cx="7365960" cy="1297080"/>
            </a:xfrm>
          </p:grpSpPr>
          <p:grpSp>
            <p:nvGrpSpPr>
              <p:cNvPr id="196" name=""/>
              <p:cNvGrpSpPr/>
              <p:nvPr/>
            </p:nvGrpSpPr>
            <p:grpSpPr>
              <a:xfrm>
                <a:off x="2633400" y="620640"/>
                <a:ext cx="1815840" cy="1014840"/>
                <a:chOff x="2633400" y="620640"/>
                <a:chExt cx="1815840" cy="1014840"/>
              </a:xfrm>
            </p:grpSpPr>
            <p:cxnSp>
              <p:nvCxnSpPr>
                <p:cNvPr id="197" name=""/>
                <p:cNvCxnSpPr>
                  <a:stCxn id="198" idx="0"/>
                  <a:endCxn id="199" idx="4"/>
                </p:cNvCxnSpPr>
                <p:nvPr/>
              </p:nvCxnSpPr>
              <p:spPr>
                <a:xfrm flipH="1" flipV="1">
                  <a:off x="3532680" y="1186560"/>
                  <a:ext cx="9000" cy="164520"/>
                </a:xfrm>
                <a:prstGeom prst="straightConnector1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0" name=""/>
                <p:cNvCxnSpPr>
                  <a:stCxn id="201" idx="7"/>
                  <a:endCxn id="199" idx="2"/>
                </p:cNvCxnSpPr>
                <p:nvPr/>
              </p:nvCxnSpPr>
              <p:spPr>
                <a:xfrm flipV="1">
                  <a:off x="2633400" y="904320"/>
                  <a:ext cx="419760" cy="529200"/>
                </a:xfrm>
                <a:prstGeom prst="straightConnector1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2" name=""/>
                <p:cNvCxnSpPr>
                  <a:stCxn id="203" idx="1"/>
                  <a:endCxn id="199" idx="6"/>
                </p:cNvCxnSpPr>
                <p:nvPr/>
              </p:nvCxnSpPr>
              <p:spPr>
                <a:xfrm flipH="1" flipV="1">
                  <a:off x="4012200" y="904320"/>
                  <a:ext cx="437400" cy="529200"/>
                </a:xfrm>
                <a:prstGeom prst="straightConnector1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4" name=""/>
                <p:cNvCxnSpPr>
                  <a:stCxn id="198" idx="2"/>
                  <a:endCxn id="201" idx="6"/>
                </p:cNvCxnSpPr>
                <p:nvPr/>
              </p:nvCxnSpPr>
              <p:spPr>
                <a:xfrm flipH="1">
                  <a:off x="2774160" y="1634760"/>
                  <a:ext cx="286200" cy="1080"/>
                </a:xfrm>
                <a:prstGeom prst="straightConnector1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cxnSp>
              <p:nvCxnSpPr>
                <p:cNvPr id="205" name=""/>
                <p:cNvCxnSpPr>
                  <a:stCxn id="198" idx="6"/>
                  <a:endCxn id="203" idx="2"/>
                </p:cNvCxnSpPr>
                <p:nvPr/>
              </p:nvCxnSpPr>
              <p:spPr>
                <a:xfrm>
                  <a:off x="4020840" y="1634760"/>
                  <a:ext cx="288000" cy="1080"/>
                </a:xfrm>
                <a:prstGeom prst="straightConnector1">
                  <a:avLst/>
                </a:prstGeom>
                <a:ln w="9360">
                  <a:solidFill>
                    <a:srgbClr val="3333cc"/>
                  </a:solidFill>
                  <a:miter/>
                  <a:tailEnd len="med" type="triangle" w="med"/>
                </a:ln>
              </p:spPr>
            </p:cxnSp>
            <p:sp>
              <p:nvSpPr>
                <p:cNvPr id="199" name=""/>
                <p:cNvSpPr/>
                <p:nvPr/>
              </p:nvSpPr>
              <p:spPr>
                <a:xfrm>
                  <a:off x="3052440" y="620640"/>
                  <a:ext cx="960480" cy="566640"/>
                </a:xfrm>
                <a:prstGeom prst="ellipse">
                  <a:avLst/>
                </a:prstGeom>
                <a:solidFill>
                  <a:srgbClr val="b5dcf9">
                    <a:alpha val="50000"/>
                  </a:srgbClr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53966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200" spc="-1" strike="noStrike">
                      <a:solidFill>
                        <a:srgbClr val="3333cc"/>
                      </a:solidFill>
                      <a:latin typeface="Arial"/>
                    </a:rPr>
                    <a:t>Controla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06" name=""/>
              <p:cNvSpPr/>
              <p:nvPr/>
            </p:nvSpPr>
            <p:spPr>
              <a:xfrm>
                <a:off x="529920" y="1106280"/>
                <a:ext cx="398520" cy="307080"/>
              </a:xfrm>
              <a:prstGeom prst="rect">
                <a:avLst/>
              </a:prstGeom>
              <a:solidFill>
                <a:srgbClr val="b5d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S1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568080" y="1351080"/>
                <a:ext cx="960480" cy="566640"/>
              </a:xfrm>
              <a:prstGeom prst="ellipse">
                <a:avLst/>
              </a:prstGeom>
              <a:solidFill>
                <a:srgbClr val="b5dcf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Impulsar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mejor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1800000" y="1106280"/>
                <a:ext cx="398520" cy="307080"/>
              </a:xfrm>
              <a:prstGeom prst="rect">
                <a:avLst/>
              </a:prstGeom>
              <a:solidFill>
                <a:srgbClr val="b5d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S2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814400" y="1351080"/>
                <a:ext cx="960480" cy="566640"/>
              </a:xfrm>
              <a:prstGeom prst="ellipse">
                <a:avLst/>
              </a:prstGeom>
              <a:solidFill>
                <a:srgbClr val="b5dcf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Preveni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341600" y="1106280"/>
                <a:ext cx="398520" cy="307080"/>
              </a:xfrm>
              <a:prstGeom prst="rect">
                <a:avLst/>
              </a:prstGeom>
              <a:solidFill>
                <a:srgbClr val="b5d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S4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4308120" y="1351080"/>
                <a:ext cx="960480" cy="566640"/>
              </a:xfrm>
              <a:prstGeom prst="ellipse">
                <a:avLst/>
              </a:prstGeom>
              <a:solidFill>
                <a:srgbClr val="b5dcf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Sancion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881080" y="1139760"/>
                <a:ext cx="398520" cy="307080"/>
              </a:xfrm>
              <a:prstGeom prst="rect">
                <a:avLst/>
              </a:prstGeom>
              <a:solidFill>
                <a:srgbClr val="b5d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S3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3060360" y="1351080"/>
                <a:ext cx="960480" cy="566640"/>
              </a:xfrm>
              <a:prstGeom prst="ellipse">
                <a:avLst/>
              </a:prstGeom>
              <a:solidFill>
                <a:srgbClr val="b5dcf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Detect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611320" y="1106280"/>
                <a:ext cx="398520" cy="307080"/>
              </a:xfrm>
              <a:prstGeom prst="rect">
                <a:avLst/>
              </a:prstGeom>
              <a:solidFill>
                <a:srgbClr val="b5d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S5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5554440" y="1351080"/>
                <a:ext cx="1095480" cy="566640"/>
              </a:xfrm>
              <a:prstGeom prst="ellipse">
                <a:avLst/>
              </a:prstGeom>
              <a:solidFill>
                <a:srgbClr val="b5dcf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3333cc"/>
                    </a:solidFill>
                    <a:latin typeface="Arial"/>
                  </a:rPr>
                  <a:t>Participación 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200" spc="-1" strike="noStrike">
                    <a:solidFill>
                      <a:srgbClr val="3333cc"/>
                    </a:solidFill>
                    <a:latin typeface="Arial"/>
                  </a:rPr>
                  <a:t>y atend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6935400" y="1351080"/>
                <a:ext cx="960480" cy="566640"/>
              </a:xfrm>
              <a:prstGeom prst="ellipse">
                <a:avLst/>
              </a:prstGeom>
              <a:solidFill>
                <a:srgbClr val="b5dcf9">
                  <a:alpha val="50000"/>
                </a:srgbClr>
              </a:solidFill>
              <a:ln w="9360">
                <a:solidFill>
                  <a:srgbClr val="000000"/>
                </a:solidFill>
                <a:miter/>
              </a:ln>
              <a:effectLst>
                <a:outerShdw dist="53966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3333cc"/>
                    </a:solidFill>
                    <a:latin typeface="Arial"/>
                  </a:rPr>
                  <a:t>Comunica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6881400" y="1106280"/>
                <a:ext cx="398520" cy="307080"/>
              </a:xfrm>
              <a:prstGeom prst="rect">
                <a:avLst/>
              </a:prstGeom>
              <a:solidFill>
                <a:srgbClr val="b5dcf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3333cc"/>
                    </a:solidFill>
                    <a:latin typeface="Arial"/>
                  </a:rPr>
                  <a:t>S6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" name=""/>
          <p:cNvGrpSpPr/>
          <p:nvPr/>
        </p:nvGrpSpPr>
        <p:grpSpPr>
          <a:xfrm>
            <a:off x="179280" y="3429000"/>
            <a:ext cx="8724960" cy="2666520"/>
            <a:chOff x="179280" y="3429000"/>
            <a:chExt cx="8724960" cy="2666520"/>
          </a:xfrm>
        </p:grpSpPr>
        <p:sp>
          <p:nvSpPr>
            <p:cNvPr id="216" name=""/>
            <p:cNvSpPr/>
            <p:nvPr/>
          </p:nvSpPr>
          <p:spPr>
            <a:xfrm>
              <a:off x="179280" y="3746160"/>
              <a:ext cx="1338480" cy="2349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09440" indent="-109440">
                <a:lnSpc>
                  <a:spcPct val="85000"/>
                </a:lnSpc>
                <a:spcBef>
                  <a:spcPts val="374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Impulsar en las instituciones la mejora de sus procesos administrativos y servicios públicos, a través de la detección de áreas de oportunida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85000"/>
                </a:lnSpc>
                <a:spcBef>
                  <a:spcPts val="374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94280" y="3429000"/>
              <a:ext cx="596880" cy="30708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"/>
                </a:rPr>
                <a:t>OIC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961920" y="5771880"/>
              <a:ext cx="398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"/>
                </a:rPr>
                <a:t>S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1601640" y="3746160"/>
              <a:ext cx="1366920" cy="2349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09440" indent="-109440">
                <a:lnSpc>
                  <a:spcPct val="85000"/>
                </a:lnSpc>
                <a:spcBef>
                  <a:spcPts val="374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Prevenir prácticas de corrupción e impunidad a través de la difusión de normas, el establecimiento de controles internos y de asesorí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923120" y="3429000"/>
              <a:ext cx="596880" cy="30708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"/>
                </a:rPr>
                <a:t>OIC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401560" y="5698800"/>
              <a:ext cx="398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"/>
                </a:rPr>
                <a:t>S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621320" y="3746160"/>
              <a:ext cx="1387440" cy="2349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09440" indent="-109440">
                <a:lnSpc>
                  <a:spcPct val="85000"/>
                </a:lnSpc>
                <a:spcBef>
                  <a:spcPts val="374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Sustentar jurídicamente las presuntas responsabilidades 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85000"/>
                </a:lnSpc>
                <a:spcBef>
                  <a:spcPts val="374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sancionar las conductas indebidas de los servidores público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5029920" y="3429000"/>
              <a:ext cx="596880" cy="30708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"/>
                </a:rPr>
                <a:t>OIC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5499000" y="5698800"/>
              <a:ext cx="398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"/>
                </a:rPr>
                <a:t>S4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70080" y="3746160"/>
              <a:ext cx="1430280" cy="2349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09440" indent="-109440">
                <a:lnSpc>
                  <a:spcPct val="85000"/>
                </a:lnSpc>
                <a:spcBef>
                  <a:spcPts val="374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Detectar la corrupción a través de auditorías enfocadas a lo relevante,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85000"/>
                </a:lnSpc>
                <a:spcBef>
                  <a:spcPts val="374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obtener en las auditorías resultados válidos, significativos y debidamente fundamentados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351960" y="3429000"/>
              <a:ext cx="596880" cy="30708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"/>
                </a:rPr>
                <a:t>OIC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985920" y="5771880"/>
              <a:ext cx="398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"/>
                </a:rPr>
                <a:t>S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159600" y="3746160"/>
              <a:ext cx="1296720" cy="2349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09440" indent="-109440">
                <a:lnSpc>
                  <a:spcPct val="85000"/>
                </a:lnSpc>
                <a:spcBef>
                  <a:spcPts val="374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Promover que la ciudadanía presente propuestas y sugerencias de mejora de la gestión pública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marL="109440" indent="-109440">
                <a:lnSpc>
                  <a:spcPct val="85000"/>
                </a:lnSpc>
                <a:spcBef>
                  <a:spcPts val="374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Otorgar la debida atención a las quejas, denuncias e inconformidades de la sociedad.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03040" y="3429000"/>
              <a:ext cx="596880" cy="30708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"/>
                </a:rPr>
                <a:t>OIC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010280" y="5771880"/>
              <a:ext cx="398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"/>
                </a:rPr>
                <a:t>S5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607160" y="3746160"/>
              <a:ext cx="1297080" cy="2349360"/>
            </a:xfrm>
            <a:prstGeom prst="rect">
              <a:avLst/>
            </a:prstGeom>
            <a:solidFill>
              <a:srgbClr val="ffff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109440" indent="-109440">
                <a:lnSpc>
                  <a:spcPct val="85000"/>
                </a:lnSpc>
                <a:spcBef>
                  <a:spcPts val="374"/>
                </a:spcBef>
                <a:buClr>
                  <a:srgbClr val="3333cc"/>
                </a:buClr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3333cc"/>
                  </a:solidFill>
                  <a:latin typeface="Arial"/>
                  <a:ea typeface="Times New Roman"/>
                </a:rPr>
                <a:t>Impulsar la debida rendición de cuentas a la sociedad sobre la gestión y los resultados de la APF.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7925400" y="3429000"/>
              <a:ext cx="596880" cy="307080"/>
            </a:xfrm>
            <a:prstGeom prst="rect">
              <a:avLst/>
            </a:prstGeom>
            <a:solidFill>
              <a:srgbClr val="b5dcf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"/>
                </a:rPr>
                <a:t>OIC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8378640" y="5698800"/>
              <a:ext cx="398520" cy="30708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cc"/>
                  </a:solidFill>
                  <a:latin typeface="Arial"/>
                </a:rPr>
                <a:t>S6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f4f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5dcf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600200" y="1523880"/>
            <a:ext cx="9144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1143000"/>
            <a:ext cx="2209680" cy="38098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971800" y="2209680"/>
            <a:ext cx="1447920" cy="1600200"/>
          </a:xfrm>
          <a:prstGeom prst="flowChartConnector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124080" y="4876920"/>
            <a:ext cx="1143000" cy="76176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28600" y="4495680"/>
            <a:ext cx="9144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200400" y="838080"/>
            <a:ext cx="1143000" cy="762120"/>
          </a:xfrm>
          <a:prstGeom prst="rect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572000" y="1828800"/>
            <a:ext cx="914400" cy="2895480"/>
          </a:xfrm>
          <a:prstGeom prst="flowChartOffpageConnector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48720" y="1828800"/>
            <a:ext cx="914400" cy="2895480"/>
          </a:xfrm>
          <a:prstGeom prst="flowChartOffpageConnector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2057400"/>
            <a:ext cx="1020960" cy="273996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732720" y="2060640"/>
            <a:ext cx="961920" cy="2666880"/>
          </a:xfrm>
          <a:prstGeom prst="octagon">
            <a:avLst>
              <a:gd name="adj" fmla="val 29287"/>
            </a:avLst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8600" y="1066680"/>
            <a:ext cx="9144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295280" y="0"/>
            <a:ext cx="6705720" cy="398880"/>
          </a:xfrm>
          <a:prstGeom prst="rect">
            <a:avLst/>
          </a:prstGeom>
          <a:solidFill>
            <a:srgbClr val="b5dc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3333cc"/>
                </a:solidFill>
                <a:latin typeface="Arial"/>
              </a:rPr>
              <a:t>ESQUEMA BÁSICO DE ANÁLISIS ADMINISTR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5562720" y="1676520"/>
            <a:ext cx="2209680" cy="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5943600" y="1143000"/>
            <a:ext cx="1600200" cy="520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3333cc"/>
                </a:solidFill>
                <a:latin typeface="Arial"/>
              </a:rPr>
              <a:t>Estudios Administrativ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667640" y="5084640"/>
            <a:ext cx="1152360" cy="398520"/>
          </a:xfrm>
          <a:prstGeom prst="flowChartTerminator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572000" y="5084640"/>
            <a:ext cx="1079640" cy="360360"/>
          </a:xfrm>
          <a:prstGeom prst="flowChartTerminator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791320" y="5105520"/>
            <a:ext cx="1752480" cy="380880"/>
          </a:xfrm>
          <a:prstGeom prst="flowChartTerminator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6438600" y="3543120"/>
            <a:ext cx="457200" cy="4343400"/>
          </a:xfrm>
          <a:custGeom>
            <a:avLst/>
            <a:gdLst>
              <a:gd name="textAreaLeft" fmla="*/ 292320 w 457200"/>
              <a:gd name="textAreaRight" fmla="*/ 457560 w 457200"/>
              <a:gd name="textAreaTop" fmla="*/ 113040 h 4343400"/>
              <a:gd name="textAreaBottom" fmla="*/ 4230360 h 4343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b5dcf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0" y="5950080"/>
            <a:ext cx="2666880" cy="368280"/>
          </a:xfrm>
          <a:prstGeom prst="rect">
            <a:avLst/>
          </a:prstGeom>
          <a:solidFill>
            <a:srgbClr val="b5dcf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cc"/>
                </a:solidFill>
                <a:latin typeface="Arial"/>
              </a:rPr>
              <a:t>SECUENCIA LÓG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28600" y="1066680"/>
            <a:ext cx="914400" cy="89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Marco Juríd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28600" y="4495680"/>
            <a:ext cx="914400" cy="1029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Marco Adminis-tra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600200" y="1523880"/>
            <a:ext cx="914400" cy="81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Direc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200400" y="838080"/>
            <a:ext cx="1143000" cy="89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Planes y Program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971800" y="2895480"/>
            <a:ext cx="144792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PROBLEMÁT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124080" y="4876920"/>
            <a:ext cx="1143000" cy="89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valuación Operativ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7740720" y="5157720"/>
            <a:ext cx="99036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Produ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4643280" y="5157720"/>
            <a:ext cx="838440" cy="276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Insum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5157720"/>
            <a:ext cx="1436760" cy="261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100" spc="-1" strike="noStrike">
                <a:solidFill>
                  <a:srgbClr val="3333cc"/>
                </a:solidFill>
                <a:latin typeface="Arial"/>
              </a:rPr>
              <a:t>PROCESAMIENTO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7885080" y="2060640"/>
            <a:ext cx="831960" cy="1235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cc"/>
                </a:solidFill>
                <a:latin typeface="Arial"/>
              </a:rPr>
              <a:t>Determi-nación       de   objetivos     y</a:t>
            </a:r>
            <a:r>
              <a:rPr b="1" lang="es-ES_tradnl" sz="1100" spc="-1" strike="noStrike">
                <a:solidFill>
                  <a:srgbClr val="3333cc"/>
                </a:solidFill>
                <a:latin typeface="Arial"/>
              </a:rPr>
              <a:t>   </a:t>
            </a: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resultados esperado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643280" y="1989000"/>
            <a:ext cx="725760" cy="15703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100" spc="-1" strike="noStrike">
                <a:solidFill>
                  <a:srgbClr val="3333cc"/>
                </a:solidFill>
                <a:latin typeface="Arial"/>
              </a:rPr>
              <a:t>Análisis   de          fuente         de  </a:t>
            </a: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recursos </a:t>
            </a:r>
            <a:r>
              <a:rPr b="0" lang="es-ES_tradnl" sz="1100" spc="-1" strike="noStrike">
                <a:solidFill>
                  <a:srgbClr val="3333cc"/>
                </a:solidFill>
                <a:latin typeface="Arial"/>
              </a:rPr>
              <a:t>   e   </a:t>
            </a:r>
            <a:r>
              <a:rPr b="0" lang="es-ES_tradnl" sz="1000" spc="-1" strike="noStrike">
                <a:solidFill>
                  <a:srgbClr val="3333cc"/>
                </a:solidFill>
                <a:latin typeface="Arial"/>
              </a:rPr>
              <a:t>informa-ción  </a:t>
            </a:r>
            <a:r>
              <a:rPr b="0" lang="es-ES_tradnl" sz="1100" spc="-1" strike="noStrike">
                <a:solidFill>
                  <a:srgbClr val="3333cc"/>
                </a:solidFill>
                <a:latin typeface="Arial"/>
              </a:rPr>
              <a:t>inicial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2514600"/>
            <a:ext cx="9903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638680" y="2514600"/>
            <a:ext cx="990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629400" y="2209680"/>
            <a:ext cx="1143000" cy="2462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MODALID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638680" y="2133720"/>
            <a:ext cx="990720" cy="3985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cc"/>
                </a:solidFill>
                <a:latin typeface="Arial"/>
              </a:rPr>
              <a:t>CAMPO DE ESTUDI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705720" y="2666880"/>
            <a:ext cx="990360" cy="1475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*Ajus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*Simplifi-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*Innova-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*Camb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38680" y="2819520"/>
            <a:ext cx="1067040" cy="1197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*Estructu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*Procedi-ment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*Conduc-tu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657600" y="3809880"/>
            <a:ext cx="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V="1">
            <a:off x="3733920" y="1600200"/>
            <a:ext cx="0" cy="533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H="1">
            <a:off x="2514240" y="3581280"/>
            <a:ext cx="685800" cy="9144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438280" y="3048120"/>
            <a:ext cx="5335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514600" y="1905120"/>
            <a:ext cx="609480" cy="609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19720" y="30481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295280" y="1447920"/>
            <a:ext cx="0" cy="335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480060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143000" y="1447920"/>
            <a:ext cx="152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295280" y="182880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00200" y="4191120"/>
            <a:ext cx="990720" cy="761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00200" y="4191120"/>
            <a:ext cx="990720" cy="8172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Estructu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600200" y="2743200"/>
            <a:ext cx="914400" cy="7621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600200" y="2743200"/>
            <a:ext cx="914400" cy="8931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3333cc"/>
                </a:solidFill>
                <a:latin typeface="Arial"/>
              </a:rPr>
              <a:t>Procedi-mien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295280" y="30481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295280" y="4419720"/>
            <a:ext cx="228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304812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772400" y="3124080"/>
            <a:ext cx="76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900000" y="5877000"/>
            <a:ext cx="8001000" cy="671400"/>
            <a:chOff x="900000" y="5877000"/>
            <a:chExt cx="8001000" cy="671400"/>
          </a:xfrm>
        </p:grpSpPr>
        <p:sp>
          <p:nvSpPr>
            <p:cNvPr id="290" name=""/>
            <p:cNvSpPr/>
            <p:nvPr/>
          </p:nvSpPr>
          <p:spPr>
            <a:xfrm>
              <a:off x="900000" y="6368760"/>
              <a:ext cx="5791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281240" y="6548400"/>
              <a:ext cx="7619760" cy="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2" name=""/>
            <p:cNvGraphicFramePr/>
            <p:nvPr/>
          </p:nvGraphicFramePr>
          <p:xfrm>
            <a:off x="7454880" y="5877000"/>
            <a:ext cx="1006560" cy="568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454880" y="5877000"/>
                      <a:ext cx="1006560" cy="568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f4f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5dcf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609480" y="5805360"/>
            <a:ext cx="8001000" cy="671760"/>
            <a:chOff x="609480" y="5805360"/>
            <a:chExt cx="8001000" cy="671760"/>
          </a:xfrm>
        </p:grpSpPr>
        <p:sp>
          <p:nvSpPr>
            <p:cNvPr id="296" name=""/>
            <p:cNvSpPr/>
            <p:nvPr/>
          </p:nvSpPr>
          <p:spPr>
            <a:xfrm>
              <a:off x="609480" y="6297480"/>
              <a:ext cx="5791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90720" y="6477120"/>
              <a:ext cx="7619760" cy="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298" name=""/>
            <p:cNvGraphicFramePr/>
            <p:nvPr/>
          </p:nvGraphicFramePr>
          <p:xfrm>
            <a:off x="7164360" y="5805360"/>
            <a:ext cx="1006560" cy="56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299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64360" y="5805360"/>
                      <a:ext cx="1006560" cy="56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0" name=""/>
          <p:cNvSpPr/>
          <p:nvPr/>
        </p:nvSpPr>
        <p:spPr>
          <a:xfrm>
            <a:off x="468360" y="692280"/>
            <a:ext cx="777240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PERFIL PARA EL NUEVO ENFOQ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85800" y="1981080"/>
            <a:ext cx="698184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VOCACIÓN DE SERVICIO.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CONVICCIÓN DE QUE EL SERVICIO ES ESENCIAL PARA EL BIEN COMÚ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ONGRUENCIA.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 TENER UNA LÓGICA EN LA FORMA DE PENSAR, SENTIR Y ACTUA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MPATÍA.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POSICIÓN PARA COLOCARSE EN EL LUGAR DEL OTRO Y ENTENDER CLARAMENTE SUS NECESIDA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00"/>
              </a:spcBef>
              <a:buClr>
                <a:srgbClr val="000099"/>
              </a:buClr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PROACTIVIDAD.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  PROYECTAR LA CONSECUCIÓN DE UNA ACCIÓN INDEPENDIENTE DE QUE LA CIRCUNSTANCIA SEA POSITIVA O NEGATIV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xit" presetID="3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from="(#ppt_x)" to="(#ppt_x+1)">
                                      <p:cBhvr additive="repl">
                                        <p:cTn id="48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49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0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  <p:to>
                                        <p:strVal val="-1"/>
                                      </p:to>
                                    </p:se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ccff"/>
            </a:gs>
            <a:gs pos="100000">
              <a:srgbClr val="4f4f6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b5dcf9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1800" rIns="91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609480" y="5805360"/>
            <a:ext cx="8001000" cy="671760"/>
            <a:chOff x="609480" y="5805360"/>
            <a:chExt cx="8001000" cy="671760"/>
          </a:xfrm>
        </p:grpSpPr>
        <p:sp>
          <p:nvSpPr>
            <p:cNvPr id="304" name=""/>
            <p:cNvSpPr/>
            <p:nvPr/>
          </p:nvSpPr>
          <p:spPr>
            <a:xfrm>
              <a:off x="609480" y="6297480"/>
              <a:ext cx="5791320" cy="0"/>
            </a:xfrm>
            <a:prstGeom prst="line">
              <a:avLst/>
            </a:prstGeom>
            <a:ln w="2844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990720" y="6477120"/>
              <a:ext cx="7619760" cy="0"/>
            </a:xfrm>
            <a:prstGeom prst="line">
              <a:avLst/>
            </a:prstGeom>
            <a:ln w="76320">
              <a:solidFill>
                <a:srgbClr val="ddddd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306" name=""/>
            <p:cNvGraphicFramePr/>
            <p:nvPr/>
          </p:nvGraphicFramePr>
          <p:xfrm>
            <a:off x="7164360" y="5805360"/>
            <a:ext cx="1006560" cy="5684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7164360" y="5805360"/>
                      <a:ext cx="1006560" cy="568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308" name=""/>
          <p:cNvSpPr/>
          <p:nvPr/>
        </p:nvSpPr>
        <p:spPr>
          <a:xfrm>
            <a:off x="685800" y="457200"/>
            <a:ext cx="7772400" cy="66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 Black"/>
              </a:rPr>
              <a:t>LÍNEAS ESTRATÉGIC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IDENTIFICAR Y EVALUAR LAS ÁREAS DE OPORTUNIDAD DEL CONACYT Y PROMOVER EL ESTABLECIMIENTO O MEJORAMIENTO DE LOS PROCESOS Y SISTEMAS DE CONTRO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FOMENTAR ESQUEMAS DE AUTOCONTROL, AUTOEVALUACIÓN Y AUDITORÍA DE PROCES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APORTAR EN EL CONACYT INFORMACIÓN DIRECTIVA INTEGRAL Y OBJETIVA Y VALIDAR SU INFORMACIÓN INTERN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Font typeface="Monotype Sorts" charset="2"/>
              <a:buChar char="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DIFUNDIR Y ASESORAR SOBRE EL MARCO NORMATIVO (NORMATECA) Y PROMOVER SU MEJO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0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5dc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899640" y="-360"/>
            <a:ext cx="777564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800000"/>
                </a:solidFill>
                <a:latin typeface="Times New Roman"/>
              </a:rPr>
              <a:t>Metas principales del Programa Especial de Ciencia y Tecnología 2001-20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84360" y="741240"/>
            <a:ext cx="5040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cc00"/>
                </a:solidFill>
                <a:latin typeface="Arial Narrow"/>
              </a:rPr>
              <a:t>1. Inversión Federal en Ciencia y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684360" y="692280"/>
          <a:ext cx="7862760" cy="1942560"/>
        </p:xfrm>
        <a:graphic>
          <a:graphicData uri="http://schemas.openxmlformats.org/drawingml/2006/table">
            <a:tbl>
              <a:tblPr/>
              <a:tblGrid>
                <a:gridCol w="5361480"/>
                <a:gridCol w="1144080"/>
                <a:gridCol w="1357200"/>
              </a:tblGrid>
              <a:tr h="42984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99cc00"/>
                          </a:solidFill>
                          <a:latin typeface="Times New Roman"/>
                        </a:rPr>
                        <a:t>2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99cc00"/>
                          </a:solidFill>
                          <a:latin typeface="Times New Roman"/>
                        </a:rPr>
                        <a:t>200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75996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 Gasto Federal en Ciencia y Tecnología como % del PE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84</a:t>
                      </a:r>
                      <a:br>
                        <a:rPr sz="1800"/>
                      </a:b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$26,6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.00</a:t>
                      </a:r>
                      <a:br>
                        <a:rPr sz="1800"/>
                      </a:b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$64,8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52760">
                <a:tc>
                  <a:txBody>
                    <a:bodyPr lIns="54000" rIns="54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2 Gasto en Investigación y Desarrollo Experimental (IDE) como % del PI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45</a:t>
                      </a:r>
                      <a:br>
                        <a:rPr sz="1800"/>
                      </a:b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$17,4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00</a:t>
                      </a:r>
                      <a:br>
                        <a:rPr sz="1800"/>
                      </a:b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46,5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13" name=""/>
          <p:cNvGraphicFramePr/>
          <p:nvPr/>
        </p:nvGraphicFramePr>
        <p:xfrm>
          <a:off x="684360" y="3092400"/>
          <a:ext cx="7862760" cy="1824120"/>
        </p:xfrm>
        <a:graphic>
          <a:graphicData uri="http://schemas.openxmlformats.org/drawingml/2006/table">
            <a:tbl>
              <a:tblPr/>
              <a:tblGrid>
                <a:gridCol w="5360760"/>
                <a:gridCol w="1144800"/>
                <a:gridCol w="1357200"/>
              </a:tblGrid>
              <a:tr h="7524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1 Investigadores por cada 1,000 personas de PE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.75</a:t>
                      </a:r>
                      <a:br>
                        <a:rPr sz="1800"/>
                      </a:b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25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0</a:t>
                      </a:r>
                      <a:br>
                        <a:rPr sz="1800"/>
                      </a:b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80,000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020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2 % de investigadores en el Sector Privad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40%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54000" rIns="54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 Nuevas Becas para formación de investigador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,5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000" rIns="54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,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54000" marR="54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4" name=""/>
          <p:cNvSpPr/>
          <p:nvPr/>
        </p:nvSpPr>
        <p:spPr>
          <a:xfrm>
            <a:off x="684360" y="5013360"/>
            <a:ext cx="49672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 Narrow"/>
              </a:rPr>
              <a:t>3. Fondos de Investig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5" name=""/>
          <p:cNvGraphicFramePr/>
          <p:nvPr/>
        </p:nvGraphicFramePr>
        <p:xfrm>
          <a:off x="684360" y="5356080"/>
          <a:ext cx="7848360" cy="1285560"/>
        </p:xfrm>
        <a:graphic>
          <a:graphicData uri="http://schemas.openxmlformats.org/drawingml/2006/table">
            <a:tbl>
              <a:tblPr/>
              <a:tblGrid>
                <a:gridCol w="5374440"/>
                <a:gridCol w="1131480"/>
                <a:gridCol w="1342440"/>
              </a:tblGrid>
              <a:tr h="4287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1 Monto Tota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1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$25,0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2 Número de Fondos Sectorial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.3 Número de Fondos Mixt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16" name=""/>
          <p:cNvSpPr/>
          <p:nvPr/>
        </p:nvSpPr>
        <p:spPr>
          <a:xfrm>
            <a:off x="684360" y="2708280"/>
            <a:ext cx="5040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 Narrow"/>
              </a:rPr>
              <a:t>2. Recursos Humanos en Ciencia y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684360" y="765000"/>
            <a:ext cx="50400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990000"/>
                </a:solidFill>
                <a:latin typeface="Arial Narrow"/>
              </a:rPr>
              <a:t>1. Inversión Federal en Ciencia y Tecnologí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2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"/>
                            </p:stCondLst>
                            <p:childTnLst>
                              <p:par>
                                <p:cTn id="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6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1T16:28:16Z</dcterms:created>
  <dc:creator>conacyt</dc:creator>
  <dc:description/>
  <dc:language>en-US</dc:language>
  <cp:lastModifiedBy>Microsoft Windows XP Professional</cp:lastModifiedBy>
  <dcterms:modified xsi:type="dcterms:W3CDTF">2003-02-18T17:54:41Z</dcterms:modified>
  <cp:revision>22</cp:revision>
  <dc:subject/>
  <dc:title>Presentación de PowerPoint</dc:title>
</cp:coreProperties>
</file>