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1798-D24A-438B-8226-7BF9DD489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38907-F8FC-47BF-A1AA-CC1ED6AE5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6422-C737-49C0-9AB7-6D8F0625D5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1E77-4305-4035-BE56-B4B6E98CD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2640D-120D-42C6-999C-24D2EC2B7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909D5-5DCD-4C1C-93FC-2F22E84B1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0ED38-AEA8-436C-AE72-426E5CE00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5076D-8012-4C8F-B2FB-EE17F5E9B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242C0-81FC-4F12-B2C3-6CFB1D0FB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66E64-5E31-4BFE-A418-A343940B0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08014-8F50-4834-9AA8-2DAE51AA6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7EF48-0F05-4292-B36B-1D7B21E4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2B653-7191-4610-9702-3D3FFC07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3A7D9-F5E7-49D1-AE60-84526D00D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CC667-9D48-4454-9D6E-ECCE62EED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05581-AB12-42DA-BA91-4B4C471C40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05EF2-FEFA-4C5A-AB47-978867AB4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D574-D72C-49FE-ACFC-167BFC710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B3558-A2C8-48EC-9BAA-A138C4C36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9259-7E5E-481D-8851-04558ECA5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5B06A-2A43-4FF5-A706-1BE66363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85796-94DB-437A-B1A9-D0BA5E0D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58BD-09A6-46A4-91A6-D528F5B25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C7309-0C29-4F70-8B9B-1219026A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F8CA9F-9668-4D4C-BA4F-26D03802EF6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37EB-9248-4E9B-BD30-70F17FE5AF98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2057400" cy="182880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228600" y="3016080"/>
            <a:ext cx="8458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VISIÓN DE LA AUDITORÍA SUPERIOR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SOBRE LA FISCALIZACIÓN A 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00600" y="6095880"/>
            <a:ext cx="3429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C.P. EDUARDO GURZA CURI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860400"/>
            <a:ext cx="5105520" cy="135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ADYUVANTE PARA LOGRAR LAS MEJORES PRÁCTICAS EN LA GESTIÓN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PÚBLICA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04920" y="29718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2111400"/>
            <a:ext cx="2590560" cy="23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AUDITORÍ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SUPERI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DE L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FED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4038480"/>
            <a:ext cx="5029200" cy="218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5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  <a:ea typeface="Times New Roman"/>
              </a:rPr>
              <a:t>CONVERTIRSE EN UNA ENTIDAD PROMOTORA DE LA TRANSPARENCIA, LA EFICACIA Y MEJORA CONTíNUA EN LAS PRÁCTICAS ADMINISTRATIVAS4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2666880"/>
            <a:ext cx="3504960" cy="99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99">
              <a:alpha val="50000"/>
            </a:srgbClr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O B L I G A C I Ó 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04920" y="2971800"/>
            <a:ext cx="2819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295280" y="304920"/>
            <a:ext cx="670572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UDITORÍA SUPERIOR DE LA FEDER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523880" y="3581280"/>
            <a:ext cx="2514600" cy="1371600"/>
          </a:xfrm>
          <a:prstGeom prst="rect">
            <a:avLst/>
          </a:prstGeom>
          <a:solidFill>
            <a:srgbClr val="d9ecff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 RESPETO 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A AUTONOM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3581280"/>
            <a:ext cx="2514600" cy="1371600"/>
          </a:xfrm>
          <a:prstGeom prst="rect">
            <a:avLst/>
          </a:prstGeom>
          <a:solidFill>
            <a:srgbClr val="d9ecff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 BASE EN L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RM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 CADA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STIT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371600" y="1600200"/>
            <a:ext cx="6172200" cy="10666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a7ddff"/>
          </a:solidFill>
          <a:ln w="0">
            <a:noFill/>
          </a:ln>
          <a:effectLst>
            <a:outerShdw dist="153753" dir="27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ISC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76520" y="26668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Arial"/>
              </a:rPr>
              <a:t>OBJETIVO DE LA FISCALIZACIÓ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rot="10800000">
            <a:off x="2666880" y="609120"/>
            <a:ext cx="3810240" cy="1981440"/>
          </a:xfrm>
          <a:custGeom>
            <a:avLst/>
            <a:gdLst>
              <a:gd name="textAreaLeft" fmla="*/ 0 w 3810240"/>
              <a:gd name="textAreaRight" fmla="*/ 3810600 w 3810240"/>
              <a:gd name="textAreaTop" fmla="*/ 0 h 1981440"/>
              <a:gd name="textAreaBottom" fmla="*/ 1981800 h 1981440"/>
            </a:gdLst>
            <a:ahLst/>
            <a:rect l="textAreaLeft" t="textAreaTop" r="textAreaRight" b="textAreaBottom"/>
            <a:pathLst>
              <a:path w="21600" h="21600">
                <a:moveTo>
                  <a:pt x="10800" y="0"/>
                </a:moveTo>
                <a:lnTo>
                  <a:pt x="15100" y="4334"/>
                </a:lnTo>
                <a:lnTo>
                  <a:pt x="13000" y="4334"/>
                </a:lnTo>
                <a:lnTo>
                  <a:pt x="13000" y="8600"/>
                </a:lnTo>
                <a:lnTo>
                  <a:pt x="17266" y="8600"/>
                </a:lnTo>
                <a:lnTo>
                  <a:pt x="17266" y="6500"/>
                </a:lnTo>
                <a:lnTo>
                  <a:pt x="21600" y="10800"/>
                </a:lnTo>
                <a:lnTo>
                  <a:pt x="17266" y="15100"/>
                </a:lnTo>
                <a:lnTo>
                  <a:pt x="17266" y="13000"/>
                </a:lnTo>
                <a:lnTo>
                  <a:pt x="4334" y="13000"/>
                </a:lnTo>
                <a:lnTo>
                  <a:pt x="4334" y="15100"/>
                </a:lnTo>
                <a:lnTo>
                  <a:pt x="0" y="10800"/>
                </a:lnTo>
                <a:lnTo>
                  <a:pt x="4334" y="6500"/>
                </a:lnTo>
                <a:lnTo>
                  <a:pt x="4334" y="8600"/>
                </a:lnTo>
                <a:lnTo>
                  <a:pt x="8600" y="8600"/>
                </a:lnTo>
                <a:lnTo>
                  <a:pt x="8600" y="4334"/>
                </a:lnTo>
                <a:lnTo>
                  <a:pt x="6500" y="4334"/>
                </a:lnTo>
                <a:close/>
              </a:path>
            </a:pathLst>
          </a:custGeom>
          <a:solidFill>
            <a:srgbClr val="007ca8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33520" y="304920"/>
            <a:ext cx="2209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AUTONOMÍ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STITU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400800" y="304920"/>
            <a:ext cx="2209680" cy="16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NORMATIVIDA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DE C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INSTITU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33520" y="3200400"/>
            <a:ext cx="792468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Comprobar que los recursos federales destinados a las Instituciones Públicas de Educación Superior para gastos de operación o capital y para apoyo de programas específicos, se hayan ajustado a la normatividad establecida; que el ejercicio de recursos hubiese cumplido con la legislación que les es aplicable; y que se hayan destinado a los programas para los</a:t>
            </a: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 que fueron autorizados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990720" y="2806560"/>
            <a:ext cx="74674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formar veraz y oportunamente a la H. Cámara de Diputados y a la sociedad, sobre el resultado de la revisión del origen y aplicación de los recursos públicos, del cumplimiento de objetivos y metas; inducir el manejo eficaz, productivo y honesto de los mismos y promover la transparencia y la rendición de cuentas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600200" y="762120"/>
            <a:ext cx="5943600" cy="1295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bbedff">
              <a:alpha val="50000"/>
            </a:srgbClr>
          </a:solidFill>
          <a:ln w="0">
            <a:noFill/>
          </a:ln>
          <a:effectLst>
            <a:outerShdw dist="153753" dir="27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ff"/>
                </a:solidFill>
                <a:latin typeface="Arial"/>
              </a:rPr>
              <a:t>M I S I Ó N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85800" y="2743200"/>
            <a:ext cx="2819520" cy="1523880"/>
          </a:xfrm>
          <a:prstGeom prst="rect">
            <a:avLst/>
          </a:prstGeom>
          <a:solidFill>
            <a:srgbClr val="d9ecff"/>
          </a:solidFill>
          <a:ln w="0">
            <a:noFill/>
          </a:ln>
          <a:effectLst>
            <a:outerShdw dist="117181" dir="19161632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BJETIVOS EN LA VISIÓN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TRATÉGICA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DE LA A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57600" y="1295280"/>
            <a:ext cx="4724280" cy="68580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fectuar la revisión de la Cuenta Pública c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bjetividad e imparcialidad.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2819520"/>
            <a:ext cx="4267080" cy="129528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Fomentar  gestiones  públicas  responsables,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orientadas  a  la  obtención  de  resultados  y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a  la  satisfacción  de  la  necesidades  de 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Arial"/>
              </a:rPr>
              <a:t>Población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657600" y="4724280"/>
            <a:ext cx="4724280" cy="121932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poyar    en    la    solusión    de    problem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structurales   y    en   la    identificación   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oportunidades para mejorar el desempeñ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rot="19243800">
            <a:off x="1447560" y="1371600"/>
            <a:ext cx="2133360" cy="533520"/>
          </a:xfrm>
          <a:custGeom>
            <a:avLst/>
            <a:gdLst>
              <a:gd name="textAreaLeft" fmla="*/ 373320 w 2133360"/>
              <a:gd name="textAreaRight" fmla="*/ 1546920 w 21333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rot="2218800">
            <a:off x="1668600" y="4975200"/>
            <a:ext cx="2057400" cy="838080"/>
          </a:xfrm>
          <a:custGeom>
            <a:avLst/>
            <a:gdLst>
              <a:gd name="textAreaLeft" fmla="*/ 360000 w 2057400"/>
              <a:gd name="textAreaRight" fmla="*/ 1491840 w 2057400"/>
              <a:gd name="textAreaTop" fmla="*/ 112320 h 838080"/>
              <a:gd name="textAreaBottom" fmla="*/ 72576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9fb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657600" y="2971800"/>
            <a:ext cx="60948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66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04920" y="304920"/>
            <a:ext cx="3352680" cy="2057400"/>
          </a:xfrm>
          <a:prstGeom prst="ellipse">
            <a:avLst/>
          </a:prstGeom>
          <a:solidFill>
            <a:srgbClr val="c2f0e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VISIÓN Y LINEAS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CCIÓN DE LA AS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18054000">
            <a:off x="2081880" y="2184840"/>
            <a:ext cx="1365120" cy="3853080"/>
          </a:xfrm>
          <a:custGeom>
            <a:avLst/>
            <a:gdLst>
              <a:gd name="textAreaLeft" fmla="*/ 182880 w 1365120"/>
              <a:gd name="textAreaRight" fmla="*/ 1182240 w 1365120"/>
              <a:gd name="textAreaTop" fmla="*/ 674280 h 3853080"/>
              <a:gd name="textAreaBottom" fmla="*/ 2793600 h 38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267080" y="1965240"/>
            <a:ext cx="434340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Áreas Generadoras de Corrup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jores Prácticas Instituc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dicadores de Gest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ndición de Cuent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pervisión y Contro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iscalización de Alto Impact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87280" indent="-2872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portunidades de Mejor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438280" y="3049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ISIÓN Y LÍNEAS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971800"/>
            <a:ext cx="2362320" cy="1143000"/>
          </a:xfrm>
          <a:prstGeom prst="rect">
            <a:avLst/>
          </a:prstGeom>
          <a:solidFill>
            <a:srgbClr val="bbedff"/>
          </a:solidFill>
          <a:ln w="0">
            <a:noFill/>
          </a:ln>
          <a:effectLst>
            <a:outerShdw dist="107932" dir="135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ÁRE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ENERADORAS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 CORRUP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276720" y="1219320"/>
            <a:ext cx="5257800" cy="209484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valuación de los procesos de adjudicación de adquisiciones y contrat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ago de factur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cedimientos de autoriz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tras gest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200400" y="4114800"/>
            <a:ext cx="5257800" cy="193608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gramación de revisiones necesar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Verificación de acciones correctivas adopt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ñalar pautas para inducir cambios en las prácticas administr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48320" y="3429000"/>
            <a:ext cx="30477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rot="19828200">
            <a:off x="936360" y="1670040"/>
            <a:ext cx="2514600" cy="612720"/>
          </a:xfrm>
          <a:custGeom>
            <a:avLst/>
            <a:gdLst>
              <a:gd name="textAreaLeft" fmla="*/ 439920 w 2514600"/>
              <a:gd name="textAreaRight" fmla="*/ 1823040 w 25146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438280" y="3049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ISIÓN Y LÍNEAS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7200" y="2971800"/>
            <a:ext cx="2590920" cy="1143000"/>
          </a:xfrm>
          <a:prstGeom prst="rect">
            <a:avLst/>
          </a:prstGeom>
          <a:solidFill>
            <a:srgbClr val="bbedff"/>
          </a:solidFill>
          <a:ln w="0">
            <a:noFill/>
          </a:ln>
          <a:effectLst>
            <a:outerShdw dist="107932" dir="135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J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ÁCTIC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STITUCION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657600" y="1050840"/>
            <a:ext cx="4876920" cy="346068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07932" dir="18900000" blurRad="0" rotWithShape="0">
              <a:srgbClr val="005b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ás impulsora de la calidad de la gestión pública que correctora y sancionadora de irregular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ás proactiva que reactiva, con apego a la autonomía de las instituciones y con plena observancia de las disposiciones jurídicas que les son aplicab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nalizar si se cumple con honestidad, honradez, eficacia, economía y eficienc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572000" y="4419720"/>
            <a:ext cx="3048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 rot="19828200">
            <a:off x="914040" y="1584360"/>
            <a:ext cx="2863800" cy="612720"/>
          </a:xfrm>
          <a:custGeom>
            <a:avLst/>
            <a:gdLst>
              <a:gd name="textAreaLeft" fmla="*/ 501120 w 2863800"/>
              <a:gd name="textAreaRight" fmla="*/ 2076480 w 28638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657600" y="5105520"/>
            <a:ext cx="4724280" cy="70380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porcionar elementos para la mejora contínua del quehacer públic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438280" y="3049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ISIÓN Y LÍNEAS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57200" y="2971800"/>
            <a:ext cx="2514600" cy="1143000"/>
          </a:xfrm>
          <a:prstGeom prst="rect">
            <a:avLst/>
          </a:prstGeom>
          <a:solidFill>
            <a:srgbClr val="bbedff"/>
          </a:solidFill>
          <a:ln w="0">
            <a:noFill/>
          </a:ln>
          <a:effectLst>
            <a:outerShdw dist="107932" dir="135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DICADOR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ESTÍ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657600" y="1050840"/>
            <a:ext cx="4800600" cy="285084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07932" dir="8100000" blurRad="0" rotWithShape="0">
              <a:srgbClr val="005b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reación de indicadores de evaluación y parámetros de actuac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ulsar el establecimiento de indicadores de gest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portar la experiencia adquirida en la práctica de auditorías para que se apoye la implantación de indicadores de gest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572000" y="3809880"/>
            <a:ext cx="3048120" cy="6098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rot="19828200">
            <a:off x="914040" y="1584360"/>
            <a:ext cx="2863800" cy="612720"/>
          </a:xfrm>
          <a:custGeom>
            <a:avLst/>
            <a:gdLst>
              <a:gd name="textAreaLeft" fmla="*/ 501120 w 2863800"/>
              <a:gd name="textAreaRight" fmla="*/ 2076480 w 28638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657600" y="4495680"/>
            <a:ext cx="4876920" cy="238716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lificar el grado de cumplimiento de los programas y proyectos de las instituciones públicas, realizados con recursos fede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valuar la calidad y la eficiencia de las acciones ejecutadas y de las prácticas administrativ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458200" y="647712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3049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ISIÓN Y LÍNEAS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57200" y="2971800"/>
            <a:ext cx="2514600" cy="1143000"/>
          </a:xfrm>
          <a:prstGeom prst="rect">
            <a:avLst/>
          </a:prstGeom>
          <a:solidFill>
            <a:srgbClr val="bbedff"/>
          </a:solidFill>
          <a:ln w="0">
            <a:noFill/>
          </a:ln>
          <a:effectLst>
            <a:outerShdw dist="107932" dir="135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NDI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UENT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657600" y="1203480"/>
            <a:ext cx="4724280" cy="254592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07932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ndición de cuentas clara y transparente en todos los niveles, esferas y funciones de la administración públ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ulsar la cultura de la rendición de cuentas como tarea obligatori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572000" y="3733920"/>
            <a:ext cx="3048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 rot="19828200">
            <a:off x="914040" y="1584360"/>
            <a:ext cx="2863800" cy="612720"/>
          </a:xfrm>
          <a:custGeom>
            <a:avLst/>
            <a:gdLst>
              <a:gd name="textAreaLeft" fmla="*/ 501120 w 2863800"/>
              <a:gd name="textAreaRight" fmla="*/ 2076480 w 28638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657600" y="4495680"/>
            <a:ext cx="4800600" cy="116748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Vínculo que mantiene la legitimidad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canismo para el equilibrio entre los poder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33520" y="550800"/>
            <a:ext cx="8076960" cy="6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6a0000"/>
                </a:solidFill>
                <a:latin typeface="Arial"/>
                <a:ea typeface="Arial Unicode MS"/>
              </a:rPr>
              <a:t>	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Arial Unicode MS"/>
              </a:rPr>
              <a:t>FISCALIZACIÓN SUPERIOR DE LOS RECURSOS FEDERA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28720" y="1413000"/>
            <a:ext cx="7781760" cy="0"/>
          </a:xfrm>
          <a:prstGeom prst="line">
            <a:avLst/>
          </a:prstGeom>
          <a:ln w="3240">
            <a:solidFill>
              <a:srgbClr val="000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820800" y="345960"/>
            <a:ext cx="0" cy="1067040"/>
          </a:xfrm>
          <a:prstGeom prst="line">
            <a:avLst/>
          </a:prstGeom>
          <a:ln w="3240">
            <a:solidFill>
              <a:srgbClr val="000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28720" y="345960"/>
            <a:ext cx="7781760" cy="0"/>
          </a:xfrm>
          <a:prstGeom prst="line">
            <a:avLst/>
          </a:prstGeom>
          <a:ln w="3240">
            <a:solidFill>
              <a:srgbClr val="e9f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8610480" y="345960"/>
            <a:ext cx="0" cy="1067040"/>
          </a:xfrm>
          <a:prstGeom prst="line">
            <a:avLst/>
          </a:prstGeom>
          <a:ln w="3240">
            <a:solidFill>
              <a:srgbClr val="e9f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2117880"/>
            <a:ext cx="7848360" cy="383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El artículo 74, fracción IV de la Constitución Política de los Estados Unidos Mexicanos, establece como facultad exclusiva de la Cámara de Diputados,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revisar la Cuenta Pública del año anterior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La revisión de la Cuenta Pública tendrá por objeto conocer los resultados de la gestión financiera, para </a:t>
            </a:r>
            <a:r>
              <a:rPr b="0" lang="es-ES" sz="1800" spc="-1" strike="noStrike">
                <a:solidFill>
                  <a:srgbClr val="ffffff"/>
                </a:solidFill>
                <a:latin typeface="Arial"/>
              </a:rPr>
              <a:t>comprobar si se ha ajustado a los criterios señalados por el presupuesto y el cumplimiento de los objetivos contenidos en los programas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4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Para la revisión de la Cuenta Pública, la Cámara de Diputados se apoyará en la Entidad de Fiscalización Superior de la Federación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09560" y="6400800"/>
            <a:ext cx="8077320" cy="0"/>
          </a:xfrm>
          <a:prstGeom prst="line">
            <a:avLst/>
          </a:prstGeom>
          <a:ln w="9360">
            <a:solidFill>
              <a:srgbClr val="000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763120" y="1828800"/>
            <a:ext cx="0" cy="4572000"/>
          </a:xfrm>
          <a:prstGeom prst="line">
            <a:avLst/>
          </a:prstGeom>
          <a:ln w="9360">
            <a:solidFill>
              <a:srgbClr val="0000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1828800"/>
            <a:ext cx="0" cy="4572000"/>
          </a:xfrm>
          <a:prstGeom prst="line">
            <a:avLst/>
          </a:prstGeom>
          <a:ln w="9360">
            <a:solidFill>
              <a:srgbClr val="e9f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828800"/>
            <a:ext cx="8077320" cy="0"/>
          </a:xfrm>
          <a:prstGeom prst="line">
            <a:avLst/>
          </a:prstGeom>
          <a:ln w="9360">
            <a:solidFill>
              <a:srgbClr val="e9f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458200" y="640080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438280" y="3049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ISIÓN Y LÍNEAS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57200" y="2971800"/>
            <a:ext cx="2514600" cy="1143000"/>
          </a:xfrm>
          <a:prstGeom prst="rect">
            <a:avLst/>
          </a:prstGeom>
          <a:solidFill>
            <a:srgbClr val="bbedff"/>
          </a:solidFill>
          <a:ln w="0">
            <a:noFill/>
          </a:ln>
          <a:effectLst>
            <a:outerShdw dist="107932" dir="135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UPERVIS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3657600" y="1279440"/>
            <a:ext cx="4800600" cy="499788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07932" dir="81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forzamiento de los mecanismos de control y supervisión institucion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valuación del cumplimiento de funciones sustantivas para determinar posibles contingencias e irregularidad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visiones en las instancias responsables de supervisar la gestión operativ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onocer y ponderar los resultados de las auditorías practica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structurar esquemas de supervisión para asegurar que los registros contables y presupuestales consignen todas las operacion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rot="19828200">
            <a:off x="914040" y="1584360"/>
            <a:ext cx="2863800" cy="612720"/>
          </a:xfrm>
          <a:custGeom>
            <a:avLst/>
            <a:gdLst>
              <a:gd name="textAreaLeft" fmla="*/ 501120 w 2863800"/>
              <a:gd name="textAreaRight" fmla="*/ 2076480 w 28638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38280" y="3049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ISIÓN Y LÍNEAS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57200" y="2971800"/>
            <a:ext cx="2514600" cy="1143000"/>
          </a:xfrm>
          <a:prstGeom prst="rect">
            <a:avLst/>
          </a:prstGeom>
          <a:solidFill>
            <a:srgbClr val="bbedff"/>
          </a:solidFill>
          <a:ln w="0">
            <a:noFill/>
          </a:ln>
          <a:effectLst>
            <a:outerShdw dist="107932" dir="135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ISCALIZACIÓN 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TO IMPACT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657600" y="838080"/>
            <a:ext cx="4724280" cy="315576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07932" dir="18900000" blurRad="0" rotWithShape="0">
              <a:srgbClr val="005bb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aximizar los resultados de las auditorías realizadas y el alcance de las acciones sugerid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ortalecer los mecanismos de supervisión y control para la aplicación de los recur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Garantizar que los recursos se ejerzan en los términos de las disposiciones presupestarias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572000" y="4114800"/>
            <a:ext cx="30481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rot="19828200">
            <a:off x="914040" y="1584360"/>
            <a:ext cx="2863800" cy="612720"/>
          </a:xfrm>
          <a:custGeom>
            <a:avLst/>
            <a:gdLst>
              <a:gd name="textAreaLeft" fmla="*/ 501120 w 2863800"/>
              <a:gd name="textAreaRight" fmla="*/ 2076480 w 28638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657600" y="4861080"/>
            <a:ext cx="4724280" cy="70380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vitar la recurrencia en su desvío hacia fines distintos a los autoriza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304920"/>
            <a:ext cx="42674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VISIÓN Y LÍNEAS DE ACCIÓ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57200" y="2971800"/>
            <a:ext cx="2514600" cy="1143000"/>
          </a:xfrm>
          <a:prstGeom prst="rect">
            <a:avLst/>
          </a:prstGeom>
          <a:solidFill>
            <a:srgbClr val="bbedff"/>
          </a:solidFill>
          <a:ln w="0">
            <a:noFill/>
          </a:ln>
          <a:effectLst>
            <a:outerShdw dist="107932" dir="13500000" blurRad="0" rotWithShape="0">
              <a:srgbClr val="0070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PORTUN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MEJOR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657600" y="1432080"/>
            <a:ext cx="4724280" cy="4083120"/>
          </a:xfrm>
          <a:prstGeom prst="rect">
            <a:avLst/>
          </a:prstGeom>
          <a:solidFill>
            <a:srgbClr val="e0f8f7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omover la mejora constant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lentar la productividad, economía y transpartencia en el uso de los recursos federal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Optimizar el aprovechamiento de capacidades y recur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conocer las fortalezas institucionales e identificar aspectos vulnerables para potenciar los primeros y abatir los segund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 rot="19828200">
            <a:off x="914040" y="1584360"/>
            <a:ext cx="2863800" cy="612720"/>
          </a:xfrm>
          <a:custGeom>
            <a:avLst/>
            <a:gdLst>
              <a:gd name="textAreaLeft" fmla="*/ 501120 w 2863800"/>
              <a:gd name="textAreaRight" fmla="*/ 2076480 w 2863800"/>
              <a:gd name="textAreaTop" fmla="*/ 82080 h 612720"/>
              <a:gd name="textAreaBottom" fmla="*/ 530640 h 612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99cc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1111320"/>
            <a:ext cx="2897280" cy="1425600"/>
          </a:xfrm>
          <a:prstGeom prst="ellipse">
            <a:avLst/>
          </a:prstGeom>
          <a:solidFill>
            <a:srgbClr val="d9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PROCESOS D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ADJUDICACIÓN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0" y="3984480"/>
            <a:ext cx="2897280" cy="1425600"/>
          </a:xfrm>
          <a:prstGeom prst="ellipse">
            <a:avLst/>
          </a:prstGeom>
          <a:solidFill>
            <a:srgbClr val="d9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CONTROL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INTERN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019920" y="3984480"/>
            <a:ext cx="3058920" cy="1425600"/>
          </a:xfrm>
          <a:prstGeom prst="ellipse">
            <a:avLst/>
          </a:prstGeom>
          <a:solidFill>
            <a:srgbClr val="d9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CONTRATOS Y 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PEDIDOS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609480" y="1187280"/>
            <a:ext cx="2895840" cy="1425600"/>
          </a:xfrm>
          <a:prstGeom prst="ellipse">
            <a:avLst/>
          </a:prstGeom>
          <a:solidFill>
            <a:srgbClr val="d9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REGISTRO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CONTABLE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2971800" y="2765520"/>
            <a:ext cx="3200400" cy="160020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9390"/>
              </a:gs>
              <a:gs pos="50000">
                <a:srgbClr val="f4f9f9"/>
              </a:gs>
              <a:gs pos="100000">
                <a:srgbClr val="00939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CONTEXTO DE LAS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RREGULARIDAD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ESENTAD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048120" y="5051520"/>
            <a:ext cx="2896920" cy="1425600"/>
          </a:xfrm>
          <a:prstGeom prst="ellipse">
            <a:avLst/>
          </a:prstGeom>
          <a:solidFill>
            <a:srgbClr val="d9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OBR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ffffff"/>
                </a:solidFill>
                <a:latin typeface="Arial"/>
              </a:rPr>
              <a:t>PÚBLICA</a:t>
            </a:r>
            <a:endParaRPr b="0" lang="en-US" sz="1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371600" y="152280"/>
            <a:ext cx="62485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SULTADOS DE LA FISCALIZACIÓN EN LAS INSTITUCIONES PÚBLICAS DE EDUCACIÓN SUPERI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962520" y="1143000"/>
            <a:ext cx="990360" cy="1447920"/>
          </a:xfrm>
          <a:prstGeom prst="downArrow">
            <a:avLst>
              <a:gd name="adj1" fmla="val 50000"/>
              <a:gd name="adj2" fmla="val 36550"/>
            </a:avLst>
          </a:prstGeom>
          <a:solidFill>
            <a:srgbClr val="005bb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752480" y="22860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PROBLEMÁTICA OBSERVADA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28600" y="1066680"/>
            <a:ext cx="3505320" cy="60984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N LA APLICACIÓN DE L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NORMATIVIDA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28600" y="2590920"/>
            <a:ext cx="3505320" cy="60948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IDENTIFICACIÓN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RECURSOS FED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228600" y="3962520"/>
            <a:ext cx="3505320" cy="60948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FALTA DE MANUALES DE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PROCEDIMI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990720" y="5334120"/>
            <a:ext cx="2438280" cy="53316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INADECUADA COMUNICACIÓ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Arial"/>
              </a:rPr>
              <a:t>CON LAS ÁREAS NORMATIV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495680" y="6858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90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No es unifor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95680" y="114300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90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fusión in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495680" y="1554120"/>
            <a:ext cx="3886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90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esactualización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495680" y="2286000"/>
            <a:ext cx="3886200" cy="4291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18d9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SzPct val="10290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gistro Glob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495680" y="3144960"/>
            <a:ext cx="388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buSzPct val="10290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ide   su   adecua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fiscalización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95680" y="4019400"/>
            <a:ext cx="388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buSzPct val="10290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mpide    actividad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istemáticas y uniform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419720" y="5029200"/>
            <a:ext cx="41148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250"/>
              </a:spcBef>
              <a:buSzPct val="10290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Reportes desactualizado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4495680" y="5638680"/>
            <a:ext cx="3886200" cy="63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49"/>
              </a:spcBef>
              <a:buSzPct val="10290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Diferencias en las cifra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presupuestarias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572000" y="106668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8381880" y="685800"/>
            <a:ext cx="0" cy="380880"/>
          </a:xfrm>
          <a:prstGeom prst="line">
            <a:avLst/>
          </a:prstGeom>
          <a:ln w="0">
            <a:solidFill>
              <a:srgbClr val="d5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572000" y="152388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8381880" y="1143000"/>
            <a:ext cx="0" cy="380880"/>
          </a:xfrm>
          <a:prstGeom prst="line">
            <a:avLst/>
          </a:prstGeom>
          <a:ln w="0">
            <a:solidFill>
              <a:srgbClr val="d5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572000" y="198108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381880" y="1600200"/>
            <a:ext cx="0" cy="380880"/>
          </a:xfrm>
          <a:prstGeom prst="line">
            <a:avLst/>
          </a:prstGeom>
          <a:ln w="0">
            <a:solidFill>
              <a:srgbClr val="d5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266688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8381880" y="2286000"/>
            <a:ext cx="0" cy="380880"/>
          </a:xfrm>
          <a:prstGeom prst="line">
            <a:avLst/>
          </a:prstGeom>
          <a:ln w="0">
            <a:solidFill>
              <a:srgbClr val="d5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572000" y="373068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8381880" y="3121200"/>
            <a:ext cx="0" cy="609480"/>
          </a:xfrm>
          <a:prstGeom prst="line">
            <a:avLst/>
          </a:prstGeom>
          <a:ln w="0">
            <a:solidFill>
              <a:srgbClr val="d5fffe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0" y="4648320"/>
            <a:ext cx="3809880" cy="0"/>
          </a:xfrm>
          <a:prstGeom prst="line">
            <a:avLst/>
          </a:prstGeom>
          <a:ln w="3240">
            <a:solidFill>
              <a:srgbClr val="919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8381880" y="3962520"/>
            <a:ext cx="0" cy="685800"/>
          </a:xfrm>
          <a:prstGeom prst="line">
            <a:avLst/>
          </a:prstGeom>
          <a:ln w="0">
            <a:solidFill>
              <a:srgbClr val="0099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4572000" y="5486400"/>
            <a:ext cx="3809880" cy="0"/>
          </a:xfrm>
          <a:prstGeom prst="line">
            <a:avLst/>
          </a:prstGeom>
          <a:ln w="3240">
            <a:solidFill>
              <a:srgbClr val="919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8381880" y="5105520"/>
            <a:ext cx="0" cy="380880"/>
          </a:xfrm>
          <a:prstGeom prst="line">
            <a:avLst/>
          </a:prstGeom>
          <a:ln w="0">
            <a:solidFill>
              <a:srgbClr val="9191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4572000" y="6248520"/>
            <a:ext cx="3809880" cy="0"/>
          </a:xfrm>
          <a:prstGeom prst="line">
            <a:avLst/>
          </a:prstGeom>
          <a:ln w="3240">
            <a:solidFill>
              <a:srgbClr val="919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8381880" y="5638680"/>
            <a:ext cx="0" cy="609840"/>
          </a:xfrm>
          <a:prstGeom prst="line">
            <a:avLst/>
          </a:prstGeom>
          <a:ln w="0">
            <a:solidFill>
              <a:srgbClr val="9191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 flipV="1">
            <a:off x="3733920" y="914400"/>
            <a:ext cx="609480" cy="380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449568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4419720" y="91440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4343400" y="914400"/>
            <a:ext cx="3747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362320" y="609480"/>
            <a:ext cx="441936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3733920" y="2514600"/>
            <a:ext cx="609480" cy="38088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2514600"/>
            <a:ext cx="3747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733920" y="1371600"/>
            <a:ext cx="9144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3733920" y="4191120"/>
            <a:ext cx="9144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308480" y="1770120"/>
            <a:ext cx="3747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770280" y="1496520"/>
            <a:ext cx="530280" cy="2646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4308480" y="3290760"/>
            <a:ext cx="3747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750480" y="2956680"/>
            <a:ext cx="563400" cy="3348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4332240" y="5257800"/>
            <a:ext cx="37476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V="1">
            <a:off x="3657600" y="5257440"/>
            <a:ext cx="685800" cy="3049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349880" y="5791320"/>
            <a:ext cx="374400" cy="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3657600" y="5580000"/>
            <a:ext cx="762120" cy="22860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4572000" y="396252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4572000" y="508176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4572000" y="5105520"/>
            <a:ext cx="0" cy="380880"/>
          </a:xfrm>
          <a:prstGeom prst="line">
            <a:avLst/>
          </a:prstGeom>
          <a:ln w="0">
            <a:solidFill>
              <a:srgbClr val="efe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4572000" y="5638680"/>
            <a:ext cx="3809880" cy="0"/>
          </a:xfrm>
          <a:prstGeom prst="line">
            <a:avLst/>
          </a:prstGeom>
          <a:ln w="3240">
            <a:solidFill>
              <a:srgbClr val="d5fff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2000" y="5638680"/>
            <a:ext cx="0" cy="609840"/>
          </a:xfrm>
          <a:prstGeom prst="line">
            <a:avLst/>
          </a:prstGeom>
          <a:ln w="0">
            <a:solidFill>
              <a:srgbClr val="efe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572000" y="3962520"/>
            <a:ext cx="0" cy="685800"/>
          </a:xfrm>
          <a:prstGeom prst="line">
            <a:avLst/>
          </a:prstGeom>
          <a:ln w="0">
            <a:solidFill>
              <a:srgbClr val="efe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4572000" y="685800"/>
            <a:ext cx="3809880" cy="0"/>
          </a:xfrm>
          <a:prstGeom prst="line">
            <a:avLst/>
          </a:prstGeom>
          <a:ln w="3240">
            <a:solidFill>
              <a:srgbClr val="0089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4572000" y="685800"/>
            <a:ext cx="0" cy="380880"/>
          </a:xfrm>
          <a:prstGeom prst="line">
            <a:avLst/>
          </a:prstGeom>
          <a:ln w="0">
            <a:solidFill>
              <a:srgbClr val="0089b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4572000" y="3121200"/>
            <a:ext cx="38098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4572000" y="1143000"/>
            <a:ext cx="3809880" cy="0"/>
          </a:xfrm>
          <a:prstGeom prst="line">
            <a:avLst/>
          </a:prstGeom>
          <a:ln w="3240">
            <a:solidFill>
              <a:srgbClr val="0089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4572000" y="1143000"/>
            <a:ext cx="0" cy="380880"/>
          </a:xfrm>
          <a:prstGeom prst="line">
            <a:avLst/>
          </a:prstGeom>
          <a:ln w="0">
            <a:solidFill>
              <a:srgbClr val="0089b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4572000" y="1600200"/>
            <a:ext cx="3809880" cy="0"/>
          </a:xfrm>
          <a:prstGeom prst="line">
            <a:avLst/>
          </a:prstGeom>
          <a:ln w="3240">
            <a:solidFill>
              <a:srgbClr val="0089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572000" y="1600200"/>
            <a:ext cx="0" cy="380880"/>
          </a:xfrm>
          <a:prstGeom prst="line">
            <a:avLst/>
          </a:prstGeom>
          <a:ln w="0">
            <a:solidFill>
              <a:srgbClr val="0089ba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4572000" y="2286000"/>
            <a:ext cx="3809880" cy="0"/>
          </a:xfrm>
          <a:prstGeom prst="line">
            <a:avLst/>
          </a:prstGeom>
          <a:ln w="3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572000" y="2286000"/>
            <a:ext cx="0" cy="380880"/>
          </a:xfrm>
          <a:prstGeom prst="line">
            <a:avLst/>
          </a:prstGeom>
          <a:ln w="0">
            <a:solidFill>
              <a:srgbClr val="0099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4572000" y="3121200"/>
            <a:ext cx="0" cy="609480"/>
          </a:xfrm>
          <a:prstGeom prst="line">
            <a:avLst/>
          </a:prstGeom>
          <a:ln w="0">
            <a:solidFill>
              <a:srgbClr val="0099cc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380880"/>
            <a:ext cx="6324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TAREA DE LAS INSTITUCIONES PÚBLICAS DE EDUCACIÓN SUPERI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380880" y="1676520"/>
            <a:ext cx="2743200" cy="1066680"/>
          </a:xfrm>
          <a:prstGeom prst="rect">
            <a:avLst/>
          </a:prstGeom>
          <a:gradFill rotWithShape="0">
            <a:gsLst>
              <a:gs pos="0">
                <a:srgbClr val="92c8db"/>
              </a:gs>
              <a:gs pos="50000">
                <a:srgbClr val="abe9ff"/>
              </a:gs>
              <a:gs pos="100000">
                <a:srgbClr val="92c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ACTUALIZACIÓ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DE L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BASES NORMATIVA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724280" y="1523880"/>
            <a:ext cx="4038840" cy="609840"/>
          </a:xfrm>
          <a:prstGeom prst="rect">
            <a:avLst/>
          </a:prstGeom>
          <a:gradFill rotWithShape="0">
            <a:gsLst>
              <a:gs pos="0">
                <a:srgbClr val="92c8db"/>
              </a:gs>
              <a:gs pos="50000">
                <a:srgbClr val="abe9ff"/>
              </a:gs>
              <a:gs pos="100000">
                <a:srgbClr val="92c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NUEVOS ORDENAMIENT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4724280" y="2362320"/>
            <a:ext cx="4038840" cy="609480"/>
          </a:xfrm>
          <a:prstGeom prst="rect">
            <a:avLst/>
          </a:prstGeom>
          <a:gradFill rotWithShape="0">
            <a:gsLst>
              <a:gs pos="0">
                <a:srgbClr val="92c8db"/>
              </a:gs>
              <a:gs pos="50000">
                <a:srgbClr val="abe9ff"/>
              </a:gs>
              <a:gs pos="100000">
                <a:srgbClr val="92c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MODIFICACIÓN DE L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EXISTENT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3200400" y="1600200"/>
            <a:ext cx="129528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80880" y="3276720"/>
            <a:ext cx="2743200" cy="1066680"/>
          </a:xfrm>
          <a:prstGeom prst="rect">
            <a:avLst/>
          </a:prstGeom>
          <a:gradFill rotWithShape="0">
            <a:gsLst>
              <a:gs pos="0">
                <a:srgbClr val="92c8db"/>
              </a:gs>
              <a:gs pos="50000">
                <a:srgbClr val="abe9ff"/>
              </a:gs>
              <a:gs pos="100000">
                <a:srgbClr val="92c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00"/>
                </a:solidFill>
                <a:latin typeface="Arial"/>
              </a:rPr>
              <a:t>DIFUNDIR Y VIGILAR EL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00"/>
                </a:solidFill>
                <a:latin typeface="Arial"/>
              </a:rPr>
              <a:t>CUMPLIMIENTO DE LA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00"/>
                </a:solidFill>
                <a:latin typeface="Arial"/>
              </a:rPr>
              <a:t>NORMATIVIDAD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200400" y="3200400"/>
            <a:ext cx="129528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4724280" y="3505320"/>
            <a:ext cx="4038840" cy="761760"/>
          </a:xfrm>
          <a:prstGeom prst="rect">
            <a:avLst/>
          </a:prstGeom>
          <a:gradFill rotWithShape="0">
            <a:gsLst>
              <a:gs pos="0">
                <a:srgbClr val="92c8db"/>
              </a:gs>
              <a:gs pos="50000">
                <a:srgbClr val="abe9ff"/>
              </a:gs>
              <a:gs pos="100000">
                <a:srgbClr val="92c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EN LAS ÁREAS RESPONSAB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DEL EJERCICIO DEL GAST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80880" y="4724280"/>
            <a:ext cx="2743200" cy="1219320"/>
          </a:xfrm>
          <a:prstGeom prst="rect">
            <a:avLst/>
          </a:prstGeom>
          <a:gradFill rotWithShape="0">
            <a:gsLst>
              <a:gs pos="0">
                <a:srgbClr val="92c8db"/>
              </a:gs>
              <a:gs pos="50000">
                <a:srgbClr val="abe9ff"/>
              </a:gs>
              <a:gs pos="100000">
                <a:srgbClr val="92c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00"/>
                </a:solidFill>
                <a:latin typeface="Arial"/>
              </a:rPr>
              <a:t>ADECUAR SUS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00"/>
                </a:solidFill>
                <a:latin typeface="Arial"/>
              </a:rPr>
              <a:t>REGISTROS Y SISTEMA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00"/>
                </a:solidFill>
                <a:latin typeface="Arial"/>
              </a:rPr>
              <a:t>CONTABLES 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03300"/>
                </a:solidFill>
                <a:latin typeface="Arial"/>
              </a:rPr>
              <a:t>PRESUPUESTARIO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200400" y="4648320"/>
            <a:ext cx="129528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0099cc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4800600" y="4876920"/>
            <a:ext cx="4038480" cy="838080"/>
          </a:xfrm>
          <a:prstGeom prst="rect">
            <a:avLst/>
          </a:prstGeom>
          <a:gradFill rotWithShape="0">
            <a:gsLst>
              <a:gs pos="0">
                <a:srgbClr val="92c8db"/>
              </a:gs>
              <a:gs pos="50000">
                <a:srgbClr val="abe9ff"/>
              </a:gs>
              <a:gs pos="100000">
                <a:srgbClr val="92c8d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QUE PERMITAN IDENTIFICAR 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CONTROLAR LOS RECURSO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3300"/>
                </a:solidFill>
                <a:latin typeface="Arial"/>
              </a:rPr>
              <a:t>FEDERALE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286000" y="493560"/>
            <a:ext cx="373392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66720" indent="-666720"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6a0000"/>
                </a:solidFill>
                <a:latin typeface="Arial"/>
                <a:ea typeface="Arial Unicode MS"/>
              </a:rPr>
              <a:t>	</a:t>
            </a:r>
            <a:r>
              <a:rPr b="1" lang="es-MX" sz="2400" spc="-1" strike="noStrike">
                <a:solidFill>
                  <a:srgbClr val="ffffff"/>
                </a:solidFill>
                <a:latin typeface="Arial"/>
                <a:ea typeface="Arial Unicode MS"/>
              </a:rPr>
              <a:t>CUENTA PÚBLIC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362320" y="990720"/>
            <a:ext cx="4190760" cy="0"/>
          </a:xfrm>
          <a:prstGeom prst="line">
            <a:avLst/>
          </a:prstGeom>
          <a:ln w="3240">
            <a:solidFill>
              <a:srgbClr val="e9f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553080" y="263520"/>
            <a:ext cx="0" cy="727200"/>
          </a:xfrm>
          <a:prstGeom prst="line">
            <a:avLst/>
          </a:prstGeom>
          <a:ln w="3240">
            <a:solidFill>
              <a:srgbClr val="e9f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703440" y="2363760"/>
            <a:ext cx="8083440" cy="3960720"/>
            <a:chOff x="703440" y="2363760"/>
            <a:chExt cx="8083440" cy="3960720"/>
          </a:xfrm>
        </p:grpSpPr>
        <p:sp>
          <p:nvSpPr>
            <p:cNvPr id="169" name=""/>
            <p:cNvSpPr/>
            <p:nvPr/>
          </p:nvSpPr>
          <p:spPr>
            <a:xfrm>
              <a:off x="762120" y="2363760"/>
              <a:ext cx="7848360" cy="393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000" spc="-1" strike="noStrike">
                  <a:solidFill>
                    <a:srgbClr val="ffffff"/>
                  </a:solidFill>
                  <a:latin typeface="Arial"/>
                  <a:ea typeface="Times New Roman"/>
                </a:rPr>
                <a:t>El informe que los Poderes de la Unión y los entes públicos federales rinden de manera consolidada a través del Ejecutivo Federal, a la Cámara sobre su gestión financiera, a efecto de comprobar que la recaudación, administración, manejo, custodia y aplicación de los ingresos y egresos federales durante un ejercicio fiscal comprendido del 1o. de enero al 31 de diciembre de cada año, se ejercieron en los términos de las disposiciones legales y administrativas aplicables, conforme a los criterios y con base en los programas aprobados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09560" y="6298920"/>
              <a:ext cx="8077320" cy="0"/>
            </a:xfrm>
            <a:prstGeom prst="line">
              <a:avLst/>
            </a:prstGeom>
            <a:ln w="9360">
              <a:solidFill>
                <a:srgbClr val="0000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03440" y="2506680"/>
              <a:ext cx="0" cy="3817800"/>
            </a:xfrm>
            <a:prstGeom prst="line">
              <a:avLst/>
            </a:prstGeom>
            <a:ln w="9360">
              <a:solidFill>
                <a:srgbClr val="0000d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72" name=""/>
          <p:cNvSpPr/>
          <p:nvPr/>
        </p:nvSpPr>
        <p:spPr>
          <a:xfrm>
            <a:off x="2438280" y="1219320"/>
            <a:ext cx="3962520" cy="8380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Artículo 2o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Fracción VIII de la LFSF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7200" y="615960"/>
            <a:ext cx="8229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ACTERÍSTICA  DE LAS NUEVAS ATRIBUCIONES DE LA ENTIDAD DE FISCALIZACIÓN SUPERIOR DE LA FEDERACIÓN QUE PREVÉ EL ARTÍCULO 79 CONSTITUCIONA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38080" y="2220840"/>
            <a:ext cx="7543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utonomía técnica y de gestión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Libre de presión político–institucion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dependencia en el manejo de recursos humanos, materiales y financier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l Informe de Resultados de la Cuenta Pública se entregará el 31 de marzo de cada añ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Carácter público de los Informe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85800" y="1660680"/>
            <a:ext cx="777240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 algn="just">
              <a:lnSpc>
                <a:spcPct val="100000"/>
              </a:lnSpc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Informes excepcionales por denuncia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Auditorías de desempeño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faculta a la Entidad de Fiscalización Superior de la Federación a fincar responsabilidades a los servidores públicos por daños patrimoniales a la Hacienda Pública Federal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476280" indent="-476280" algn="just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Se amplían las atribuciones para auditar a los organismos públicos constitucionalmente autónom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57200" y="615960"/>
            <a:ext cx="82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CARACTERÍSTICA  DE LAS NUEVAS ATRIBUCIONES ..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533520" y="2479680"/>
            <a:ext cx="8076960" cy="24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ts val="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Los subsidios que el Gobierno Federal destina a la educación superior, se otorgan por disposición del Presupuesto de Egresos de la Federación a través de la Secretaría de Educación Pública, mediante los convenio que celebre con las Instituciones Públicas de Educación Superior, quienes deberán informar a la Secretaría sobre el ejercicio de dichos recursos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343400" y="304920"/>
            <a:ext cx="3733920" cy="1981080"/>
          </a:xfrm>
          <a:prstGeom prst="ellipse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181480" y="990720"/>
            <a:ext cx="2590920" cy="533160"/>
          </a:xfrm>
          <a:prstGeom prst="rect">
            <a:avLst/>
          </a:prstGeom>
          <a:solidFill>
            <a:srgbClr val="d9e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UBSIDIOS A LAS IP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rot="3342000">
            <a:off x="2493360" y="249840"/>
            <a:ext cx="563400" cy="2959200"/>
          </a:xfrm>
          <a:custGeom>
            <a:avLst/>
            <a:gdLst>
              <a:gd name="textAreaLeft" fmla="*/ 75240 w 563400"/>
              <a:gd name="textAreaRight" fmla="*/ 488160 w 563400"/>
              <a:gd name="textAreaTop" fmla="*/ 517680 h 2959200"/>
              <a:gd name="textAreaBottom" fmla="*/ 2145600 h 2959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d9ecff">
              <a:alpha val="50000"/>
            </a:srgbClr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581280" y="5181480"/>
            <a:ext cx="5029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El Estado vigilará </a:t>
            </a:r>
            <a:r>
              <a:rPr b="0" lang="es-MX" sz="1800" spc="-1" strike="noStrike">
                <a:solidFill>
                  <a:srgbClr val="ffffff"/>
                </a:solidFill>
                <a:latin typeface="Tahoma"/>
                <a:ea typeface="Times New Roman"/>
              </a:rPr>
              <a:t>su aplicación y evaluará los resultados de ésta” (Último párrafo del Art. 28 constitucional)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23800" y="1600200"/>
            <a:ext cx="7790040" cy="167940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bbf1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  <a:ea typeface="Times New Roman"/>
              </a:rPr>
              <a:t>Al recibir recursos federales (subsidios) de los fondos públicos, a través de la Secretaría de Educación Pública, las Instituciones Públicas de Educación Superior quedan comprendidas en la Cuenta Públ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133720" y="609480"/>
            <a:ext cx="4724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RENDICIÓN DE CUENT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752480" y="4305240"/>
            <a:ext cx="5334120" cy="1557000"/>
          </a:xfrm>
          <a:prstGeom prst="rect">
            <a:avLst/>
          </a:prstGeom>
          <a:solidFill>
            <a:srgbClr val="a7ddff">
              <a:alpha val="50000"/>
            </a:srgbClr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Arial"/>
              </a:rPr>
              <a:t>En los resultados de la gestión financiera que, de manera consolidada, la Secretaría informa en los apartados correspondientes de la Cuenta Pública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590920" y="3505320"/>
            <a:ext cx="373356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99cc">
              <a:alpha val="50000"/>
            </a:srgbClr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33520" y="838080"/>
            <a:ext cx="8153280" cy="764280"/>
          </a:xfrm>
          <a:prstGeom prst="rect">
            <a:avLst/>
          </a:prstGeom>
          <a:solidFill>
            <a:srgbClr val="ebf9f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Arial"/>
              </a:rPr>
              <a:t>PARA ENFRENTAR EL RETO QUE REPRESENTA EL QUEHACER PÚBLICO. 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5800" y="3581280"/>
            <a:ext cx="3048120" cy="1828800"/>
          </a:xfrm>
          <a:prstGeom prst="rect">
            <a:avLst/>
          </a:prstGeom>
          <a:solidFill>
            <a:srgbClr val="d9ecff"/>
          </a:solidFill>
          <a:ln w="0">
            <a:noFill/>
          </a:ln>
          <a:effectLst>
            <a:outerShdw dist="107932" dir="135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Instituciones sólid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apaces de genera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nfianza en l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omunida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5105520" y="3581280"/>
            <a:ext cx="3047760" cy="1828800"/>
          </a:xfrm>
          <a:prstGeom prst="rect">
            <a:avLst/>
          </a:prstGeom>
          <a:solidFill>
            <a:srgbClr val="d9ecff"/>
          </a:solidFill>
          <a:ln w="0">
            <a:noFill/>
          </a:ln>
          <a:effectLst>
            <a:outerShdw dist="107932" dir="189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Claridad y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nsparencia en l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práctica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administrativa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 rot="1788600">
            <a:off x="3803400" y="2363760"/>
            <a:ext cx="609480" cy="1905120"/>
          </a:xfrm>
          <a:custGeom>
            <a:avLst/>
            <a:gdLst>
              <a:gd name="textAreaLeft" fmla="*/ 81360 w 609480"/>
              <a:gd name="textAreaRight" fmla="*/ 528120 w 609480"/>
              <a:gd name="textAreaTop" fmla="*/ 333360 h 1905120"/>
              <a:gd name="textAreaBottom" fmla="*/ 13813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a4bcec"/>
          </a:solidFill>
          <a:ln w="0">
            <a:noFill/>
          </a:ln>
          <a:effectLst>
            <a:outerShdw dist="107932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rot="20217600">
            <a:off x="4708080" y="2361960"/>
            <a:ext cx="549360" cy="1903320"/>
          </a:xfrm>
          <a:custGeom>
            <a:avLst/>
            <a:gdLst>
              <a:gd name="textAreaLeft" fmla="*/ 73440 w 549360"/>
              <a:gd name="textAreaRight" fmla="*/ 475920 w 549360"/>
              <a:gd name="textAreaTop" fmla="*/ 333000 h 1903320"/>
              <a:gd name="textAreaBottom" fmla="*/ 1379880 h 1903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a4bcec"/>
          </a:solidFill>
          <a:ln w="0">
            <a:noFill/>
          </a:ln>
          <a:effectLst>
            <a:outerShdw dist="107932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505320" y="2687760"/>
            <a:ext cx="21333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SE REQUIER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cc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52280" y="9586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CLARIDA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04920" y="2482920"/>
            <a:ext cx="335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867280" y="654120"/>
            <a:ext cx="289584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OBJETIV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MET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PROGRAMA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867280" y="2178000"/>
            <a:ext cx="289584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0360" indent="-903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MANEJO DE RECURS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 marL="90360" indent="-9036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PROCESO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066680" y="3549600"/>
            <a:ext cx="7086600" cy="13716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972ab"/>
          </a:solidFill>
          <a:ln w="0">
            <a:noFill/>
          </a:ln>
          <a:effectLst>
            <a:outerShdw dist="153753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ccffff"/>
                </a:solidFill>
                <a:latin typeface="Arial"/>
              </a:rPr>
              <a:t>CON APEGO 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371600" y="5073480"/>
            <a:ext cx="6629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Arial"/>
              </a:rPr>
              <a:t>LEGISLACIÓN Y NORMATIVIDAD APLIC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05320" y="577800"/>
            <a:ext cx="1904760" cy="1143000"/>
          </a:xfrm>
          <a:prstGeom prst="rightArrow">
            <a:avLst>
              <a:gd name="adj1" fmla="val 50000"/>
              <a:gd name="adj2" fmla="val 41661"/>
            </a:avLst>
          </a:prstGeom>
          <a:solidFill>
            <a:srgbClr val="3972ab"/>
          </a:solidFill>
          <a:ln w="0">
            <a:noFill/>
          </a:ln>
          <a:effectLst>
            <a:outerShdw dist="107932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505320" y="2101680"/>
            <a:ext cx="1904760" cy="1219320"/>
          </a:xfrm>
          <a:prstGeom prst="rightArrow">
            <a:avLst>
              <a:gd name="adj1" fmla="val 50000"/>
              <a:gd name="adj2" fmla="val 39054"/>
            </a:avLst>
          </a:prstGeom>
          <a:solidFill>
            <a:srgbClr val="3972ab"/>
          </a:solidFill>
          <a:ln w="0">
            <a:noFill/>
          </a:ln>
          <a:effectLst>
            <a:outerShdw dist="107932" dir="2700000" blurRad="0" rotWithShape="0">
              <a:srgbClr val="0099c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8458200" y="6391440"/>
            <a:ext cx="685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ffffff"/>
                </a:solidFill>
                <a:latin typeface="Arial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0:53:13Z</dcterms:created>
  <dc:creator>Dirección General de Sistemas</dc:creator>
  <dc:description/>
  <dc:language>en-US</dc:language>
  <cp:lastModifiedBy>Microsoft Windows XP Professional</cp:lastModifiedBy>
  <dcterms:modified xsi:type="dcterms:W3CDTF">2003-02-10T19:25:44Z</dcterms:modified>
  <cp:revision>133</cp:revision>
  <dc:subject/>
  <dc:title>Presentación de PowerPoint</dc:title>
</cp:coreProperties>
</file>