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E06-C910-4590-8556-0E3BF8FC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A16-77F8-41BC-9A7A-26056EC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CE3-6CE9-4218-A6B9-83BE2BA8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7B7-CD5A-4C46-89F7-FE3237A0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A7B-041A-4D72-95D7-FF7C4B6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1FF-DB79-4770-9DBF-E9BC50B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1B4-FFF2-4078-AAD9-FB0E714C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3D2-D395-4F5C-9ACC-A04FE91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18F-C3A5-4184-9D79-DD08F6C3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7CE-A666-4634-8B45-676963C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B70-6647-4778-ACEC-C9CCE7B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088-3E10-4416-97EA-C6670103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C2D7-36D6-4F53-87FF-1CEA6C504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g.es/comunicaciones/mainart.asp?cmd=ate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imado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7621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5120" y="533520"/>
            <a:ext cx="6858000" cy="167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743200"/>
            <a:ext cx="6934320" cy="19810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52560" y="1143000"/>
            <a:ext cx="471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volución del I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2819520"/>
            <a:ext cx="68580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Institucion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ducació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029200"/>
            <a:ext cx="6858000" cy="1828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28800" y="5257800"/>
            <a:ext cx="4714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estiones par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discusió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Minier2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152280"/>
            <a:ext cx="6858000" cy="51055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Federación, el D.F., los Esta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Municipios y sus organis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centralizados... Aunque conforme a 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es o decretos no causen im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 estén exentos de ellos, deberán aceptar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raslación del 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867280"/>
            <a:ext cx="7696440" cy="76212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gación de aceptar traslación y pago. Art. 4 L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152280"/>
            <a:ext cx="8001000" cy="5334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Federación, el D.F., los Estad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s Municipios y sus organis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centralizados... TENDRAN LA OBL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AGAR EL IMPUESTO UN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OR LOS ACTOS QUE REALICEN DISTI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PAGO DE DEREC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o aprovechamiento a partir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867280"/>
            <a:ext cx="7086600" cy="838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os o actividades gravadas. Art. 3 L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609480"/>
            <a:ext cx="6858000" cy="16765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ravados por la Ley del 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952880"/>
            <a:ext cx="6858000" cy="1828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tituciones: Prestación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u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entos Per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743200"/>
            <a:ext cx="7086600" cy="1828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.- Enajenación de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.- Prestación de serv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3.- Arrendamiento de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4.- Impor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152280"/>
            <a:ext cx="6858000" cy="51055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entos: Art. 15 IV 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s de enseñanza que preste la Federaci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D.F., los Estados, los Municipios y sus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centralizados y los organismo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tengan autorización o reconocimi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lidez oficial de estudios, en los 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la Ley General de Educació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i como los servicios edu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nivel preesco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867280"/>
            <a:ext cx="7086600" cy="838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Y los demá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gresos de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iversidad Públ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en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legiaturas e inscri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 Objeto de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portaciones y subsidios del sector público y pr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av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plomados, Cursos de 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peleria, Fotocop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ferencias, R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siones, Cafeterí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609480"/>
            <a:ext cx="6858000" cy="1676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mpuesto Indir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952880"/>
            <a:ext cx="68580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IVA acredi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Gastos e Inversi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438280"/>
            <a:ext cx="7162560" cy="24386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ecá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va traslad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00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VA acreditabl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80  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=  Saldo a cargo o a favor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20    (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1440" y="1066680"/>
            <a:ext cx="250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je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jeto Juríd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1066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200" y="5238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609480"/>
            <a:ext cx="6858000" cy="16765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osibilidad de devolución de sald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v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362320"/>
            <a:ext cx="70866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720" y="2340000"/>
            <a:ext cx="678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porción de IVA Acredi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Jurisprud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reditable sin aplicar propor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5486400"/>
            <a:ext cx="716256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todas formas cumplir con otras obligacion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S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00:26:37Z</dcterms:created>
  <dc:creator>L.C. José González</dc:creator>
  <dc:description/>
  <dc:language>en-US</dc:language>
  <cp:lastModifiedBy>L.C. José González</cp:lastModifiedBy>
  <dcterms:modified xsi:type="dcterms:W3CDTF">2003-06-19T16:39:54Z</dcterms:modified>
  <cp:revision>1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0408803</vt:r8>
  </property>
  <property fmtid="{D5CDD505-2E9C-101B-9397-08002B2CF9AE}" pid="3" name="_AuthorEmail">
    <vt:lpwstr>lquintan@siu.buap.mx</vt:lpwstr>
  </property>
  <property fmtid="{D5CDD505-2E9C-101B-9397-08002B2CF9AE}" pid="4" name="_AuthorEmailDisplayName">
    <vt:lpwstr>CP Laura Quintana Roo</vt:lpwstr>
  </property>
  <property fmtid="{D5CDD505-2E9C-101B-9397-08002B2CF9AE}" pid="5" name="_EmailSubject">
    <vt:lpwstr>Prueba</vt:lpwstr>
  </property>
</Properties>
</file>