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3D7E-53CA-4CD3-B25A-C748ACA3EC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812-3DE6-4994-95C6-48DE0BF1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883-5846-461F-B644-136E1714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2C2-AAB6-4357-A02E-A0B6461B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170-10BE-4D17-ACF9-32AD79E2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FFC7-D721-4DE5-B449-DA96705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4F1-E1F3-4526-9F20-54F497BB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F7B1-4362-41DC-B3D5-E320670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5DAC-BDDE-4070-853F-9462632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666F-4532-4820-908A-650C1A6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F02-5262-463A-B1D5-C48596A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674B-F393-47A3-8ECF-ED36F6B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CE0-425A-4B6B-A11D-A436A08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2CFA-6868-4A66-B640-D90A59A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BE5A-F5E6-42C3-8A43-252ED24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B7F4-23D6-4A05-B4AA-EDB44F5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194F-936B-4189-BA29-E68622E9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8B2-D0DC-4C67-988B-3CF6F8CB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1D1-30D7-4928-BEDE-00DAD326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312-113B-4379-A275-DDBC4BFF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AAE-2C61-4D7C-A033-993ABA6C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05D-698D-4ECB-8A14-9690CA83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2FE-AF0F-4412-B729-80DF61A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5A5-5A71-4B28-943E-E3E6B33A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06F-2F94-492D-AE1F-8CFC111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9759-E874-44DF-B6B9-83644E90399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4FCC-6791-4319-B75D-9CBFAC4A13A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RANSPARENCIA Y ACCESO A LA INFORMACIÓ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Instituciones Públicas 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ducación Superi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52720" y="131760"/>
            <a:ext cx="935280" cy="993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46840" y="193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AIPES,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RABAJO CONJU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8000"/>
          </a:bodyPr>
          <a:p>
            <a:pPr marL="536040" indent="-536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El acuerdo debe fundamentarse en que las IPES reconocen la legitimación activa para el ejercicio del derecho de acceso a la información de todo ciudadano, establecido en el artículo 6°  de la Constitución Política de los Estados Unidos Mexican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52720" y="131760"/>
            <a:ext cx="935280" cy="993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46840" y="3459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AIPES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 flipH="1" rot="10800000">
            <a:off x="685800" y="205704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RABAJO CONJU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El acuerdo deberá tomar en consideración que en el ámbito universitario el acceso a la información involucra tres esferas de interés a proteger y armoniz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52720" y="131760"/>
            <a:ext cx="935280" cy="99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46840" y="3459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AIPES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flipH="1" rot="10800000">
            <a:off x="457200" y="205704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RABAJO CONJU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542160" indent="-5421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La salvaguarda de privacidad de los miembros de la comunidad universitari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-5421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El respeto a la garantía constitucional del derecho a la información 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-54216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La vigencia de la garantía constitucional de la autonomía universit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52720" y="131760"/>
            <a:ext cx="935280" cy="993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46840" y="3459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AIPES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 flipH="1" rot="10800000">
            <a:off x="457200" y="205704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457200"/>
            <a:ext cx="4572000" cy="66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96840" y="685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960" y="53352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2dd74"/>
                </a:solidFill>
                <a:latin typeface="Arial"/>
                <a:ea typeface="Times New Roman"/>
              </a:rPr>
              <a:t>DOCUMENTO PROPUEST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2421000"/>
            <a:ext cx="7543800" cy="176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ecff"/>
                </a:solidFill>
                <a:latin typeface="Arial"/>
                <a:ea typeface="Times New Roman"/>
              </a:rPr>
              <a:t>ACUER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ecff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ecff"/>
                </a:solidFill>
                <a:latin typeface="Arial"/>
                <a:ea typeface="Times New Roman"/>
              </a:rPr>
              <a:t>REGLA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640" y="4683240"/>
            <a:ext cx="790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cc"/>
                </a:solidFill>
                <a:latin typeface="Arial"/>
                <a:ea typeface="Times New Roman"/>
              </a:rPr>
              <a:t>Cada IPES con fundamento en su legislación elegirá lo condu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457200"/>
            <a:ext cx="4572000" cy="660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533520"/>
            <a:ext cx="548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2dd74"/>
                </a:solidFill>
                <a:latin typeface="Arial"/>
                <a:ea typeface="Times New Roman"/>
              </a:rPr>
              <a:t>ESTRUCT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484280"/>
            <a:ext cx="746748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flipH="1" rot="10800000">
            <a:off x="685800" y="18284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32080" y="1695600"/>
            <a:ext cx="7331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siderando: Cad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PES establecerá el fundament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rrespondiente para emitir el acuerd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posiciones Generales: Que contiene. Cuales son sus objetivos . Definición de los términos utiliz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ibertad y Acceso a 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 flipH="1" rot="10800000">
            <a:off x="762120" y="373356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 flipH="1" rot="10800000">
            <a:off x="762120" y="556236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836640"/>
            <a:ext cx="533376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  </a:t>
            </a: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Obligación de Infor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523880"/>
            <a:ext cx="8076960" cy="23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Tipo 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    </a:t>
            </a:r>
            <a:r>
              <a:rPr b="0" lang="es-MX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Información Reservada y Confiden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ecff"/>
                </a:solidFill>
                <a:latin typeface="Goudy Old Style"/>
                <a:ea typeface="Times New Roman"/>
              </a:rPr>
              <a:t>     </a:t>
            </a:r>
            <a:r>
              <a:rPr b="0" lang="es-ES" sz="3200" spc="-1" strike="noStrike">
                <a:solidFill>
                  <a:srgbClr val="ccecff"/>
                </a:solidFill>
                <a:latin typeface="Arial"/>
                <a:ea typeface="Times New Roman"/>
              </a:rPr>
              <a:t>Protección de Datos Person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473280"/>
            <a:ext cx="79246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    </a:t>
            </a:r>
            <a:r>
              <a:rPr b="1" lang="es-MX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sta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ordinación Universitaria de Enl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ité Institucional de Informa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flipH="1" rot="10800000">
            <a:off x="609480" y="8377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flipH="1" rot="10800000">
            <a:off x="685800" y="350496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836640"/>
            <a:ext cx="8001000" cy="303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 </a:t>
            </a:r>
            <a:r>
              <a:rPr b="1" lang="es-ES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Procedimiento de Acceso a 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 </a:t>
            </a: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Recurso de Revisión y Reconsideración</a:t>
            </a:r>
            <a:r>
              <a:rPr b="1" lang="es-ES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523880"/>
            <a:ext cx="8076960" cy="101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473280"/>
            <a:ext cx="7543800" cy="28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  </a:t>
            </a:r>
            <a:r>
              <a:rPr b="1" lang="es-ES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Responsabilidades y Sa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    </a:t>
            </a:r>
            <a:r>
              <a:rPr b="1" lang="es-MX" sz="3200" spc="-1" strike="noStrike">
                <a:solidFill>
                  <a:srgbClr val="ffcc66"/>
                </a:solidFill>
                <a:latin typeface="Goudy Old Style"/>
                <a:ea typeface="Times New Roman"/>
              </a:rPr>
              <a:t>Transito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9140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 flipH="1" rot="10800000">
            <a:off x="380880" y="358092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flipH="1" rot="10800000">
            <a:off x="380880" y="22856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flipH="1" rot="10800000">
            <a:off x="457200" y="495252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150040" cy="41148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66"/>
                </a:solidFill>
                <a:latin typeface="Times New Roman"/>
              </a:rPr>
              <a:t>Ley Federal de Transparencia y Acceso a la Inform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</a:rPr>
              <a:t>UNAM                     Acuerdo del 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imes New Roman"/>
              </a:rPr>
              <a:t>UAM                        Cuerpo Colegi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66"/>
                </a:solidFill>
                <a:uFillTx/>
                <a:latin typeface="Times New Roman"/>
              </a:rPr>
              <a:t>Ambas cuentan con linea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429000"/>
            <a:ext cx="1981440" cy="380880"/>
          </a:xfrm>
          <a:prstGeom prst="rightArrow">
            <a:avLst>
              <a:gd name="adj1" fmla="val 50000"/>
              <a:gd name="adj2" fmla="val 13005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343400"/>
            <a:ext cx="1981440" cy="380880"/>
          </a:xfrm>
          <a:prstGeom prst="rightArrow">
            <a:avLst>
              <a:gd name="adj1" fmla="val 50000"/>
              <a:gd name="adj2" fmla="val 13005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flipH="1" rot="10800000">
            <a:off x="228600" y="205704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eyes Estatales de Transparencia y Acceso a la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guas Calientes                   Duran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Jalisco                                  Michoac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uevo León                         Queréta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n Luis Potosí                    Sinal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 flipH="1" rot="10800000">
            <a:off x="380880" y="1980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PES Obligadas por su Ley Esta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uas Calient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Portal en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neamientos en 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olic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urango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Se descon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flipH="1" rot="10800000">
            <a:off x="380880" y="1980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PES Obligas por su Ley Esta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lisco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uerdo del H. Consejo Gener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t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dad de Enlace e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scrita a la Secretaría Gene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uchas solicitudes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0384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190476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PES Obligadas por su Ley Esta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ichoacán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debe elaborar un Regl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que aún no tie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uevo Le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descon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190476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PES Obligadas por su Ley Esta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erétar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tienen acuer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ienen Unidad de En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solicitud de un trabaj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198072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stado Actu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PES Obligadas por su Ley Esta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n Luis Potosí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      Se descon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inalo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:                   Se descon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flipH="1" rot="10800000">
            <a:off x="457200" y="190476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RABAJO CONJUN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oudy Old Style"/>
                <a:ea typeface="Times New Roman"/>
              </a:rPr>
              <a:t>Las Universidades Públicas no sujetas por una Ley Estatal,  en términos de su legislación interna, tomen las medidas necesarias para iniciar un proceso de transparencia y acceso a la informació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52720" y="131760"/>
            <a:ext cx="935280" cy="993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6840" y="3459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AIPES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 rot="10800000">
            <a:off x="609480" y="205704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9:05:23Z</dcterms:created>
  <dc:creator>ABOGADO</dc:creator>
  <dc:description/>
  <dc:language>en-US</dc:language>
  <cp:lastModifiedBy>ABOGADO</cp:lastModifiedBy>
  <dcterms:modified xsi:type="dcterms:W3CDTF">2003-06-18T16:28:08Z</dcterms:modified>
  <cp:revision>3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64477318</vt:r8>
  </property>
  <property fmtid="{D5CDD505-2E9C-101B-9397-08002B2CF9AE}" pid="3" name="_AuthorEmail">
    <vt:lpwstr>lquintan@siu.buap.mx</vt:lpwstr>
  </property>
  <property fmtid="{D5CDD505-2E9C-101B-9397-08002B2CF9AE}" pid="4" name="_AuthorEmailDisplayName">
    <vt:lpwstr>CP Laura Quintana Roo</vt:lpwstr>
  </property>
  <property fmtid="{D5CDD505-2E9C-101B-9397-08002B2CF9AE}" pid="5" name="_EmailSubject">
    <vt:lpwstr>Prueba</vt:lpwstr>
  </property>
</Properties>
</file>