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4A8-B308-4873-9922-88934C40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289-1215-4C0D-A69B-86EBEB8B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9FA-EB8E-4A76-B1EC-C263D4DF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016-AF5D-4BAC-B3B7-1C063601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5FE-07A8-4961-B4C1-280A2C0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F0-7789-418E-88C7-00EB305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CC5-A4FE-461D-AC9F-555BFA2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81F-E6F4-4939-BC7C-AFCC82F3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812-AA4B-4EA4-A7DC-5D6695C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502-4532-4EEF-9BA1-D3760D7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46D-4150-4012-A227-99512C6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28E-0465-4406-828C-3F373C3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E8E-B0FA-403A-91EB-4437D9B72F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B01115_" descr=""/>
          <p:cNvPicPr/>
          <p:nvPr/>
        </p:nvPicPr>
        <p:blipFill>
          <a:blip r:embed="rId2"/>
          <a:stretch/>
        </p:blipFill>
        <p:spPr>
          <a:xfrm>
            <a:off x="1219320" y="1006560"/>
            <a:ext cx="7962840" cy="212760"/>
          </a:xfrm>
          <a:prstGeom prst="rect">
            <a:avLst/>
          </a:prstGeom>
          <a:ln w="0">
            <a:noFill/>
          </a:ln>
        </p:spPr>
      </p:pic>
      <p:pic>
        <p:nvPicPr>
          <p:cNvPr id="42" name="WB01115_" descr=""/>
          <p:cNvPicPr/>
          <p:nvPr/>
        </p:nvPicPr>
        <p:blipFill>
          <a:blip r:embed="rId3"/>
          <a:stretch/>
        </p:blipFill>
        <p:spPr>
          <a:xfrm>
            <a:off x="0" y="588312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1499-8460-41B6-BB53-238F11CB6C4A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05320" y="13716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595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FISCALIZACIÓN SUPERIOR EN LAS 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5562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.P. EDUARDO GURZA CUR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6524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XV ASAMBLEA ORDINARIA DE LA ASOCIACIÓN MEXICANA DE ÓRGANOS DE CONTROL Y VIGILANCIA EN INSTITUCIONES DE EDUCACIÓN SUPERIOR, A.C. AMOC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283-6F9C-4621-B441-D3582D51326C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038480" y="1676520"/>
            <a:ext cx="4724280" cy="609480"/>
            <a:chOff x="4038480" y="1676520"/>
            <a:chExt cx="4724280" cy="609480"/>
          </a:xfrm>
        </p:grpSpPr>
        <p:sp>
          <p:nvSpPr>
            <p:cNvPr id="111" name=""/>
            <p:cNvSpPr/>
            <p:nvPr/>
          </p:nvSpPr>
          <p:spPr>
            <a:xfrm>
              <a:off x="4038480" y="1676520"/>
              <a:ext cx="472428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06241">
                    <a:alpha val="50196"/>
                  </a:srgbClr>
                </a:gs>
                <a:gs pos="100000">
                  <a:srgbClr val="709a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75800" y="1752480"/>
              <a:ext cx="413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ffffff"/>
                  </a:solidFill>
                  <a:latin typeface="Arial"/>
                </a:rPr>
                <a:t>AMBIENTE DE CONTR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2514600"/>
            <a:ext cx="47246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25909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ALORACIÓN DE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352680"/>
            <a:ext cx="4800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4290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CTIVIDADES DE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191120"/>
            <a:ext cx="4800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42670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FORMACIÓN Y COMUN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5105520"/>
            <a:ext cx="4800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518148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514600"/>
            <a:ext cx="2514600" cy="2209680"/>
          </a:xfrm>
          <a:prstGeom prst="rect">
            <a:avLst/>
          </a:prstGeom>
          <a:gradFill rotWithShape="0">
            <a:gsLst>
              <a:gs pos="0">
                <a:srgbClr val="507550"/>
              </a:gs>
              <a:gs pos="50000">
                <a:srgbClr val="afffaf"/>
              </a:gs>
              <a:gs pos="100000">
                <a:srgbClr val="507550"/>
              </a:gs>
            </a:gsLst>
            <a:lin ang="13500000"/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00"/>
                </a:solidFill>
                <a:latin typeface="Arial"/>
              </a:rPr>
              <a:t>CI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00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752480"/>
            <a:ext cx="914400" cy="3657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1ece1"/>
              </a:gs>
              <a:gs pos="100000">
                <a:srgbClr val="00b68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0FB-C130-4915-9E03-3D43467C17C1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1066680"/>
            <a:ext cx="4343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32552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MBIENTE DE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819520"/>
            <a:ext cx="800100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18456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Los factores del ambiente de control incluyen la integridad, los valores éticos y la competencia de los servidores públicos de las IES; la filosofía y el estilo de operar de la institución; la manera como la rectoría de la universidad asigna autoridad, responsabiliza, organiza y desarrolla al personal académico y administ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2001-A437-4A55-8BEB-B5B4C9CD46D2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1066680"/>
            <a:ext cx="4343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12193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ALORACIÓN DE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438280"/>
            <a:ext cx="8001000" cy="373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77724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Las IES deben ser conscientes de los riesgos y enfrentar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Deben señalar objetivos integrales, de manera que operen concert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Deben establecer mecanismos para identificar, analizar y administrar los riegos relacion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Una condición previa a la valoración de riesgos es el establecimiento de objetivos enlazados en distint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La valoración de riesgos es la identificación y el análisis de los problemas relevantes para la consecución de lo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413-7B98-4F34-A6D8-7559F8B0BE40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066680"/>
            <a:ext cx="4343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1764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CTIVIDADES DE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2286000"/>
            <a:ext cx="8001000" cy="403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66688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Se deben establecer y ejecutar políticas y procedimientos para ayudar a asegurar que se están aplicando efectivamente las acciones identificadas por la rectoría como necesarias para manejar los riegos en la consecución de los objetivos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Las actividades de control se dan a todo lo largo de la organización y en todos los niveles y fun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Incluyen un rango de actividades como aprobaciones, verificaciones, conciliaciones y revisión de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40E-7714-4921-9F53-88F031B26970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1066680"/>
            <a:ext cx="4343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11764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FORMACIÓN Y COMUN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819520"/>
            <a:ext cx="800100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260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Los sistemas de información y comunicación se interrelacionan y ayudan al personal de las IES a capturar e intercambiar la información necesaria para conducir, administrar y controlar su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2A6-C383-4036-B3A8-24615F01CA86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1066680"/>
            <a:ext cx="4343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12952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362320"/>
            <a:ext cx="8001000" cy="36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51460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Debe monitorearse el proceso total, y considerarse como necesario hacer modificaciones. De esta manera los sistemas de control pueden reaccionar dinámicamente, cambiando a medida que las condiciones lo justifiqu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El monitoreo incluye actividades regulares de administración y superv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cc"/>
                </a:solidFill>
                <a:latin typeface="Arial"/>
              </a:rPr>
              <a:t>El alcance y la frecuencia de las evaluaciones dependerá de la valoración de riesgos y de la efectividad de los procedimientos de monitor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8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ONENTES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558-259C-42E9-9608-D5D8D2F66366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990720"/>
            <a:ext cx="7925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249200"/>
            <a:ext cx="510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A VISIÓN ESTRATÉGICA DE LA A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209680"/>
            <a:ext cx="8001000" cy="426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438280"/>
            <a:ext cx="769608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Áreas Generadoras de Corrup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jores Prácticas Gubern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guridad Laboral de los Servidore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icadores de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ndición de Cu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pervisión y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iscalización de Alto Impa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portunidades de Mej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cluir en los Programas Educativos el Estudio de los Valores 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666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666880" y="609120"/>
            <a:ext cx="3810240" cy="198144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 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04920"/>
            <a:ext cx="2209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04920"/>
            <a:ext cx="2209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233880"/>
            <a:ext cx="81532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mprobar que el ejercicio de los recursos federales destinados a las IES para gastos de operación o capital y para apoyo de programas específicos, se ajustó a la legislación y normativa, y que se destinaron a los programas para los que fueron autoriz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BA08-5099-46CD-A641-12EC79B71CB9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08640" y="1111320"/>
            <a:ext cx="2897280" cy="1425600"/>
          </a:xfrm>
          <a:prstGeom prst="ellipse">
            <a:avLst/>
          </a:prstGeom>
          <a:solidFill>
            <a:srgbClr val="ffd86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PROCESOS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ADJUD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60800"/>
            <a:ext cx="2897280" cy="1425600"/>
          </a:xfrm>
          <a:prstGeom prst="ellipse">
            <a:avLst/>
          </a:prstGeom>
          <a:solidFill>
            <a:srgbClr val="ffd86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4060800"/>
            <a:ext cx="3059280" cy="1425600"/>
          </a:xfrm>
          <a:prstGeom prst="ellipse">
            <a:avLst/>
          </a:prstGeom>
          <a:solidFill>
            <a:srgbClr val="ffd86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CONTRATOS 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187280"/>
            <a:ext cx="2895840" cy="1425600"/>
          </a:xfrm>
          <a:prstGeom prst="ellipse">
            <a:avLst/>
          </a:prstGeom>
          <a:solidFill>
            <a:srgbClr val="ffd86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CON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765520"/>
            <a:ext cx="3200400" cy="1600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XT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R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SEN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127480"/>
            <a:ext cx="2896920" cy="1425600"/>
          </a:xfrm>
          <a:prstGeom prst="ellipse">
            <a:avLst/>
          </a:prstGeom>
          <a:solidFill>
            <a:srgbClr val="ffd86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OB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890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ULTADOS DE LA FISCALIZACIÓN EN LAS 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236-71B0-4C64-9000-8161F0D39DEC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WB01115_" descr=""/>
          <p:cNvPicPr/>
          <p:nvPr/>
        </p:nvPicPr>
        <p:blipFill>
          <a:blip r:embed="rId2"/>
          <a:stretch/>
        </p:blipFill>
        <p:spPr>
          <a:xfrm>
            <a:off x="133344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4231400">
            <a:off x="3478680" y="1854360"/>
            <a:ext cx="1138320" cy="40644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54360 h 406440"/>
              <a:gd name="textAreaBottom" fmla="*/ 35208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2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7799600">
            <a:off x="4366440" y="1916280"/>
            <a:ext cx="1112760" cy="323640"/>
          </a:xfrm>
          <a:custGeom>
            <a:avLst/>
            <a:gdLst>
              <a:gd name="textAreaLeft" fmla="*/ 194760 w 1112760"/>
              <a:gd name="textAreaRight" fmla="*/ 806760 w 1112760"/>
              <a:gd name="textAreaTop" fmla="*/ 43200 h 323640"/>
              <a:gd name="textAreaBottom" fmla="*/ 280440 h 3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2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973800">
            <a:off x="2021760" y="2973960"/>
            <a:ext cx="457200" cy="1147680"/>
          </a:xfrm>
          <a:custGeom>
            <a:avLst/>
            <a:gdLst>
              <a:gd name="textAreaLeft" fmla="*/ 61200 w 457200"/>
              <a:gd name="textAreaRight" fmla="*/ 396000 w 457200"/>
              <a:gd name="textAreaTop" fmla="*/ 200880 h 1147680"/>
              <a:gd name="textAreaBottom" fmla="*/ 83232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2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75800">
            <a:off x="6260760" y="3298680"/>
            <a:ext cx="1219320" cy="38124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2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386240"/>
            <a:ext cx="533520" cy="566640"/>
          </a:xfrm>
          <a:prstGeom prst="downArrow">
            <a:avLst>
              <a:gd name="adj1" fmla="val 50000"/>
              <a:gd name="adj2" fmla="val 26552"/>
            </a:avLst>
          </a:prstGeom>
          <a:solidFill>
            <a:srgbClr val="82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763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RREGULARIDADES MÁS FREC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812960"/>
            <a:ext cx="8153280" cy="3632040"/>
          </a:xfrm>
          <a:prstGeom prst="rect">
            <a:avLst/>
          </a:prstGeom>
          <a:gradFill rotWithShape="0">
            <a:gsLst>
              <a:gs pos="0">
                <a:srgbClr val="ba7c00"/>
              </a:gs>
              <a:gs pos="50000">
                <a:srgbClr val="ffedc9"/>
              </a:gs>
              <a:gs pos="100000">
                <a:srgbClr val="ba7c00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824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ferencias entre los registros presupuestarios de las IES, de la SEP y de los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consistencias en los registros con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gistros consolidados de recursos federales y esta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documentación comprobatoria del ga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cumplimientos en los programas de apoyo a las IES, como el FOMES y el P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cumplimientos de la normativa en materia de adquisiciones y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638A-3864-4D6C-8DA2-29449148E684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WB01115_" descr=""/>
          <p:cNvPicPr/>
          <p:nvPr/>
        </p:nvPicPr>
        <p:blipFill>
          <a:blip r:embed="rId8"/>
          <a:stretch/>
        </p:blipFill>
        <p:spPr>
          <a:xfrm>
            <a:off x="133344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238880" y="6369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inú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rm"/>
          <p:cNvSpPr/>
          <p:nvPr/>
        </p:nvSpPr>
        <p:spPr>
          <a:xfrm>
            <a:off x="380880" y="1143000"/>
            <a:ext cx="8458200" cy="5029200"/>
          </a:xfrm>
          <a:prstGeom prst="pi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057400"/>
            <a:ext cx="8077320" cy="2895480"/>
          </a:xfrm>
          <a:prstGeom prst="rect">
            <a:avLst/>
          </a:prstGeom>
          <a:gradFill rotWithShape="0">
            <a:gsLst>
              <a:gs pos="0">
                <a:srgbClr val="e6dfb6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34520" y="-76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5020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18 de junio de 2004 la Asociación Mexicana de Órganos de Control y Vigilancia en las IES, A.C. y la Auditoría Superior de la Federación, celebraron un convenio de colab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738360"/>
            <a:ext cx="7962840" cy="21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8BD-7443-4298-B8DA-EAB73672B360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19320" y="763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RREGULARIDADES MÁS FREC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752480"/>
            <a:ext cx="8153280" cy="4241880"/>
          </a:xfrm>
          <a:prstGeom prst="rect">
            <a:avLst/>
          </a:prstGeom>
          <a:gradFill rotWithShape="0">
            <a:gsLst>
              <a:gs pos="0">
                <a:srgbClr val="ba7c00"/>
              </a:gs>
              <a:gs pos="50000">
                <a:srgbClr val="ffedc9"/>
              </a:gs>
              <a:gs pos="100000">
                <a:srgbClr val="ba7c00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824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cumplimiento de los términos establecidos en los contratos y ped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manuales de procedimientos: no son vigentes o no están autor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ción de recursos federales en adquisiciones no aut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mecanismos de control relativos al inventario y resguardo de bienes y de expedientes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comunicación con la S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la debida supervisión de los convenios de Apoyo Financiero y de los convenios de Colaboración y Apo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7F0-CC58-4AAC-832F-FC1B0D109711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WB01115_" descr=""/>
          <p:cNvPicPr/>
          <p:nvPr/>
        </p:nvPicPr>
        <p:blipFill>
          <a:blip r:embed="rId8"/>
          <a:stretch/>
        </p:blipFill>
        <p:spPr>
          <a:xfrm>
            <a:off x="133344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7480" y="1143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..Continú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28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BLEMÁTICA OBSER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295280"/>
            <a:ext cx="3505320" cy="609840"/>
          </a:xfrm>
          <a:prstGeom prst="rect">
            <a:avLst/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EN LA APLICACIÓN DE 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NORMA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819520"/>
            <a:ext cx="3505320" cy="609480"/>
          </a:xfrm>
          <a:prstGeom prst="rect">
            <a:avLst/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IDENTIFICACIÓN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RECURSOS FEDER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191120"/>
            <a:ext cx="3505320" cy="609480"/>
          </a:xfrm>
          <a:prstGeom prst="rect">
            <a:avLst/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FALTA DE MANUALES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PROCEDIMI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486400"/>
            <a:ext cx="3505320" cy="609480"/>
          </a:xfrm>
          <a:prstGeom prst="rect">
            <a:avLst/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INADECUADA COMUN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CON LAS ÁREAS NORMATIV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885960"/>
            <a:ext cx="3429000" cy="429120"/>
          </a:xfrm>
          <a:prstGeom prst="rect">
            <a:avLst/>
          </a:prstGeom>
          <a:solidFill>
            <a:srgbClr val="2a7e54">
              <a:alpha val="50000"/>
            </a:srgbClr>
          </a:solidFill>
          <a:ln w="936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es un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1343160"/>
            <a:ext cx="3429000" cy="429120"/>
          </a:xfrm>
          <a:prstGeom prst="rect">
            <a:avLst/>
          </a:prstGeom>
          <a:solidFill>
            <a:srgbClr val="2a7e54">
              <a:alpha val="50000"/>
            </a:srgbClr>
          </a:solidFill>
          <a:ln w="324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fusión in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1797120"/>
            <a:ext cx="3429000" cy="429120"/>
          </a:xfrm>
          <a:prstGeom prst="rect">
            <a:avLst/>
          </a:prstGeom>
          <a:solidFill>
            <a:srgbClr val="2a7e54">
              <a:alpha val="50000"/>
            </a:srgbClr>
          </a:solidFill>
          <a:ln w="324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actu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2583000"/>
            <a:ext cx="3429000" cy="429120"/>
          </a:xfrm>
          <a:prstGeom prst="rect">
            <a:avLst/>
          </a:prstGeom>
          <a:solidFill>
            <a:srgbClr val="2a7e54">
              <a:alpha val="50000"/>
            </a:srgbClr>
          </a:solidFill>
          <a:ln w="936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gistr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171960"/>
            <a:ext cx="3429000" cy="637200"/>
          </a:xfrm>
          <a:prstGeom prst="rect">
            <a:avLst/>
          </a:prstGeom>
          <a:solidFill>
            <a:srgbClr val="2a7e54">
              <a:alpha val="50000"/>
            </a:srgbClr>
          </a:solidFill>
          <a:ln w="936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mpide   su  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scal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4170240"/>
            <a:ext cx="3429000" cy="637200"/>
          </a:xfrm>
          <a:prstGeom prst="rect">
            <a:avLst/>
          </a:prstGeom>
          <a:solidFill>
            <a:srgbClr val="2a7e54">
              <a:alpha val="50000"/>
            </a:srgbClr>
          </a:solidFill>
          <a:ln w="936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mpi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áticas y unifo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229360"/>
            <a:ext cx="3429000" cy="429120"/>
          </a:xfrm>
          <a:prstGeom prst="rect">
            <a:avLst/>
          </a:prstGeom>
          <a:solidFill>
            <a:srgbClr val="2a7e54">
              <a:alpha val="50000"/>
            </a:srgbClr>
          </a:solidFill>
          <a:ln w="324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portes desactu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43600" y="5838840"/>
            <a:ext cx="3414600" cy="637200"/>
          </a:xfrm>
          <a:prstGeom prst="rect">
            <a:avLst/>
          </a:prstGeom>
          <a:solidFill>
            <a:srgbClr val="2a7e54">
              <a:alpha val="50000"/>
            </a:srgbClr>
          </a:solidFill>
          <a:ln w="3240">
            <a:solidFill>
              <a:srgbClr val="2a7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ferencias en las cif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upuestari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DC2-2324-4479-AEC7-16B3A1C1833E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WB01115_" descr=""/>
          <p:cNvPicPr/>
          <p:nvPr/>
        </p:nvPicPr>
        <p:blipFill>
          <a:blip r:embed="rId10"/>
          <a:stretch/>
        </p:blipFill>
        <p:spPr>
          <a:xfrm>
            <a:off x="1181160" y="60948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62520" y="1019160"/>
            <a:ext cx="914400" cy="11430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c00"/>
              </a:gs>
              <a:gs pos="50000">
                <a:srgbClr val="ddffdd"/>
              </a:gs>
              <a:gs pos="100000">
                <a:srgbClr val="005c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2a7e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557440"/>
            <a:ext cx="914400" cy="11430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c00"/>
              </a:gs>
              <a:gs pos="50000">
                <a:srgbClr val="ddffdd"/>
              </a:gs>
              <a:gs pos="100000">
                <a:srgbClr val="005c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2a7e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919680"/>
            <a:ext cx="914400" cy="11430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c00"/>
              </a:gs>
              <a:gs pos="50000">
                <a:srgbClr val="ddffdd"/>
              </a:gs>
              <a:gs pos="100000">
                <a:srgbClr val="005c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2a7e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5229360"/>
            <a:ext cx="914400" cy="11430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c00"/>
              </a:gs>
              <a:gs pos="50000">
                <a:srgbClr val="ddffdd"/>
              </a:gs>
              <a:gs pos="100000">
                <a:srgbClr val="005c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2a7e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523880" y="1011240"/>
          <a:ext cx="6134400" cy="3027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011240"/>
                    <a:ext cx="613440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739960" y="4343400"/>
          <a:ext cx="3584520" cy="205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9960" y="4343400"/>
                    <a:ext cx="358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443680" y="152280"/>
            <a:ext cx="43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UNIVERSO DE FISC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610480" y="6400800"/>
            <a:ext cx="457200" cy="30492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111-1217-475A-ACBA-B39483B245D6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B01115_" descr=""/>
          <p:cNvPicPr/>
          <p:nvPr/>
        </p:nvPicPr>
        <p:blipFill>
          <a:blip r:embed="rId6"/>
          <a:stretch/>
        </p:blipFill>
        <p:spPr>
          <a:xfrm>
            <a:off x="1181160" y="609480"/>
            <a:ext cx="7962840" cy="212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rm"/>
          <p:cNvSpPr/>
          <p:nvPr/>
        </p:nvSpPr>
        <p:spPr>
          <a:xfrm>
            <a:off x="380880" y="1143000"/>
            <a:ext cx="8458200" cy="5029200"/>
          </a:xfrm>
          <a:prstGeom prst="pi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-76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WB01115_" descr=""/>
          <p:cNvPicPr/>
          <p:nvPr/>
        </p:nvPicPr>
        <p:blipFill>
          <a:blip r:embed="rId2"/>
          <a:stretch/>
        </p:blipFill>
        <p:spPr>
          <a:xfrm>
            <a:off x="1219320" y="738360"/>
            <a:ext cx="7962840" cy="21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FF8D-6E1F-4DC6-A5F9-5FABE2D6F80A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144792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117880"/>
            <a:ext cx="670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ablecer y desarrollar mecanismos de coordinación y colaboración técnica entre la AMOCVIES y la ASF, a través de políticas y criterios para el adecuado cumplimiento de sus atribuciones en materia de fiscalización; de tal forma que estas acciones representen oportunidades para sumar a las IES en los procesos de transparencia y rendición de cuen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gradFill rotWithShape="0">
            <a:gsLst>
              <a:gs pos="0">
                <a:srgbClr val="d4bd5c"/>
              </a:gs>
              <a:gs pos="100000">
                <a:srgbClr val="f0e5c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057400"/>
            <a:ext cx="82296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mover la cooperación institucional y la coordinación de acciones entre la AMOCVIES y la AS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adyuvar y apoyar a la ASF en las revisiones que realiza a las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adyuvar a fortalecer a los órganos internos de control de la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mover la rendición de cuentas y la transparencia en la aplicación de los recursos Federales que se otorguen a la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fundir en las IES los términos de referencia emitidos por la AMOCVIES y la AS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24920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MPR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B01115_" descr=""/>
          <p:cNvPicPr/>
          <p:nvPr/>
        </p:nvPicPr>
        <p:blipFill>
          <a:blip r:embed="rId2"/>
          <a:stretch/>
        </p:blipFill>
        <p:spPr>
          <a:xfrm>
            <a:off x="1257480" y="74916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B71-B294-437C-8F00-A2C9D55647D5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791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inú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gradFill rotWithShape="0">
            <a:gsLst>
              <a:gs pos="0">
                <a:srgbClr val="d4bd5c"/>
              </a:gs>
              <a:gs pos="100000">
                <a:srgbClr val="f0e5c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28800"/>
            <a:ext cx="82296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finir entre la AMOCVIES y la ASF los términos de referencia básicos para las revisiones que efectúen los órganos internos de control de las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mover que las revisiones que realicen los órganos internos de control, se ajusten al ejercicio fiscal de la Cuenta Pública que corresponda revisar a la AS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torgar a la ASF las facilidades que le permitan ejercer con oportunidad sus fun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orcionar a la ASF la información y documentación que le solicite, en apoyo de las actividades inherentes a la revisión de la Cuenta Pública que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24920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MPR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WB01115_" descr=""/>
          <p:cNvPicPr/>
          <p:nvPr/>
        </p:nvPicPr>
        <p:blipFill>
          <a:blip r:embed="rId2"/>
          <a:stretch/>
        </p:blipFill>
        <p:spPr>
          <a:xfrm>
            <a:off x="1257480" y="74916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02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989-C99E-4F60-9E40-BF3AFFAD927F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12952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..Continú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gradFill rotWithShape="0">
            <a:gsLst>
              <a:gs pos="0">
                <a:srgbClr val="d4bd5c"/>
              </a:gs>
              <a:gs pos="50000">
                <a:srgbClr val="f0e5c2"/>
              </a:gs>
              <a:gs pos="100000">
                <a:srgbClr val="d4bd5c"/>
              </a:gs>
            </a:gsLst>
            <a:lin ang="13500000"/>
          </a:grad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651040"/>
            <a:ext cx="8229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ASF se reserva el derecho de aceptar, sin que esto implique un compromiso, los resultados de las auditorías que realicen los órganos internos de control (O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todo momento se podrá reservar el derecho de practicar revisiones integrales o parciales a las IES, ampliar dichas revisiones y modificar los términos de 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140184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E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B01115_" descr=""/>
          <p:cNvPicPr/>
          <p:nvPr/>
        </p:nvPicPr>
        <p:blipFill>
          <a:blip r:embed="rId2"/>
          <a:stretch/>
        </p:blipFill>
        <p:spPr>
          <a:xfrm>
            <a:off x="1257480" y="74916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F3E-1FFE-4E9C-AD05-CFA84B53691A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C688-E47B-4B48-B3C5-C295FCB28873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5520" y="990720"/>
            <a:ext cx="3276360" cy="1904760"/>
            <a:chOff x="5105520" y="990720"/>
            <a:chExt cx="3276360" cy="1904760"/>
          </a:xfrm>
        </p:grpSpPr>
        <p:sp>
          <p:nvSpPr>
            <p:cNvPr id="85" name=""/>
            <p:cNvSpPr/>
            <p:nvPr/>
          </p:nvSpPr>
          <p:spPr>
            <a:xfrm>
              <a:off x="5105520" y="990720"/>
              <a:ext cx="3276360" cy="190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06241">
                    <a:alpha val="50196"/>
                  </a:srgbClr>
                </a:gs>
                <a:gs pos="100000">
                  <a:srgbClr val="709a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57800" y="1295280"/>
              <a:ext cx="297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"/>
                </a:rPr>
                <a:t>Colaboración estrecha para la consecución de los objetivos de fiscalización a las 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7200" y="990720"/>
            <a:ext cx="3047760" cy="1904400"/>
            <a:chOff x="457200" y="990720"/>
            <a:chExt cx="3047760" cy="1904400"/>
          </a:xfrm>
        </p:grpSpPr>
        <p:sp>
          <p:nvSpPr>
            <p:cNvPr id="88" name=""/>
            <p:cNvSpPr/>
            <p:nvPr/>
          </p:nvSpPr>
          <p:spPr>
            <a:xfrm>
              <a:off x="457200" y="990720"/>
              <a:ext cx="3047760" cy="190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06241">
                    <a:alpha val="50196"/>
                  </a:srgbClr>
                </a:gs>
                <a:gs pos="100000">
                  <a:srgbClr val="709a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" y="1181160"/>
              <a:ext cx="259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QUÉ SE ESPERA DEL  CONVEN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 rot="16200000">
            <a:off x="3390840" y="1181160"/>
            <a:ext cx="1752480" cy="1371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2e6c2"/>
              </a:gs>
              <a:gs pos="100000">
                <a:srgbClr val="0099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124080"/>
            <a:ext cx="8001000" cy="335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>
                  <a:alpha val="50196"/>
                </a:srgbClr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429000"/>
            <a:ext cx="76960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 su actuación los OIC pueden ayudar a la IE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guir sus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evenir la pérdida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egurar información financiera conf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egurar el cumplimiento de las leyes y normativa que les es aplicable a las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357-4E22-4579-88A5-286A6C00A414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523880"/>
            <a:ext cx="8229600" cy="403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b8a6"/>
              </a:gs>
              <a:gs pos="50000">
                <a:srgbClr val="ccffcc"/>
              </a:gs>
              <a:gs pos="100000">
                <a:srgbClr val="a6b8a6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65240"/>
            <a:ext cx="784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valuación del sistema de control intern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yuda a defin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s fortalezas y debilidades d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I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Mediante el examen del control intern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 y sus objetiv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 con 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 evaluación de l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registros contables y de l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estados financier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y el desempeño de las IE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s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pue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cre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la confianza que deb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a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La evaluación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sistem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de control interno basado en principios, reglas, normas, procedimientos y sistemas so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la ba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de la realización de una buena auditorí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VALUACIÓN DE LOS SISTEMAS DE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B01115_" descr=""/>
          <p:cNvPicPr/>
          <p:nvPr/>
        </p:nvPicPr>
        <p:blipFill>
          <a:blip r:embed="rId2"/>
          <a:stretch/>
        </p:blipFill>
        <p:spPr>
          <a:xfrm>
            <a:off x="1409760" y="685800"/>
            <a:ext cx="7962840" cy="21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24880" y="6477120"/>
            <a:ext cx="457200" cy="304560"/>
          </a:xfrm>
          <a:prstGeom prst="ellipse">
            <a:avLst/>
          </a:prstGeom>
          <a:gradFill rotWithShape="0">
            <a:gsLst>
              <a:gs pos="0">
                <a:srgbClr val="944a00"/>
              </a:gs>
              <a:gs pos="50000">
                <a:srgbClr val="e5cd57"/>
              </a:gs>
              <a:gs pos="100000">
                <a:srgbClr val="944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E4F-14E5-4F94-B79F-4DF35E4A5912}" type="slidenum">
              <a:rPr b="0" lang="es-MX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523880"/>
            <a:ext cx="5181480" cy="487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b8a6"/>
              </a:gs>
              <a:gs pos="50000">
                <a:srgbClr val="ccffcc"/>
              </a:gs>
              <a:gs pos="100000">
                <a:srgbClr val="a6b8a6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889280"/>
            <a:ext cx="48769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spcBef>
                <a:spcPts val="12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Tahoma"/>
              </a:rPr>
              <a:t>Identifica la ausencia de controles financieros y operativos en las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Tahoma"/>
              </a:rPr>
              <a:t>Permite una visión panorámica de las operaciones de las 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Tahoma"/>
              </a:rPr>
              <a:t>Identifica desviaciones de los proced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Tahoma"/>
              </a:rPr>
              <a:t>Identifica los procedimientos que sobran o que fal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spcBef>
                <a:spcPts val="12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Tahoma"/>
              </a:rPr>
              <a:t>Facilita el entendimiento de las recomendaciones del auditor al área audi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VALUACIÓN DE LOS SISTEMAS DE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990720"/>
            <a:ext cx="2819160" cy="1523880"/>
            <a:chOff x="304920" y="990720"/>
            <a:chExt cx="2819160" cy="1523880"/>
          </a:xfrm>
        </p:grpSpPr>
        <p:sp>
          <p:nvSpPr>
            <p:cNvPr id="105" name=""/>
            <p:cNvSpPr/>
            <p:nvPr/>
          </p:nvSpPr>
          <p:spPr>
            <a:xfrm>
              <a:off x="304920" y="990720"/>
              <a:ext cx="281916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06241">
                    <a:alpha val="50196"/>
                  </a:srgbClr>
                </a:gs>
                <a:gs pos="100000">
                  <a:srgbClr val="709a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6240" y="1143000"/>
              <a:ext cx="239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VENTAJAS DEL CONTROL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217400">
            <a:off x="1752120" y="2742840"/>
            <a:ext cx="762120" cy="2209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00">
              <a:alpha val="50000"/>
            </a:srgbClr>
          </a:solidFill>
          <a:ln w="0">
            <a:noFill/>
          </a:ln>
          <a:effectLst>
            <a:outerShdw dist="107932" dir="18900000" blurRad="0" rotWithShape="0">
              <a:srgbClr val="103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9:40:48Z</dcterms:created>
  <dc:creator>Dirección General de Sistemas</dc:creator>
  <dc:description/>
  <dc:language>en-US</dc:language>
  <cp:lastModifiedBy>Miguel Arroyo</cp:lastModifiedBy>
  <dcterms:modified xsi:type="dcterms:W3CDTF">2004-06-23T21:34:02Z</dcterms:modified>
  <cp:revision>488</cp:revision>
  <dc:subject/>
  <dc:title>Presentación de PowerPoint</dc:title>
</cp:coreProperties>
</file>