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9E4092B-2376-4A3B-A908-D3CE494DF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CF245A-5ACE-4F8D-8C7E-B6C55F862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B980B1F-C5ED-4393-AF68-2EF2BB9BF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D8B0FB2-6662-4BC9-BED5-194CAE624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CEA61-0E03-43BC-A836-6130C12DE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5436A-32BC-4D47-AF65-232F38212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D12B5-5BCD-437C-BEA0-40317D84F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7C422-544A-4F83-BD16-81B20C8D4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77E96-43BC-47BA-8273-EF195DACE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C6462-8AEC-4291-A018-70C5CC880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73B9E-5E20-4788-95AC-6C445FC03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5C3C3E-DEA3-4FE4-83A4-F3C6E405E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9F435-1D79-4DC2-B544-D047A3C17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87EA9-AEFF-4404-B717-EC635E9B9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C95B9-006A-47F4-8B91-1FDE44EBD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E9F79-1A28-4B4B-92B8-6E05357AC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90346-B462-4175-845C-48885C7DA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36E1AD-A856-478B-8A92-2CC6DC193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D14C62-2EEA-4D99-845C-7AD9985F1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D7A30D-B457-4E42-A56B-D131D997D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6C7E83-FC70-4A43-B8CC-7CB35E704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E0FE9F-9754-4A46-BC85-C7EFD8CA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EC99F0-4D87-47CE-AFF5-323F01D06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F2F221-FB91-4465-85D6-0834EA351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21EF-AB8F-42F3-8012-4624D6DCFA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5FD4-279F-44B1-9220-4EEEF7DBB7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404280"/>
            <a:ext cx="8229600" cy="5905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	</a:t>
            </a:r>
            <a:endParaRPr b="0" lang="en-US" sz="2800" spc="-1" strike="noStrike">
              <a:solidFill>
                <a:srgbClr val="ffffff"/>
              </a:solidFill>
              <a:latin typeface="Garamond"/>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Garamond"/>
              </a:rPr>
              <a:t>Diagnóstico de la situación actual sobre  la dependencia jerárquica y funciones  en los Órganos Internos de Control de las IES</a:t>
            </a:r>
            <a:endParaRPr b="0" lang="en-US" sz="3400" spc="-1" strike="noStrike">
              <a:solidFill>
                <a:srgbClr val="ffffff"/>
              </a:solidFill>
              <a:latin typeface="Garamond"/>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	</a:t>
            </a:r>
            <a:r>
              <a:rPr b="1" i="1" lang="en-US" sz="2500" spc="-1" strike="noStrike">
                <a:solidFill>
                  <a:srgbClr val="ffffff"/>
                </a:solidFill>
                <a:latin typeface="Garamond"/>
              </a:rPr>
              <a:t>M.C. MIGUEL ARROYO MARTINEZ</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Verdana"/>
              </a:rPr>
              <a:t>Conceptos fundamentales que debe cubrir la Contraloría Pública:</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Garamond"/>
              </a:rPr>
              <a:t>Cumplimiento de aspectos financieros</a:t>
            </a:r>
            <a:r>
              <a:rPr b="0" lang="en-US" sz="2800" spc="-1" strike="noStrike">
                <a:solidFill>
                  <a:srgbClr val="ffff00"/>
                </a:solidFill>
                <a:latin typeface="Garamond"/>
              </a:rPr>
              <a:t>.</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e comprende:</a:t>
            </a:r>
            <a:endParaRPr b="0" lang="en-US" sz="2800" spc="-1" strike="noStrike">
              <a:solidFill>
                <a:srgbClr val="ffffff"/>
              </a:solidFill>
              <a:latin typeface="Garamond"/>
            </a:endParaRPr>
          </a:p>
          <a:p>
            <a:pPr marL="609480" indent="-609480">
              <a:lnSpc>
                <a:spcPct val="80000"/>
              </a:lnSpc>
              <a:spcBef>
                <a:spcPts val="700"/>
              </a:spcBef>
              <a:buClr>
                <a:srgbClr val="ffffff"/>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 las operaciones financieras se conducen y realizan adecuadamente.</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Si los informes financieros que se generan se presentan razonablemente.</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Si los funcionarios responsables de los programas  hacen uso adecuado de los recurs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Si la entidad ha cumplido con la legislación y reglamentación vigen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1" lang="en-US" sz="2800" spc="-1" strike="noStrike" u="sng">
                <a:solidFill>
                  <a:srgbClr val="ffff00"/>
                </a:solidFill>
                <a:uFillTx/>
                <a:latin typeface="Garamond"/>
              </a:rPr>
              <a:t>Atención a la economía y la eficienc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idera si la entidad administra y utiliza sus recursos (humanos, financieros, técnicos y materiales) de manera económica y eficiente.</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	</a:t>
            </a:r>
            <a:r>
              <a:rPr b="1" lang="en-US" sz="2800" spc="-1" strike="noStrike" u="sng">
                <a:solidFill>
                  <a:srgbClr val="ffff00"/>
                </a:solidFill>
                <a:uFillTx/>
                <a:latin typeface="Garamond"/>
              </a:rPr>
              <a:t>Vigilancia de los resultados de programa</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etermina si se están logrando los resultados o beneficios deseados, que fueron establecidos al momento de ser fijados los objetivos, así como considerar las opciones que pueden lograr los resultados a menor cost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Verdana"/>
              </a:rPr>
              <a:t>   </a:t>
            </a:r>
            <a:r>
              <a:rPr b="0" lang="es-ES" sz="2700" spc="-1" strike="noStrike">
                <a:solidFill>
                  <a:srgbClr val="ffffff"/>
                </a:solidFill>
                <a:latin typeface="Verdana"/>
              </a:rPr>
              <a:t>RELACIÓN DE FUNCIONES DE LA CONTRALORÍA PÚBLICA.</a:t>
            </a:r>
            <a:endParaRPr b="0" lang="en-US" sz="2700" spc="-1" strike="noStrike">
              <a:solidFill>
                <a:srgbClr val="ffffff"/>
              </a:solidFill>
              <a:latin typeface="Garamond"/>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Practicar auditorías a obras y adquisiciones derivadas de los programas de inversión.</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Ejecutar auditorías especiales o las originadas por cualquier indicio del que pudieran derivarse irregularidades en perjuicio de los bienes del sector.</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Levantar actas e iniciar cuando proceda la formalización de pliegos de responsabilidad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rnvenir en los cambios de funcionarios de las diversas dependencias de la entidad pública, con el fin de supervisar el control de los bienes y valor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Sugerir medidas y programas para mejorar la eficiencia en las operaciones administrativas de la dependencia, como resultado de su actividad de auditoría operacion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Supervisar concursos que  se realizan para la adjudicación de contratos de obra dentro de la entidad. Efectuar visitas a las obras en proceso para auditar las operaciones respectivas, supervisando los aspectos financieros de los contratos de obra.</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Elaborar conjuntamente con la dependencia correspondiente, las actas de las construcciones y adquisiciones relativas.</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Revisar total o selectivamente las operaciones de la entidad, para estar en condiciones de emitir un dictamen sobre la razonabilidad de los estados financier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Verificar que el ejercicio del presupuesto asignado a cada dependencia se realice conforme a las disposiciones legales en vigor.</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erificar el estado que guardan los diversos fondos especiales, tales como revolventes, subsidios, ingresos y otr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Verificar el estado que guardan los registros contables y estados financieros de la dependenc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476280"/>
            <a:ext cx="8229600" cy="590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UDITORÍA.- Es la revisión y la supervisión sistemática de una actividad o grupo de actividad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UDITORÍA INTERNA.- Según el (IAI) la Auditoría Interna </a:t>
            </a:r>
            <a:r>
              <a:rPr b="0" i="1" lang="es-ES" sz="3200" spc="-1" strike="noStrike">
                <a:solidFill>
                  <a:srgbClr val="ffffff"/>
                </a:solidFill>
                <a:latin typeface="Garamond"/>
              </a:rPr>
              <a:t>“es un servicio a la organización, consistente en una valoración independiente de la actividad establecida dentro de la misma. Es el control que funciona por medio del examen y valoración de lo adecuado y efectivo de otros controles”.</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95280" y="475920"/>
            <a:ext cx="8229600" cy="554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i="1" lang="en-US" sz="3200" spc="-1" strike="noStrike">
                <a:solidFill>
                  <a:srgbClr val="ffffff"/>
                </a:solidFill>
                <a:latin typeface="Garamond"/>
              </a:rPr>
              <a:t>“Es aquella que se realiza dentro del ámbito de una organización o entidad, para dar un servicio a la misma y es realizada por personal que depende económicamente de dicha entida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EL MARCO CONCEPTUAL</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Contraloría en el sector privad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Contraloría en el sector público</a:t>
            </a:r>
            <a:endParaRPr b="0" lang="en-US" sz="2800" spc="-1" strike="noStrike">
              <a:solidFill>
                <a:srgbClr val="ffffff"/>
              </a:solidFill>
              <a:latin typeface="Garamond"/>
            </a:endParaRPr>
          </a:p>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uditoría Intern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uditoría Gubernamental</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ffffff"/>
                </a:solidFill>
                <a:uFillTx/>
                <a:latin typeface="Garamond"/>
              </a:rPr>
              <a:t>El alcance de la Auditoría Interna incluy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La revisión de la fiabilidad de la información financier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Revisar los sistemas establecidos para asegurar el cumplimiento con aquellas políticas, planes, procedimientos, leyes y regulaciones, que puedan tener un impacto significativo en las operaciones e inform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Revisar las medidas de salvaguardar activos y verificar la existencia de los mism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Valorar la economía y la eficacia  con que se emplean los recurs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68360" y="476280"/>
            <a:ext cx="8229600" cy="5905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Garamond"/>
              </a:rPr>
              <a:t>AUDITORÍA GUBERNAMENTAL</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Comprende el examen de las operaciones cualquiera que sea la  naturaleza de las dependencias de la administración pública, con el objeto de determinar si los estados financieros representan la situación financiera, si los objetivos y metas han sido alcanzados, si los recursos han sido administrados eficientemente, y si se han cumplido las disposiciones legales que están en vigo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ONCLUSIONES DEL ASPECTO CONCEPTUAL</a:t>
            </a: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Existe una </a:t>
            </a:r>
            <a:r>
              <a:rPr b="0" lang="es-ES" sz="2800" spc="-1" strike="noStrike" u="sng">
                <a:solidFill>
                  <a:srgbClr val="ffffff"/>
                </a:solidFill>
                <a:uFillTx/>
                <a:latin typeface="Garamond"/>
              </a:rPr>
              <a:t>Contraloría en el sector privado</a:t>
            </a:r>
            <a:r>
              <a:rPr b="0" lang="es-ES" sz="2800" spc="-1" strike="noStrike">
                <a:solidFill>
                  <a:srgbClr val="ffffff"/>
                </a:solidFill>
                <a:latin typeface="Garamond"/>
              </a:rPr>
              <a:t>, cuya función principal es la </a:t>
            </a:r>
            <a:r>
              <a:rPr b="1" lang="es-ES" sz="2800" spc="-1" strike="noStrike">
                <a:solidFill>
                  <a:srgbClr val="ffffff"/>
                </a:solidFill>
                <a:latin typeface="Garamond"/>
              </a:rPr>
              <a:t>implementación y ejecución</a:t>
            </a:r>
            <a:r>
              <a:rPr b="0" lang="es-ES" sz="2800" spc="-1" strike="noStrike">
                <a:solidFill>
                  <a:srgbClr val="ffffff"/>
                </a:solidFill>
                <a:latin typeface="Garamond"/>
              </a:rPr>
              <a:t> de los controles que requiere la empresa. La Auditoría Interna puede ser una de sus áreas. </a:t>
            </a: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Existe una </a:t>
            </a:r>
            <a:r>
              <a:rPr b="0" lang="es-ES" sz="2800" spc="-1" strike="noStrike" u="sng">
                <a:solidFill>
                  <a:srgbClr val="ffffff"/>
                </a:solidFill>
                <a:uFillTx/>
                <a:latin typeface="Garamond"/>
              </a:rPr>
              <a:t>Contraloría del sector gubernamental</a:t>
            </a:r>
            <a:r>
              <a:rPr b="0" lang="es-ES" sz="2800" spc="-1" strike="noStrike">
                <a:solidFill>
                  <a:srgbClr val="ffffff"/>
                </a:solidFill>
                <a:latin typeface="Garamond"/>
              </a:rPr>
              <a:t>, cuya función principal es la </a:t>
            </a:r>
            <a:r>
              <a:rPr b="1" lang="es-ES" sz="2800" spc="-1" strike="noStrike">
                <a:solidFill>
                  <a:srgbClr val="ffffff"/>
                </a:solidFill>
                <a:latin typeface="Garamond"/>
              </a:rPr>
              <a:t>valoración</a:t>
            </a:r>
            <a:r>
              <a:rPr b="0" lang="es-ES" sz="2800" spc="-1" strike="noStrike">
                <a:solidFill>
                  <a:srgbClr val="ffffff"/>
                </a:solidFill>
                <a:latin typeface="Garamond"/>
              </a:rPr>
              <a:t> del control interno aplicado y la </a:t>
            </a:r>
            <a:r>
              <a:rPr b="1" lang="es-ES" sz="2800" spc="-1" strike="noStrike">
                <a:solidFill>
                  <a:srgbClr val="ffffff"/>
                </a:solidFill>
                <a:latin typeface="Garamond"/>
              </a:rPr>
              <a:t>fiscalización</a:t>
            </a:r>
            <a:r>
              <a:rPr b="0" lang="es-ES" sz="2800" spc="-1" strike="noStrike">
                <a:solidFill>
                  <a:srgbClr val="ffffff"/>
                </a:solidFill>
                <a:latin typeface="Garamond"/>
              </a:rPr>
              <a:t> en términos de la aplicación de la normatividad y el cumplimiento de los objetivos.</a:t>
            </a: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La auditoría interna, externa o gubernamental  como actividad, es una herramienta de apoy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3628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ITUACIÓN ACTUAL DE LOS ÓRGANOS DE CONTROL EN LAS IES.</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	</a:t>
            </a:r>
            <a:r>
              <a:rPr b="0" lang="en-US" sz="2000" spc="-1" strike="noStrike" u="sng">
                <a:solidFill>
                  <a:srgbClr val="ffffff"/>
                </a:solidFill>
                <a:uFillTx/>
                <a:latin typeface="Garamond"/>
              </a:rPr>
              <a:t>Con relación a las Funciones que realizan y su designación </a:t>
            </a:r>
            <a:endParaRPr b="0" lang="en-US" sz="2000" spc="-1" strike="noStrike">
              <a:solidFill>
                <a:srgbClr val="ffffff"/>
              </a:solidFill>
              <a:latin typeface="Garamond"/>
            </a:endParaRPr>
          </a:p>
        </p:txBody>
      </p:sp>
      <p:graphicFrame>
        <p:nvGraphicFramePr>
          <p:cNvPr id="123" name=""/>
          <p:cNvGraphicFramePr/>
          <p:nvPr/>
        </p:nvGraphicFramePr>
        <p:xfrm>
          <a:off x="611280" y="2062080"/>
          <a:ext cx="7777080" cy="3598560"/>
        </p:xfrm>
        <a:graphic>
          <a:graphicData uri="http://schemas.openxmlformats.org/drawingml/2006/table">
            <a:tbl>
              <a:tblPr/>
              <a:tblGrid>
                <a:gridCol w="6192720"/>
                <a:gridCol w="1584360"/>
              </a:tblGrid>
              <a:tr h="112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1</a:t>
                      </a:r>
                      <a:r>
                        <a:rPr b="0" lang="en-US" sz="2000" spc="-1" strike="noStrike">
                          <a:solidFill>
                            <a:srgbClr val="ffffff"/>
                          </a:solidFill>
                          <a:latin typeface="Garamond"/>
                        </a:rPr>
                        <a:t>.- Órganos de Control que realizan funciones de </a:t>
                      </a:r>
                      <a:r>
                        <a:rPr b="0" lang="en-US" sz="2000" spc="-1" strike="noStrike" u="sng">
                          <a:solidFill>
                            <a:srgbClr val="ffffff"/>
                          </a:solidFill>
                          <a:uFillTx/>
                          <a:latin typeface="Garamond"/>
                        </a:rPr>
                        <a:t>contraloría pública</a:t>
                      </a:r>
                      <a:r>
                        <a:rPr b="0" lang="en-US" sz="2000" spc="-1" strike="noStrike">
                          <a:solidFill>
                            <a:srgbClr val="ffffff"/>
                          </a:solidFill>
                          <a:latin typeface="Garamond"/>
                        </a:rPr>
                        <a:t> y su designación es por una instancia distinta al Rec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9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Órganos de Control que realizan funciones de contraloría pública y su designación es por el Rec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7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Órganos de Control que realizan </a:t>
                      </a:r>
                      <a:r>
                        <a:rPr b="1" lang="en-US" sz="2000" spc="-1" strike="noStrike" u="sng">
                          <a:solidFill>
                            <a:srgbClr val="ffffff"/>
                          </a:solidFill>
                          <a:uFillTx/>
                          <a:latin typeface="Garamond"/>
                        </a:rPr>
                        <a:t>parcialmente</a:t>
                      </a:r>
                      <a:r>
                        <a:rPr b="0" lang="en-US" sz="2000" spc="-1" strike="noStrike">
                          <a:solidFill>
                            <a:srgbClr val="ffffff"/>
                          </a:solidFill>
                          <a:latin typeface="Garamond"/>
                        </a:rPr>
                        <a:t>   funciones de contraloría pública. Su designación puede ser o no del Rec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549000"/>
            <a:ext cx="8435880" cy="55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stadística General de la encuesta</a:t>
            </a:r>
            <a:endParaRPr b="0" lang="en-US" sz="2800" spc="-1" strike="noStrike">
              <a:solidFill>
                <a:srgbClr val="ffffff"/>
              </a:solidFill>
              <a:latin typeface="Garamond"/>
            </a:endParaRPr>
          </a:p>
        </p:txBody>
      </p:sp>
      <p:graphicFrame>
        <p:nvGraphicFramePr>
          <p:cNvPr id="125" name=""/>
          <p:cNvGraphicFramePr/>
          <p:nvPr/>
        </p:nvGraphicFramePr>
        <p:xfrm>
          <a:off x="611280" y="1341360"/>
          <a:ext cx="8281440" cy="4884480"/>
        </p:xfrm>
        <a:graphic>
          <a:graphicData uri="http://schemas.openxmlformats.org/drawingml/2006/table">
            <a:tbl>
              <a:tblPr/>
              <a:tblGrid>
                <a:gridCol w="1037160"/>
                <a:gridCol w="5731200"/>
                <a:gridCol w="795240"/>
                <a:gridCol w="717840"/>
              </a:tblGrid>
              <a:tr h="698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ncion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4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Realiza auditorías financiera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8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Realiza auditorías administrativa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Realiza auditorías de desempeñ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8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Realiza auditorías operaciona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Aplica procedimientos de responsabilidad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Participa en el comité de adquisiciones y obra públic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26" name=""/>
          <p:cNvGraphicFramePr/>
          <p:nvPr/>
        </p:nvGraphicFramePr>
        <p:xfrm>
          <a:off x="457200" y="274680"/>
          <a:ext cx="8229240" cy="5851080"/>
        </p:xfrm>
        <a:graphic>
          <a:graphicData uri="http://schemas.openxmlformats.org/drawingml/2006/table">
            <a:tbl>
              <a:tblPr/>
              <a:tblGrid>
                <a:gridCol w="1030680"/>
                <a:gridCol w="5695200"/>
                <a:gridCol w="789840"/>
                <a:gridCol w="713520"/>
              </a:tblGrid>
              <a:tr h="837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ncion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Participa en licitaciones de adquisiciones y obra públic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Recepciona y resuelve quejas y denuncia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5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Controla declaraciones patrimonia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Participa en procesos de entrega - recepció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Evalúa cualitativa y cuantitativamente los programas de la Universida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Promueve programas de modernización administrativ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27" name=""/>
          <p:cNvGraphicFramePr/>
          <p:nvPr/>
        </p:nvGraphicFramePr>
        <p:xfrm>
          <a:off x="539640" y="836640"/>
          <a:ext cx="8229600" cy="3343320"/>
        </p:xfrm>
        <a:graphic>
          <a:graphicData uri="http://schemas.openxmlformats.org/drawingml/2006/table">
            <a:tbl>
              <a:tblPr/>
              <a:tblGrid>
                <a:gridCol w="1030320"/>
                <a:gridCol w="5695920"/>
                <a:gridCol w="790560"/>
                <a:gridCol w="712800"/>
              </a:tblGrid>
              <a:tr h="83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ncion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Tiene a su cargo el Control presupuestal de la Universida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Tiene a su cargo el registro contable de la Universida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5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Tiene a su cargo el Control Patrimoni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1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Garamond"/>
              </a:rPr>
              <a:t>Reflexiones</a:t>
            </a:r>
            <a:endParaRPr b="0" lang="en-US" sz="28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Es un primer ejercicio de diagnóstico.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Se pretende perfeccionar el instrumento y determinar con mayor alcance y precisión la situación de las funciones que realizan  las contralorías de las Universidades.</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Se requiere de la participación de todos los miembros de la asociación para que en  los diagnósticos que se realicen se cuente la información suficiente.</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Garamond"/>
              </a:rPr>
              <a:t>Gracia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
          <p:cNvSpPr/>
          <p:nvPr/>
        </p:nvSpPr>
        <p:spPr>
          <a:xfrm>
            <a:off x="324000" y="549360"/>
            <a:ext cx="8496000" cy="640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EL DIAGNÓSTICO  DE  LA SITUACIÓN DE LAS UNIVERSIDAD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upo Uno.- Funciones totales de Contraloría Pública y  nombrados por órgano distinto al Rector.</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upo Dos.- Funciones totales de Contraloría Pública y  nombrados por Rector</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Grupo Tres.- Funciones parciales de Contraloría Públic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800" spc="-1" strike="noStrike">
                <a:solidFill>
                  <a:srgbClr val="ffffff"/>
                </a:solidFill>
                <a:latin typeface="Verdana"/>
              </a:rPr>
              <a:t>CONTRALORÍA EN EL SECTOR PRIVADO.</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NCIÓN:</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rresponde al Contralor la instauración, seguimiento, respeto y vigilancia de que el sistema de control interno sea el necesario y eficaz.</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La estructura de ideal de las Contralorías en el sector privado 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 </a:t>
            </a:r>
            <a:r>
              <a:rPr b="0" lang="en-US" sz="2800" spc="-1" strike="noStrike" u="sng">
                <a:solidFill>
                  <a:srgbClr val="ffff00"/>
                </a:solidFill>
                <a:uFillTx/>
                <a:latin typeface="Garamond"/>
              </a:rPr>
              <a:t>Área de Organización y Métodos</a:t>
            </a:r>
            <a:r>
              <a:rPr b="0" lang="en-US" sz="2800" spc="-1" strike="noStrike">
                <a:solidFill>
                  <a:srgbClr val="ffff00"/>
                </a:solidFill>
                <a:latin typeface="Garamond"/>
              </a:rPr>
              <a:t>.-</a:t>
            </a:r>
            <a:r>
              <a:rPr b="0" lang="en-US" sz="2800" spc="-1" strike="noStrike">
                <a:solidFill>
                  <a:srgbClr val="ffffff"/>
                </a:solidFill>
                <a:latin typeface="Garamond"/>
              </a:rPr>
              <a:t>  Se le encarga la  elaboración de Manuales de organización, de sistemas y procedimientos en los que invariablemente se incluyan temas relativos al control interno a observar en las funciones y actividades que regulan y norman tales manual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00"/>
                </a:solidFill>
                <a:uFillTx/>
                <a:latin typeface="Garamond"/>
              </a:rPr>
              <a:t>Área de Contabilidad General</a:t>
            </a:r>
            <a:r>
              <a:rPr b="0" lang="en-US" sz="2800" spc="-1" strike="noStrike">
                <a:solidFill>
                  <a:srgbClr val="ffffff"/>
                </a:solidFill>
                <a:latin typeface="Garamond"/>
              </a:rPr>
              <a:t>.-  Capta, compendia, registra e informa todos los resultados de operación de una entidad por un período dado; dice cual es la situación financiera a una fecha dada.</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u="sng">
                <a:solidFill>
                  <a:srgbClr val="ffff00"/>
                </a:solidFill>
                <a:uFillTx/>
                <a:latin typeface="Garamond"/>
              </a:rPr>
              <a:t>Área Contabilidad de Costos.-</a:t>
            </a:r>
            <a:r>
              <a:rPr b="0" lang="en-US" sz="2800" spc="-1" strike="noStrike">
                <a:solidFill>
                  <a:srgbClr val="ffffff"/>
                </a:solidFill>
                <a:latin typeface="Garamond"/>
              </a:rPr>
              <a:t>  Captación, compendio, derrama, registro e informe de los costos de producción.  Informa del costo unitario de fabricación, las desviaciones o variaciones a los costos estimados o previst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CONTRALORÍA EN EL SECTOR PÚBLICO</a:t>
            </a:r>
            <a:r>
              <a:rPr b="0" lang="en-US" sz="2800" spc="-1" strike="noStrike">
                <a:solidFill>
                  <a:srgbClr val="ffffff"/>
                </a:solidFill>
                <a:latin typeface="Verdana"/>
              </a:rPr>
              <a: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t>
            </a:r>
            <a:r>
              <a:rPr b="0" i="1" lang="en-US" sz="3200" spc="-1" strike="noStrike">
                <a:solidFill>
                  <a:srgbClr val="ffffff"/>
                </a:solidFill>
                <a:latin typeface="Garamond"/>
              </a:rPr>
              <a:t>Es la consecución del control interno de la contabilidad gubernamental y la verificación de la cifras de la información financiera, presupuestal, programática y económica de las dependencias y entidades de la administración públic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La contraloría pública es el conjunto de funciones que se desempeñan para vigilar, evaluar y coordinar el control interno de las operaciones de presupuestos, financieras y de program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2T04:03:34Z</dcterms:created>
  <dc:creator>Miguel Arroyo</dc:creator>
  <dc:description/>
  <dc:language>en-US</dc:language>
  <cp:lastModifiedBy>Proteo</cp:lastModifiedBy>
  <dcterms:modified xsi:type="dcterms:W3CDTF">2004-07-01T15:18:56Z</dcterms:modified>
  <cp:revision>11</cp:revision>
  <dc:subject/>
  <dc:title>Diapositiva 1</dc:title>
</cp:coreProperties>
</file>