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820275"/>
  <p:custShowLst>
    <p:custShow name="conacytdg" id="0">
      <p:sldLst>
        <p:sld r:id="rId5"/>
        <p:sld r:id="rId6"/>
        <p:sld r:id="rId7"/>
        <p:sld r:id="rId9"/>
        <p:sld r:id="rId10"/>
        <p:sld r:id="rId11"/>
        <p:sld r:id="rId12"/>
        <p:sld r:id="rId13"/>
        <p:sld r:id="rId22"/>
        <p:sld r:id="rId21"/>
        <p:sld r:id="rId15"/>
        <p:sld r:id="rId16"/>
        <p:sld r:id="rId17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09E-4CB6-4F66-99CB-49CAED88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C28-AF16-4D0A-82F9-A467D207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B4F-B54F-4959-8174-95E321CF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543-A6D1-49AF-9176-6FE6DE84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7652-D56E-4F7E-84C5-A02C331E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40A2-8183-4EFA-9A9E-32C5CC0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7425-D184-4610-9776-BBBA22E2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BFF2-6CC6-45EB-80B8-8B423D44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53FD-BFAF-42F8-8D00-7242272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E7B1-7B23-4AE0-A62A-18A596A5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3CE-D69B-43A7-B273-7A811347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D69-0EA3-4041-973E-20B2D1A6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A31-2115-497E-90D5-E5AE943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53E-F861-4A65-AF70-D6A001D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0447-4BED-4499-B7B1-0FBE4EF1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FA3-D21F-4382-B4C3-7C866B3D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A43C-1C25-40F5-8EE2-2E047406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1C0-20C7-4A1E-856D-1B59B0C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D8F-F394-40E7-BDE0-FC782A1F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F83-3BA2-4B9F-B651-7B2E886B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4EE-4E0A-454E-A4EF-0A90734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4DB-49D0-4419-B491-7BC534B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A57-F823-4190-B019-FFA397D6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F53-FDA6-4D41-9A30-AF6EDC2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33D-5255-4664-AA44-0C7FC6513BE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E5F-8953-40CE-AE89-22CA6F6E188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0"/>
            <a:ext cx="8893440" cy="61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s-ES_tradnl" sz="3100" spc="-1" strike="noStrike">
                <a:solidFill>
                  <a:srgbClr val="ccecff"/>
                </a:solidFill>
                <a:latin typeface="Tahoma"/>
              </a:rPr>
              <a:t>ASOCIACION MEXICANA DE ORGANOS DE CONTROL Y VIGILANCIA EN INSTITUCIONES DE EDUCACION SUPERIOR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(AMOCVI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99ccff"/>
                </a:solidFill>
                <a:latin typeface="Tahoma"/>
              </a:rPr>
              <a:t>XV ASAMBLEA ORDINA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ff"/>
                </a:solidFill>
                <a:latin typeface="Tahoma"/>
              </a:rPr>
              <a:t>CHETUMAL, Q.R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ff"/>
                </a:solidFill>
                <a:latin typeface="Tahoma"/>
              </a:rPr>
              <a:t>24 DE JUNIO DE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AUDITORIA AL DESEMPEÑO Y SU EFECTO EN LA FISCALIZACION DE LAS CUENTAS PUBLIC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ff"/>
                </a:solidFill>
                <a:latin typeface="Tahoma"/>
              </a:rPr>
              <a:t>C.P.C. ALEJANDRO FRANK DIA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A50-B125-46B2-8D69-D1665F614BD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333360"/>
            <a:ext cx="79246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DOS Y POSICION FINANCIERA DE LOS PROGRAM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UDITORIA DE ESTADOS FINANCIERO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O EN EL QUE SE HA LOGRADO UN AMBIENTE ORGANIZACIONAL ADECUA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ON DE SUS ACTIVOS CONTRA RIESGOS (NO SOLO LOS FISICOS, SINO SU PERSONAL CLAVE, INFORMACION, SISTEMAS, ETC.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UIMIENTO A LOS ASPECTOS CRITICOS EN EL DESEMPEÑO DE LA ENTIDAD.(AUDITORIA AL DESEMPEÑO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 ESTA INFORMACION DEBE SUJETARSE A UN PROCESO DE EVALUACION INDEPENDIENTE PARA DARLE CREDIBILIDAD A LA MISMA Y CONFIANZA A LOS USUARIOS DE ESA INFORMACION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562720"/>
            <a:ext cx="7925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AUDITORIA INTEGRAL AGREGA ESE ELEMENTO DE CREDIBILIDAD A LA INFORMACION SOBRE LA GESTION PUBL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8E5-AC2D-4562-BFCE-A511433DB0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61080" y="33192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TIVOS DE LA AUDITORIA INTEG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0666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BJETIVO GENERICO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R EL GRADO Y FORMA DE CUMPLIMIENTO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LA ENTIDAD CON SU OBJETIVO SOCIA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34936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BJETIVOS ESPECIFICO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R EL GRADO EN QUE LOS RECURSOS HUMANOS,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ES Y FINANCIEROS SON ADMINISTRADOS C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ACIA, EFICIENCIA Y ECONOMIA (EEE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R EL GRADO Y FORMA EN QUE LA ADMINISTRACION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LA ENTIDAD ESTA CUMPLIENDO CON LA RESPONSABILIDA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INFORMAR SOBRE EL RESULTADO DE LA GESTION QU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UE CONFERIDA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R EL GRADO DE CUMPLIMIENTO CON LA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OSICIONES LEGALES Y REGLAMENTARIA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LICABLES A LA ENTIDAD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5146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07A-39B5-476A-A56F-FFF6F33E5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DITORIA INTEGRA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O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049400"/>
            <a:ext cx="830592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523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FICACIA: (LOGRO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37016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ADO  EN  EL  CUAL SE LOGRAN LAS METAS O LO QUE SE PRETENDIA CON ALGUNA ACCION O PROGRAMA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049400"/>
            <a:ext cx="0" cy="1600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895480"/>
            <a:ext cx="83059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365640"/>
            <a:ext cx="1752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FICIENCIA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HACER MAS CON MENOS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106800"/>
            <a:ext cx="647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TENER LA MEJOR RELACION ENTRE PRODUCCION E INSUMOS;  ES   DECIR, PRODUCIR  EL MAXIMO DE BIENES Y  SERVICIOS  DADA  CIERTA  CANTIDAD DE INSUMOS O CONSUMIR EL MINIMO DE  INSUMOS ANTE  UNA  CANTIDAD  DADA  DE  PRODUCCION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895480"/>
            <a:ext cx="0" cy="1905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105520"/>
            <a:ext cx="830592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05520"/>
            <a:ext cx="0" cy="1600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6320" y="5365800"/>
            <a:ext cx="14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CONOMI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INIMO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STO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540864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QUIRIR RECURSOS EN LA CANTIDAD Y CALIDAD REQUERIDAS AL MENOR COSTO POSIBLE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201-46AB-4FBB-9CAF-3D82AD4083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219320"/>
            <a:ext cx="7467840" cy="29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CRITERIOS DE EVALUACIO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LOS CRITERIOS DE EVALUACION EN LA AUDITORIA INTEGRAL SE DEFINEN COMO LAS NORMAS O ESTANDARES CONTRA LAS CUALES SE COMPARA EL DESEMPEÑO DE UNA ORGANIZACIÓN EN EL CUMPLIMIENTO CON LOS OBJETIVOS, EN LA RELACION CON SU ENTORNO Y EN EL GRADO DE EFICACIA, EFICIENCIA Y ECONOMIA, LOGRADO EN SUS OPERACION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648320"/>
            <a:ext cx="7620120" cy="1167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INDICADORES DE GESTIO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LOS INDICADORES DE GESTION SON MEDIDAS CONCRETAS DE DESEMPEÑO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049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CRITERIOS DE EVALUACION E INDICADORES DE GESTION EN LA AUDITORIA INTEG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A6C-E249-4251-A0D1-4483BAF81E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990720"/>
            <a:ext cx="7467840" cy="214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ONCEPTO DE AUDITORIA INTEG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ES LA EVALUACION MULTIDISCIPLINARIA, INDEPENDIENTE Y CON ENFOQUE DE SISTEMAS DEL GRADO Y FORMA DEL CUMPLIMIENTO DE LOS OBJETIVOS DE UNA ORGANIZACIÓN DE LA RELACION CON SU ENTORNO ASI COMO DE SUS OPERACION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3500280"/>
            <a:ext cx="7620120" cy="2778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FASES DE LA AUDITORIA INTEG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I. ANALISIS GENERAL Y DIAGNOST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II. PLANEACION ESPECIF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III. EJECUC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IV. INFORME DE LA AUDITORIA INTEG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DISEÑO, IMPLANTACION Y EVALUAC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UDITORIA INTEG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273-FEEA-4A9C-8415-558B977C41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42920" y="2852640"/>
            <a:ext cx="433440" cy="217440"/>
          </a:xfrm>
          <a:prstGeom prst="ellipse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84640"/>
            <a:ext cx="2303280" cy="86364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CEPTOS FUNDAMENTALES D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EE Y RENDICION DE CUENTA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907920"/>
            <a:ext cx="2808360" cy="15843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LAN ESTRATEGIC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CRETO DE CREACIO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OTROS DOCUMENTOS BASIC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RMATIVIDAD INTERN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2637000"/>
            <a:ext cx="4032000" cy="57600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DENTIFICACION DE LA MISION, VISION, VALORES,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OBJETIVOS Y META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33360"/>
            <a:ext cx="2160360" cy="50472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STUDIO  INICIAL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907920"/>
            <a:ext cx="2808000" cy="151308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LAN NACIONAL DE DESARROLL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LAN SECTORIAL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OTROS DOCUMENT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FUNDAMENTALES DEL GOBIERN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RMATIVIDAD EXTERN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3500280"/>
            <a:ext cx="4103640" cy="64944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DENTIFICACION DE LOS FACTORES CRITICOS D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EMPEÑO Y DE LOS INDICADORES DE GESTIO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5229360"/>
            <a:ext cx="4176720" cy="5745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NALISIS DE SU SISTEMA DE RENDICION DE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NTA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4437000"/>
            <a:ext cx="4176720" cy="5745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NLISIS, COMPARACION Y EVALUACION DE SU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6021360"/>
            <a:ext cx="4105440" cy="69228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ARROLLO DE ORTUNIDAES PARA MEJORAR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L DESEMPEÑO Y FORMULACION DEL INFORM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4653000"/>
            <a:ext cx="2374920" cy="5763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TERMINACION DE LOS CRITERI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 EVALUACION A APLICAR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836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170028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149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5229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638172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551664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4149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242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9640" y="522936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2492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3068640"/>
            <a:ext cx="433440" cy="216000"/>
          </a:xfrm>
          <a:prstGeom prst="ellipse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5877000"/>
            <a:ext cx="433080" cy="216000"/>
          </a:xfrm>
          <a:prstGeom prst="ellipse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4941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500280"/>
            <a:ext cx="4103640" cy="64944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DENTIFICACION DE LOS FACTORES CRITICOS D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EMPEÑO Y DE LOS INDICADORES DE GESTIO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32220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AGRAMA CONCEPTU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UDITORIA INTEGR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SERVICIO MULTIDISCIPLINARIO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LO LO PUEDEN PREST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SPECIALISTA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– ACADEM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QUE – REQUIERE NORM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IEN LAS IMPONE – AMDA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D1C-2249-4289-8A19-CF32A71932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1341360"/>
            <a:ext cx="84960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LAS  NORMAS DE AUDITORIA INTEGRAL TIENEN COMO OBJETIVO: ESTABLECER LOS REQUISITOS PERSONALES Y TECNICOS DE QUIEN EJERZA LA FUNCION, ESTABLECER CRITERIOS GENERALES PARA GUIAR  Y EVALUAR LA PRACTICA DE ESTA AUDITORI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1.  NORMAS GENERA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2.  NORMAS PARA LA EJECUCION DE LA AUDITORIA INTEG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3.  NORMAS PARA LA PREPARACION DE INFORMES D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RESULT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4.  NORMAS PARA EL DISEÑO, IMPLANTACION Y EVALUACION D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LAS RECOMENDACIONES RESULTANTES DE LA AUDITOR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INTEG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3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NORMAS DE AUDITORIA INTEG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F1E-1171-402A-A510-C1FBE9BDB5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1484280"/>
            <a:ext cx="8208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GINALMENTE SE APLICO EN EL SECTOR PUBL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TERMINO DE AUDITORIA COMPREHENSIVA SURGE EN CANA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8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FUNDA  LA CCAF/(1980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CANADIAN COMPREHENSIVE AUDITING FOUND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FOUNDATION CANADIENNE POUR LA VERIFICATION INTEGRE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MEXICO A PARTIR DE LA SECOGEF (1989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DACION DE LA ACADEMIA MEXICANA DE AUDITORIA INTEGRAL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94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AUDITORIA INTEG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963-11DA-44B6-A15B-1EADDB0E810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893080" cy="63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ACADEMIA MEXICANA DE AUDITORIA INTEGRAL, A.C., INCLUYE COMO MIEMBROS INSTITUCIONALES A LAS SIGUIENTES ORGANIZACIONES DE PROFESIONALES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OCIACION NACIONAL DE FACULTADES Y ESCUELAS DE CONTADURIA Y ADMINISTRACION (ANFECA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A MEXICANA, COLEGIO DE ABOGADOS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ARA NACIONAL DE EMPRESAS EN CONSULTORIA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EGIO DE ARQUITECTOS DE LA CIUDAD DE MEXICO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EGIO DE CONTADORES PUBLICOS DE MEXICO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EGIO DE INGENIEROS CIVILES DE MEXICO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EGIO NACIONAL DE ECONOMISTAS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DERACION DE COLEGIOS DE LICENCIADOS EN ADMINISTRACION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O MEXICANO DE CONTADORES PUBLICOS, A.C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O DE CAPACITACION Y DESARROLLO EN FISCALIZACION SUPERI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6D3-C026-4785-8FA5-F89898FE460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-7452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dd7e5"/>
                </a:solidFill>
                <a:uFillTx/>
                <a:latin typeface="Tahoma"/>
              </a:rPr>
              <a:t>FUNDA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9080" indent="-289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ahoma"/>
              </a:rPr>
              <a:t>DOS PRINCIPIOS UNIVERSALES DE ADMINISTRACION PUBLIC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60680"/>
            <a:ext cx="7696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  EL GOBIERNO DEBE CONDUCIRSE DE TAL FORMA QUE SE LOGRE LA MEJOR APLICACION DE LOS FONDOS PUBLICO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TENIENDO LOS OBJETIVOS QUE SE PRETENDEN,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RCIONANDO SERVICIOS PUBLICOS EFICACES, EFICIENTES Y ECONOMICOS,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EGANDOSE A LA LEY Y A LA ETIC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495680"/>
            <a:ext cx="7620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. LOS SERVIDORES PUBLICOS DEBEN RENDIR CUENTAS POR EL MANEJO PRUDENTE Y EFECTIVO DE LOS RECURSOS PUBLICOS QUE SE LES HAN CONFIADO Y DEBEN DEMOSTRAR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42F-B4AA-4EEA-A51D-E5FE0CC02C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31640" y="260280"/>
            <a:ext cx="8244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AMDAI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DICADA BASICAMENTE A LA INVESTIGACION Y PROMOCION DE ESTOS SERVICIOS PROFESION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OYO DECIDIDO PARA DIVULGAR LA NECESIDAD DE ESTE SERVICIO PROFESIONAL EN TODOS LOS SECTO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ITIO SU PROPIO CODIGO DE ETICA PROFES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417-E714-47EE-A789-BEC367750F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AMDAI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1480" y="2133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216080"/>
            <a:ext cx="85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OLETIN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EPTOS DE LA A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ALISIS GENERAL Y DIAGNOST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RMAS DE A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LANEACION ESPECIFI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ITERIOS DE EVALUACION E INDICADORES DE GES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, IMPLANTACION Y EVALUAC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EPTO DE LA 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509-38A6-48D3-9C97-A1922519F3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AMDAI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628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UIA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CION DE LOS RECURSOS HUMA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UIA DE CARÁCTER LEGAL PARA LA A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CION Y EJECUCION DE PROYECTOS DE INGENIE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I A PROYECTOS DE INVERSION EN OBRA PUBLI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4880" y="4456080"/>
            <a:ext cx="59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RSOS Y CONFERENCIAS DIVERS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PLOMADOS – UNIVERSID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20A-BAAC-4E0A-AF11-F1726295F5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TIEMPOS ACTUALES SE CARACTERIZAN POR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1640" y="1125360"/>
            <a:ext cx="882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LUCHA PARA LA OBTENCION DE CAPITALES – L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VERSIONISTAS SON MAS EXCEPTICOS Y CAUT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DEMOCRACIA COMO CONCEPTO DE ORGANIZACIÓN SO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N A ESTABLECER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1800" y="404028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FECTAN 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465300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CTOR PUBLICO (OBLIGATORIO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CTOR PRIVA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CTOR SO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90160" y="3213000"/>
            <a:ext cx="73422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ULTURA DE LA RENDICION DE CUENTAS”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B90-3861-4CB3-8009-93A2622E1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3720" y="260280"/>
            <a:ext cx="8415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EMPRESAS PRIVADAS Y EL SECTOR PUBLICO REQUIER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071440"/>
            <a:ext cx="7342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UNA EVALUACION DE SU ACTUACION Y EVOLUCI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LEMENTARIA DE LA AUDITORIA DE EST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NANCIEROS, QUE PERMITA CONOC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" y="4365720"/>
            <a:ext cx="411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UESTA E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AUDITORIA INTEGRAL Ó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AUDITORIA AL DESEMPEÑ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4360" y="3357720"/>
            <a:ext cx="763092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CUMPLEN CON LOS OBJETIVOS PARA LOS QUE FUERON CREADAS “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2C0-E272-4F7F-B93E-382B805506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360" y="25992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INFORMACION FINANCIERA Y PRESUPUESTAL ES INDISPENSABLE, PER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NO ES SUFICIENTE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E REQUIERE CONOCER E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EMPEÑO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 LAS ORGANIZACION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3F1-039A-4B9C-952A-81D2F59148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960" y="189000"/>
            <a:ext cx="842004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ARENCIA EN LA INFORMACION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STICA INDISPENSABLE PAR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GENERAR CONFIANZ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ANTE LA SOCIEDAD Y TERCE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7E4-B241-4264-8A33-69E10EF5DC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1440" y="333000"/>
            <a:ext cx="9144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SPONIBILIDAD Y TRASMISION DE RECURSOS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7840" y="1981080"/>
            <a:ext cx="828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DEMAS DE LOS RECURSOS FINANCIEROS MUNDIALES Y EN MEXICO SON ESCASOS Y SOLO LOS RECIBIRAN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5320" y="3500280"/>
            <a:ext cx="729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ENES SEAN “TRANSPARENTES” EN SUS                                INFORM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MPLAN LOS REQUISITOS DE “GOBERNABILIDAD”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D60-9F39-4837-A3F9-8DFE0394C4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ARTICIPANTES DEL PROCESO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6000" y="2133720"/>
            <a:ext cx="824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MANDA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– OBJETIVOS A ALCANZ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MANDA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– AUTORIZA O APORTA LOS RECURS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MANDA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– QUIEN LO EJECUTA PARA ALCANZAR LOS OBJETIV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AC7-775C-440C-A966-1873223EDC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¿QUE ES EL DESEMPEÑO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2072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MEDICION DEL RESULTADO DE LAS ACCIONES EMPRENDIDAS POR UNA ENTIDAD PARA LOGRAR SUS OBJETIV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STUDI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357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TEXTO EN QUE SE ACTU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ACTUACION DE LOS MANDATARI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RESULTADOS ALCANZ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26920" y="4869000"/>
          <a:ext cx="8066160" cy="129636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12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OSTULADO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DAS LAS MISMAS CIRCUSTANCIAS, EL DESEMPEÑO DE LOS ACTORES, PRODUCE RESULTADOS DIFERENT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E3B-7340-4848-9A0D-F4CDF75A4A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 E C E S I D A D E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7944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RECIMIENTO DE LAS DEMANDAS DE LA POBLACION SOBREPASA AL INCREMENTO DE LOS INGRESOS TRIBUTARIOS PARA CUBRIRL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879640"/>
            <a:ext cx="769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CONSECUENCIA, EL GOBIERNO DEBE SER MUY CUIDADOSO EN DECIDIR LA PRIORIDAD DE LAS  NECESIDADES QUE DEBE ATENDER Y LA PROPORCION QUE DEBE ASIGNAR A LOS RECURSOS PUBLIC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937040"/>
            <a:ext cx="7620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STAS DECISIONES, EL GOBIERNO DEBE APLICAR LOS FONDOS PUBLICOS CON EFICACIA, EFICIENCIA Y ECONOMIA, Y DEBE INFORMAR Y DEMOSTRAR QUE ASI LO HIZ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E87-C1E9-4B2A-8AC1-CAD6246A9E6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8713800" cy="58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DIFERENCIA ENTRE AUDITORÍA  INTEGRAL Y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AUDITORÍA AL DESEMPEÑO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LA DIFERENCIA ENTRE AMBAS ES DE GRADO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LA AI TIENE UN ENFOQUE MÁS AMPLIO QUE LA EVALUACIÓN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DEL DESEMPEÑO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OTRAS: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LA DETERMINACIÓN DE DEFICIENCIAS OPERATIVAS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INTERNAS ES MAS LIMITADA EN LA AD, PUES EN ELLA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SOLO TIENEN RELEVANCIA CUANDO SON UN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OBSTACULO 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PARA   EL   LOGRO   DE   METAS  DE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DESEMPEÑO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LA AD NO NECESARIAMENTE BUSCA LOCALIZAR AMENAZAS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DEL  ENTORNO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LA AD CONCLUYE CON EL RESULTADO DE SUS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EVALUACIONES Y LA AI CULMINA CON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RECOMENDACIONES DE MAS AMPLIO ALCANCE PARA LA  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MEJORIA DE LA GESTION. 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CB7-B21B-4A04-BC19-06502B60C5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47628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836640"/>
            <a:ext cx="784872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LA AUDITORIA AL DESEMPEÑO (AD) E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EVALUACION DE LA ACTUACION DE UNA ENTIDAD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 LA LUZ DE FACTORES DE DESEMPEÑ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 CRITERIOS DE EFICACIA, EFICIENCIA Y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CONOM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SE CONSIDERAN CRITIC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CUMPLIR CON SU MIS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N LOS TERMINOS DE SU VISION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F8E-ED2F-4EEC-A369-0FD6875D96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1052640"/>
            <a:ext cx="81356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ASES DE LA AUDITORIA AL DESEMPEÑO Y METODOLOGIA (PROCEDIMIENTOS) APLIC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C06-F92E-4369-8260-617AB303A4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42920" y="2852640"/>
            <a:ext cx="433440" cy="217440"/>
          </a:xfrm>
          <a:prstGeom prst="ellipse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213000"/>
            <a:ext cx="2016000" cy="7923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FUNDAMENTALES DE EEE Y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 RENDICION DE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NTA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DIAGRAMA CONCEPTUAL DE AUDITORIA AL DESEMPEÑO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1628640"/>
            <a:ext cx="2232000" cy="7905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STATU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RMATIVIAD INTERN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LAN ESTRATEGIC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2276640"/>
            <a:ext cx="1944360" cy="72072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DENTIDAD DE L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SION, VISION, VALORES,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Y OBJETIV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619200"/>
            <a:ext cx="2160360" cy="108108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STUDIO INICIAL DE L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NTIDAD; OPERACIÓN,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ECURSOS,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ORGANIZACIO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557360"/>
            <a:ext cx="2376360" cy="7905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NTORNO EXTERN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RMATIVIDAD EXTERN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GOBIERNO CORPORATIV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141720"/>
            <a:ext cx="2089080" cy="93672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DENTIFICACION DE L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FACTORES CRITICOS D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EMPEÑO Y DE L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NDICADORES DE GESTIO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ELATIV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19640" y="5084640"/>
            <a:ext cx="1944360" cy="64800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NALISIS DE SU SISTEM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 RENDICION D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NTA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4221000"/>
            <a:ext cx="1873080" cy="71928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NALISIS, COMPARACIO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Y EVALUACION DE SU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5877000"/>
            <a:ext cx="2303280" cy="90792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SARROLLO DE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OPORTUNIDADES PAR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JORAR EL DESEMPEÑO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Y FORMULACION DEL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INFORME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360" y="4653000"/>
            <a:ext cx="2303640" cy="576360"/>
          </a:xfrm>
          <a:prstGeom prst="rect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ETERMINACION DE LOS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RITERIOS DE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VALUACION A APLICAR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17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198900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29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4076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4941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5734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5229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6381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544500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400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39640" y="522936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40720" y="242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4720" y="3068640"/>
            <a:ext cx="433440" cy="216000"/>
          </a:xfrm>
          <a:prstGeom prst="ellipse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877000"/>
            <a:ext cx="433080" cy="216000"/>
          </a:xfrm>
          <a:prstGeom prst="ellipse">
            <a:avLst/>
          </a:prstGeom>
          <a:solidFill>
            <a:srgbClr val="0d92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818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EE= EFICACIA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FICIENCIA Y ECONOMIA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287280"/>
            <a:ext cx="82090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ASE I 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STUDIO INIC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OCIMIENTO DE LA ENTI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DENTIFICACION DE LA MISION, VISION, VALORES Y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DENTIFICACION PRELIMINAR DE LOS FAC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ITICOS DE   DESEMPEÑO (FCD) Y DE 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DICADORES DE DESEMPEÑO  (ID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ASE II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 PLANEAC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DENTIFICACION DE LAS AREAS , PROGRAMAS,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S O PROCESOS QUE SE CONSIDERAN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ITICOS PARA LA AUDITORI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FINICION DE LOS FC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EPARACION DE LOS PROGRAMAS DE TRABAJ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" y="373680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8FE-0075-447E-9645-403D0B1059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836640"/>
            <a:ext cx="748836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ASE III  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JECUCION DE LA AUD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NALISIS, COMPARACION Y EVALUACION DEL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ASE IV  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FORME DE AUD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SUMIR CONCLUSIONES E IDENTIFICAR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UNTOS  A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PORT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N SU CASO, DESARROLLO DE ALTERNATIVA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 LA  SOLUCION  DE  LOS   PROBLEMAS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TECT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8F3-6DAD-4769-9A0C-4E470AEA59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496360" cy="57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AD EN EL SECTOR PRIVAD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 PRACTICA TAMBIEN DEBE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GENERALIZARSE,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MPEZANDO POR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COMPAÑIAS PUBL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BE INCORPORARSE EN EL”CODIGO DE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JORES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ACTICAS CORPORATIVAS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015-E23A-4646-A959-6B0EFA177B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549360"/>
            <a:ext cx="8569440" cy="57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D EN ELSECTOR PUBLI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MPROMISO DE ”TRANSPARENCIA”  IMPLICA L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RENDICION DE CUENTAS”, QUE NECESARIAMENT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BE INCLUIR  EL  CONCEPTO  DEL   DESEMPEÑ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ISTE LA OBLIGACION LEGAL DE INFORMAR SOBRE EL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SEMPEÑO   DEL   SECTOR   CENTRAL  Y   PARAESTATAL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  TODOS  LOS   NIVELES   DE   GOBIERNO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T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UNICIP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FF1-1FF7-4658-8032-3BE790BFA7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11280" y="620640"/>
            <a:ext cx="763272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D EN EL SECTOR PUBLICO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UDITORIA SUPERIOR DE LA FEDERACION – LA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ACTICA REGULARMEN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OBIERNO FEDERAL – PRUEBAS PILOTO DE LA SFP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OBIERNOS ESTATALES – DIPLOMADOS PARA 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TRALORES ESTATA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OBIERNOS MUNICIPALES – SIN AVANC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3A6-88EF-4D91-9BA7-541308F946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68360" y="476280"/>
            <a:ext cx="8136000" cy="66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D EN LAS U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IVERSIDADES   E   INSTITUCIO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    EDUCACION    SUPERI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MOCVIES                         AMDAID            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465300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8B0-5B64-4AAB-8079-720AE64EC3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1389240"/>
            <a:ext cx="6553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 VEZ MAS LA POBLACION DEMANDA DICHA INFORMACION Y DESEA SEGURIDAD DE QUE ES CORRECTA Y COMPLE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919680"/>
            <a:ext cx="71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LO DA ORIGEN A UNA NUEVA DISCIPLINA DE AUDITORIA QUE EN FORMA INDEPENDIENTE AL GOBIERNO EVALUE E INFORME:  LA AUDITORIA INTEG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29A-FB5D-4331-8662-BF029A680A7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71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LABORACION DE AMDAID-AMOCV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ACADEMIA MEXICANA DE AUDITORIA INTEGRAL Y AL DESEMPEÑO ,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DEMAS  DE PROPONER LA INSTITUCIONALIDAD DE DICHA DISCIPLINA,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 CADA UNIVERSIDAD  OFRECE COLABORAR  CON  LA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UNIVERSIDADES Y LA AMOCVIES    PARA APOYAR SUS FUNCIONES;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CRETAMENTE EN ACTIVIDADES TALES  COMO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MPARTICION DE CONFERENCIAS, CURSOS Y DIPLOMADOS A SU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SONAL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VESTIGACIONES ESPECIFICAS E INDEPENDIENTES (EN EL PAI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Y EN EL EXTRANJERO) SOBRE TEMAS DE INTERES PARA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MBAS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PROMOCIÓN DE LA ADOPCION DEL CODIGO DE ETICA Y DE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EJORES PRACTICAS UNIVERSITARIAS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UDIO Y ANALISIS CONJUNTO DE FUNCIONES U OPERACIONES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UNIVERSITARIAS,   QUE   PUDIERAN     DESEMBOCAR   EN  LA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TERMINACIÓN  DE  FACTORES  CRITICOS DE   DESEMPEÑO,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EJORES PRACTICAS O CRITERIOS DE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VALUACIÓN DE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PLICACIÓN GENERAL, ASI COMO DE LOS INDICADORES DE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GESTION RESPECTIVOS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736-3E8E-4CA9-97B1-034D82E792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60480"/>
            <a:ext cx="8642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AUDITORIA INTEGRAL Y LA AUDITORIA AL DESEMPEÑO SON ADAPTABLES A NECESIDADES ESPECIFICAS Y PUEDEN COMPRENDER UNICAMENTE A LAS AREAS U OPERACIONES CRITICAS, O SE PUEDEN APLICAR SOLO EN ALGUNA DE SUS FASES O ENFOQUES, DE TAL MODO QUE SATISFAGA LAS NECESIDADES DE LAS INSTITUCIONES Y EL COSTO SEA LO MAS ECONOMICO POSIBL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  OTRA  PARTE,  SI  LOS  MIEMBROS  DE  LA  ACADEMIA,       EN  SUS  PRACTICAS  PROFESIONALES, SON  CONTRATADOS   POR LAS UNIVERSIDADES   PARA  LA  REALIZACION  DE   AUDITORIAS     INTEGRALES O AL DESEMPEÑO, LA   ACADEMIA PROMOVERIA INSTITUCIONALMENTE  EL LOGRO DE ALTOS ESTANDARES DE CALIDAD EN LA EJECUCION DE LOS TRABAJOS.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1AA-E110-4CBB-A665-E60E70682B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447920"/>
            <a:ext cx="76201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AUDITORIA INTEGRAL ES UNA NUEVA DISCIPLINA QUE CON DIFERENTES DENOMINACIONES Y ALCANCES SE APLICA EN LOS PAISES MAS AVANZAD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UE FOR MONEY AUDIT - INGLATER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ANCE AUDIT - ESTADOS UNI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EHENSIVE AUDIT - CAN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DITORIA INTEGRAL - MEX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470-4BA8-4D3C-9642-3D635F86C8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111240"/>
            <a:ext cx="72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CONCEPTOS SUBYACEN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2716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 CONFERIRSE UNA RESPONSABILIDAD ESTA IMPLICITO EL RENDIR CUENTAS SOBRE SU RESULTA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346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O IMPLICA LA OBLIGACION DE EXPLICAR Y JUSTIFICAR ACCIONES ESPECIFIC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718080"/>
            <a:ext cx="73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OBLIGACION DE RENDIR CUENTAS DEBE ESTAR ESTABLECIDA EN TODOS LOS NIVELES DE LA ESTRUCTURA DE LA ADMINISTRACION PUBL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39424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DA SERVIDOR PUBLICO DEBE RESPONDER CON RESPECTO A LOS ESTANDARES DE DESEMPEÑO Y EL LOGRO DE LOS RESULTADOS  COMPROMETI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480-D71E-48CF-9A0B-439AAABAE5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EMBARGO, EL CUMPLIMIENTO CON LA NORMATIVIDAD NO DEBE SER CIEGA, NI LA RENDICION DE CUENTAS DEBE LIMITAR LA CREATIVIDAD, LA INICIATIVA, LA INNOVACION Y LA TOMA DE RIESG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1296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 ELLO,  EL COMPORTAMIENTO ETICO ADQUIERE UNA DIMENSION MAYO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87964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CONSECUENCIA, DEBE CREARSE Y MANTENERSE UN MEDIO AMBIENTE EN TODOS LOS NIVELES DE LA ADMINISTRACION PUBLICA PARA FORTALECER EL SENTIDO DE RESPONSABILIDAD, DE MORALIDAD Y DE RENDICION DE CUENT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9528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 ANTERIOR IMPLICA UN MARCO DE VALORES Y UNA CLARA LEGISLACION Y NO OLVIDANDO QUE EN ALGUNOS CASOS EL PODER CORROMPE, SE REQUIERE DE UNA ESTRUCTURA DE CONTROL QUE VIGILE EL FUNCIONAMIENTO SALUDABLE DEL SISTEM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AC5-C25C-425D-BD69-975BB9C2D5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457200"/>
            <a:ext cx="769608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RENDICION DE CUENTAS NO SOLO DEBE SER UNA FILOSOFIA O PARTE DEL CODIGO DE CONDUCTA DE LOS SERVIDORES PUBLICOS,  SINO QUE REQUIERE LA IMPLEMENTACION DE UNA ESTRUCTURA DE CONTROL, QUE ASEGURE QUE EN TODAS LAS INSTANCIAS GUBERNAMENTALES SE ESTABLEZCA FORMALMENTE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DEFINICION CLARA DE SU MIS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ASIGNACION ADECUADA DE FUNCIONES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MEDICION CORRECTA Y COMPLETA DE SUS RESULT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EMISION DE INFORMES SOBRE SU DESEMPEÑ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EVALUACION INDEPENDIENTE DE SU DESEMPEÑO Y DE SUS RESULT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638680"/>
            <a:ext cx="7315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AUDITORIA INTEGRAL ES EL INSTRUMENTO IDONEO PARA EFECTUAR DICHA EVALUACION INDEPENDIEN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2FD-C707-4B13-8C13-F3A6B960A1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dbd"/>
            </a:gs>
            <a:gs pos="50000">
              <a:srgbClr val="006699"/>
            </a:gs>
            <a:gs pos="100000">
              <a:srgbClr val="5d9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80880"/>
            <a:ext cx="8305560" cy="66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ODAS LAS ENTIDADES E INSTANCIAS GUBERNAMENTALES DEBEN INCLUIR EN SU RENDICION DE CUENTAS DECLARACIONES CON RESPECTO A LO SIGUIENTE: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BJETIVOS Y PROGRAMAS Y COMO SE REFLEJAN EN SUS PLANES Y ESTRUCTURA DE ORGANIZACION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GITIMACION Y PERTINENCIA DE LOS OBJETIVOS DE SUS PROGRAMAS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GRUENCIA ENTRE LOS OBJETIVOS DE SUS PROGRAMAS, LA INTEGRACION DE SUS COMPONENTES Y EL ESFUERZO DE SU IMPLEMENTACION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RADO DE LOGRO DE LOS RESULTADOS PRETENDIDOS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ATISFACCION POR PARTE DE LA POBLACION OBJETIVO CON LOS RESULTADOS ALCANZADOS EN LOS PROGRAMAS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ALISIS DE LOS IMPACTOS SECUNDARIOS DE LOS PROGRAMAS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STO Y PRODUCTIVIDAD DE LOS PROGRAMAS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PACIDAD DE RESPUESTA ANTE CAMBIOS EN EL ENTORNO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BCD-522E-4F68-8BE1-01ECA1357C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0:27:07Z</dcterms:created>
  <dc:creator>Default</dc:creator>
  <dc:description/>
  <dc:language>en-US</dc:language>
  <cp:lastModifiedBy>Miguel Arroyo</cp:lastModifiedBy>
  <cp:lastPrinted>2001-01-10T20:00:31Z</cp:lastPrinted>
  <dcterms:modified xsi:type="dcterms:W3CDTF">2004-06-23T06:50:55Z</dcterms:modified>
  <cp:revision>68</cp:revision>
  <dc:subject/>
  <dc:title>Sin título de diapositiva</dc:title>
</cp:coreProperties>
</file>