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3.wmf" ContentType="image/x-wmf"/>
  <Override PartName="/ppt/media/image6.wmf" ContentType="image/x-wmf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66C-0C8B-43C2-827F-4B0E859F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44A-A986-4AFF-97D2-BABF193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D91-FD31-433B-AC87-1B01A389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A06-75EB-42FA-A7CC-7E6464A7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A6F-F594-483E-9ED8-2E0E541F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A8B-7A18-47D6-A3F8-E2DF743D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4C9-0861-43D2-BC6B-8027E502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5AD-8E95-46D0-92D5-D21BC624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5B4-0AD0-40C4-AEDA-1C6A22C8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3A9-633F-473B-B6A8-CF8E7BE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C11-34CB-4DD7-95D4-24CB943B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7C2-0897-455E-B767-32507801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4D0C-7B83-4825-808B-704CEABED4F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7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128080" cy="38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Berlin Sans FB"/>
              </a:rPr>
              <a:t>LOS INDICADORES DEL SIIA: SU SIGNIFICADO Y EFECTO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000066"/>
                </a:solidFill>
                <a:latin typeface="Berlin Sans FB"/>
              </a:rPr>
              <a:t>“Uniendo voluntades en beneficio de las IES”</a:t>
            </a:r>
            <a:br>
              <a:rPr sz="3200"/>
            </a:br>
            <a:r>
              <a:rPr b="0" lang="es-MX" sz="2000" spc="-1" strike="noStrike">
                <a:solidFill>
                  <a:srgbClr val="000066"/>
                </a:solidFill>
                <a:latin typeface="Berlin Sans FB"/>
              </a:rPr>
              <a:t>XVII Asamblea General Ordinaria de AMOCVIES</a:t>
            </a:r>
            <a:r>
              <a:rPr b="1" lang="es-MX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br>
              <a:rPr sz="3600"/>
            </a:br>
            <a:br>
              <a:rPr sz="3600"/>
            </a:b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Berlin Sans FB"/>
              </a:rPr>
              <a:t>    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Berlin Sans FB"/>
              </a:rPr>
              <a:t>Telchac Puerto, Yuc. a 21 de Abril de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0280"/>
            <a:ext cx="769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Berlin Sans FB"/>
              </a:rPr>
              <a:t>ASOCIACION MEXICANA DE RESPONSABLES DE LA ESTANDARIZACION</a:t>
            </a:r>
            <a:br>
              <a:rPr sz="1600"/>
            </a:br>
            <a:r>
              <a:rPr b="1" lang="es-MX" sz="1600" spc="-1" strike="noStrike">
                <a:solidFill>
                  <a:srgbClr val="000066"/>
                </a:solidFill>
                <a:latin typeface="Berlin Sans FB"/>
              </a:rPr>
              <a:t> DE LA INFORMACION ADMINISTRATIVA FINANCIERA EN LAS</a:t>
            </a:r>
            <a:br>
              <a:rPr sz="1600"/>
            </a:br>
            <a:r>
              <a:rPr b="1" lang="es-MX" sz="1600" spc="-1" strike="noStrike">
                <a:solidFill>
                  <a:srgbClr val="000066"/>
                </a:solidFill>
                <a:latin typeface="Berlin Sans FB"/>
              </a:rPr>
              <a:t> INSTITUCIONES DE EDUCACION SUPERIOR</a:t>
            </a:r>
            <a:br>
              <a:rPr sz="1600"/>
            </a:br>
            <a:br>
              <a:rPr sz="1600"/>
            </a:br>
            <a:r>
              <a:rPr b="1" lang="es-MX" sz="1600" spc="-1" strike="noStrike">
                <a:solidFill>
                  <a:srgbClr val="3333cc"/>
                </a:solidFill>
                <a:latin typeface="Berlin Sans FB"/>
              </a:rPr>
              <a:t>http://www.amereiaf.org.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110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6600" y="1279440"/>
            <a:ext cx="495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erlin Sans FB"/>
                <a:ea typeface="Times New Roman"/>
              </a:rPr>
              <a:t>Los indicadores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erlin Sans FB"/>
                <a:ea typeface="Times New Roman"/>
              </a:rPr>
              <a:t>Sistema Integral de Información Administrativa y Financiera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erlin Sans FB"/>
                <a:ea typeface="Times New Roman"/>
              </a:rPr>
              <a:t>Su Importanci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116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-181080" y="83664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765000"/>
            <a:ext cx="835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l Sistema Integral de Información Administrativo y Financiero surge desde 1997 por un programa de la SEP:  PRON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erlin Sans FB"/>
              </a:rPr>
              <a:t>Su objetivo?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La estandarización de la información en las IES para la obtención de indicadores institucionales y los requeridos por la SEP y otras insta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5300640"/>
            <a:ext cx="7777080" cy="1008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erlin Sans FB"/>
              </a:rPr>
              <a:t>Estructura del Códi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erlin Sans FB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Berlin Sans FB"/>
              </a:rPr>
              <a:t>FONDO  +  UR +  CUENTA GASTO +  FUNCIÓN/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781360"/>
            <a:ext cx="8280360" cy="2533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asado en el esquema de la </a:t>
            </a:r>
            <a:r>
              <a:rPr b="1" lang="en-US" sz="2000" spc="-1" strike="noStrike">
                <a:solidFill>
                  <a:srgbClr val="000066"/>
                </a:solidFill>
                <a:latin typeface="Berlin Sans FB"/>
              </a:rPr>
              <a:t>Contabilidad por Fondo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y en </a:t>
            </a:r>
            <a:r>
              <a:rPr b="1" lang="en-US" sz="2000" spc="-1" strike="noStrike">
                <a:solidFill>
                  <a:srgbClr val="000066"/>
                </a:solidFill>
                <a:latin typeface="Berlin Sans FB"/>
              </a:rPr>
              <a:t>4 Catálogos normat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atálogo de Fo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atálogo de Unidades Responsables (definidos por cada 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atálogo de Cuentas de ga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atálogo de Funciones y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0"/>
            <a:ext cx="5113440" cy="520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  <a:ea typeface="Arial"/>
              </a:rPr>
              <a:t>Antecedentes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611280" y="476280"/>
            <a:ext cx="81532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  <a:ea typeface="Arial"/>
              </a:rPr>
              <a:t>Módulos  Básicos del Sistema Integral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87640" y="3141720"/>
            <a:ext cx="2017440" cy="1657080"/>
            <a:chOff x="2987640" y="3141720"/>
            <a:chExt cx="2017440" cy="1657080"/>
          </a:xfrm>
        </p:grpSpPr>
        <p:sp>
          <p:nvSpPr>
            <p:cNvPr id="131" name=""/>
            <p:cNvSpPr/>
            <p:nvPr/>
          </p:nvSpPr>
          <p:spPr>
            <a:xfrm>
              <a:off x="3101760" y="3421440"/>
              <a:ext cx="1789200" cy="1248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efefe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17240" y="4415760"/>
              <a:ext cx="1787400" cy="3830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efefe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76560" y="3141720"/>
              <a:ext cx="1787400" cy="380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efefe"/>
                </a:gs>
                <a:gs pos="100000">
                  <a:srgbClr val="3333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87640" y="3617280"/>
              <a:ext cx="2017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30240" bIns="30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Berlin Sans FB"/>
                </a:rPr>
                <a:t>Datos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Berlin Sans FB"/>
                </a:rPr>
                <a:t>Base </a:t>
              </a:r>
              <a:r>
                <a:rPr b="1" lang="en-US" sz="2000" spc="-1" strike="noStrike">
                  <a:solidFill>
                    <a:srgbClr val="ff6600"/>
                  </a:solidFill>
                  <a:latin typeface="Berlin Sans FB"/>
                </a:rPr>
                <a:t>de</a:t>
              </a:r>
              <a:r>
                <a:rPr b="1" lang="en-US" sz="1800" spc="-1" strike="noStrike">
                  <a:solidFill>
                    <a:srgbClr val="ff6600"/>
                  </a:solidFill>
                  <a:latin typeface="Berlin Sans FB"/>
                </a:rPr>
                <a:t> datos instituci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64000" y="1773360"/>
            <a:ext cx="3168000" cy="2302920"/>
            <a:chOff x="5364000" y="1773360"/>
            <a:chExt cx="3168000" cy="230292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607360" y="1773360"/>
              <a:ext cx="2924640" cy="230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5364000" y="1914840"/>
              <a:ext cx="730800" cy="795240"/>
              <a:chOff x="5364000" y="1914840"/>
              <a:chExt cx="730800" cy="795240"/>
            </a:xfrm>
          </p:grpSpPr>
          <p:sp>
            <p:nvSpPr>
              <p:cNvPr id="138" name=""/>
              <p:cNvSpPr/>
              <p:nvPr/>
            </p:nvSpPr>
            <p:spPr>
              <a:xfrm>
                <a:off x="5499720" y="2359440"/>
                <a:ext cx="1537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99720" y="2208240"/>
                <a:ext cx="15372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99720" y="2057040"/>
                <a:ext cx="153720" cy="1670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99720" y="1914840"/>
                <a:ext cx="1537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47680" y="2359440"/>
                <a:ext cx="15696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47680" y="2208240"/>
                <a:ext cx="15696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47680" y="2057040"/>
                <a:ext cx="156960" cy="1670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647680" y="1914840"/>
                <a:ext cx="15696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91320" y="2359440"/>
                <a:ext cx="15228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1320" y="2208240"/>
                <a:ext cx="15228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91320" y="2057040"/>
                <a:ext cx="152280" cy="1670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91320" y="1914840"/>
                <a:ext cx="15228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41080" y="2359440"/>
                <a:ext cx="1537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41080" y="2208240"/>
                <a:ext cx="15372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1080" y="2057040"/>
                <a:ext cx="153720" cy="1670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41080" y="1914840"/>
                <a:ext cx="1537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50400" y="2419920"/>
                <a:ext cx="15552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50400" y="2268720"/>
                <a:ext cx="15552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50400" y="2117520"/>
                <a:ext cx="1555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50400" y="1973160"/>
                <a:ext cx="155520" cy="1710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01600" y="2419920"/>
                <a:ext cx="15516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01600" y="2268720"/>
                <a:ext cx="15516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01600" y="2117520"/>
                <a:ext cx="15516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01600" y="1973160"/>
                <a:ext cx="155160" cy="1710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43800" y="2419920"/>
                <a:ext cx="15516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43800" y="2268720"/>
                <a:ext cx="15516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43800" y="2117520"/>
                <a:ext cx="15516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43800" y="1973160"/>
                <a:ext cx="155160" cy="1710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93200" y="2419920"/>
                <a:ext cx="15696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93200" y="2268720"/>
                <a:ext cx="15696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93200" y="2117520"/>
                <a:ext cx="15696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93200" y="1973160"/>
                <a:ext cx="156960" cy="1710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11520" y="2480400"/>
                <a:ext cx="15192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11520" y="2331360"/>
                <a:ext cx="1519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1520" y="2179800"/>
                <a:ext cx="151920" cy="1670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11520" y="2033640"/>
                <a:ext cx="1519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62720" y="2480400"/>
                <a:ext cx="15228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2720" y="2331360"/>
                <a:ext cx="15228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562720" y="2179800"/>
                <a:ext cx="152280" cy="1670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62720" y="2033640"/>
                <a:ext cx="15228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4560" y="2480400"/>
                <a:ext cx="15228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04560" y="2331360"/>
                <a:ext cx="15228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04560" y="2179800"/>
                <a:ext cx="152280" cy="1670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04560" y="2033640"/>
                <a:ext cx="15228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54320" y="2480400"/>
                <a:ext cx="15372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54320" y="2331360"/>
                <a:ext cx="1537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54320" y="2179800"/>
                <a:ext cx="153720" cy="1670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4320" y="2033640"/>
                <a:ext cx="1537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64000" y="2542680"/>
                <a:ext cx="15516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64000" y="2389680"/>
                <a:ext cx="155160" cy="1688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364000" y="2240280"/>
                <a:ext cx="15516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364000" y="2099520"/>
                <a:ext cx="155160" cy="1656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14840" y="2542680"/>
                <a:ext cx="15228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14840" y="2389680"/>
                <a:ext cx="152280" cy="1688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14840" y="2240280"/>
                <a:ext cx="15228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14840" y="2099520"/>
                <a:ext cx="152280" cy="1656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56680" y="2542680"/>
                <a:ext cx="15372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56680" y="2389680"/>
                <a:ext cx="153720" cy="1688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6680" y="2240280"/>
                <a:ext cx="1537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56680" y="2099520"/>
                <a:ext cx="153720" cy="1656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7880" y="2542680"/>
                <a:ext cx="153720" cy="1674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07880" y="2389680"/>
                <a:ext cx="153720" cy="1688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07880" y="2240280"/>
                <a:ext cx="153720" cy="165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07880" y="2099520"/>
                <a:ext cx="153720" cy="1656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611280" y="1341360"/>
            <a:ext cx="1728720" cy="158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18446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2708280"/>
            <a:ext cx="79200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1268280"/>
            <a:ext cx="15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"/>
              </a:rPr>
              <a:t>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4941720"/>
            <a:ext cx="1728720" cy="151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8720" y="4653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627280" y="4724280"/>
            <a:ext cx="57636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537372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Administ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4869000"/>
            <a:ext cx="1873440" cy="151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003280" y="4652640"/>
            <a:ext cx="86364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5229360"/>
            <a:ext cx="151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Recur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2997360"/>
            <a:ext cx="165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ont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Presu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Activo 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Tesor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3280" y="5445000"/>
            <a:ext cx="187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Perman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08720" y="4581360"/>
            <a:ext cx="165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Información para Nóm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Aplicación normatividad para personal univers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1125360"/>
            <a:ext cx="1728720" cy="1582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134136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Berlin Sans FB"/>
              </a:rPr>
              <a:t>Explotación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2781360"/>
            <a:ext cx="0" cy="934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220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44480" y="156204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Necesidad de toma de Decisione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044440" y="3146400"/>
            <a:ext cx="1060560" cy="686520"/>
            <a:chOff x="2044440" y="3146400"/>
            <a:chExt cx="1060560" cy="686520"/>
          </a:xfrm>
        </p:grpSpPr>
        <p:sp>
          <p:nvSpPr>
            <p:cNvPr id="226" name=""/>
            <p:cNvSpPr/>
            <p:nvPr/>
          </p:nvSpPr>
          <p:spPr>
            <a:xfrm rot="1198200">
              <a:off x="2110320" y="3299400"/>
              <a:ext cx="960840" cy="365760"/>
            </a:xfrm>
            <a:custGeom>
              <a:avLst/>
              <a:gdLst/>
              <a:ahLst/>
              <a:rect l="l" t="t" r="r" b="b"/>
              <a:pathLst>
                <a:path w="784" h="642">
                  <a:moveTo>
                    <a:pt x="706" y="312"/>
                  </a:moveTo>
                  <a:lnTo>
                    <a:pt x="671" y="263"/>
                  </a:lnTo>
                  <a:lnTo>
                    <a:pt x="633" y="216"/>
                  </a:lnTo>
                  <a:lnTo>
                    <a:pt x="590" y="179"/>
                  </a:lnTo>
                  <a:lnTo>
                    <a:pt x="551" y="147"/>
                  </a:lnTo>
                  <a:lnTo>
                    <a:pt x="504" y="111"/>
                  </a:lnTo>
                  <a:lnTo>
                    <a:pt x="463" y="84"/>
                  </a:lnTo>
                  <a:lnTo>
                    <a:pt x="419" y="63"/>
                  </a:lnTo>
                  <a:lnTo>
                    <a:pt x="369" y="44"/>
                  </a:lnTo>
                  <a:lnTo>
                    <a:pt x="325" y="25"/>
                  </a:lnTo>
                  <a:lnTo>
                    <a:pt x="281" y="9"/>
                  </a:lnTo>
                  <a:lnTo>
                    <a:pt x="232" y="3"/>
                  </a:lnTo>
                  <a:lnTo>
                    <a:pt x="184" y="1"/>
                  </a:lnTo>
                  <a:lnTo>
                    <a:pt x="137" y="0"/>
                  </a:lnTo>
                  <a:lnTo>
                    <a:pt x="93" y="7"/>
                  </a:lnTo>
                  <a:lnTo>
                    <a:pt x="47" y="11"/>
                  </a:lnTo>
                  <a:lnTo>
                    <a:pt x="0" y="28"/>
                  </a:lnTo>
                  <a:lnTo>
                    <a:pt x="2" y="60"/>
                  </a:lnTo>
                  <a:lnTo>
                    <a:pt x="40" y="58"/>
                  </a:lnTo>
                  <a:lnTo>
                    <a:pt x="82" y="62"/>
                  </a:lnTo>
                  <a:lnTo>
                    <a:pt x="122" y="66"/>
                  </a:lnTo>
                  <a:lnTo>
                    <a:pt x="161" y="81"/>
                  </a:lnTo>
                  <a:lnTo>
                    <a:pt x="199" y="93"/>
                  </a:lnTo>
                  <a:lnTo>
                    <a:pt x="238" y="108"/>
                  </a:lnTo>
                  <a:lnTo>
                    <a:pt x="276" y="129"/>
                  </a:lnTo>
                  <a:lnTo>
                    <a:pt x="312" y="153"/>
                  </a:lnTo>
                  <a:lnTo>
                    <a:pt x="347" y="180"/>
                  </a:lnTo>
                  <a:lnTo>
                    <a:pt x="385" y="215"/>
                  </a:lnTo>
                  <a:lnTo>
                    <a:pt x="416" y="251"/>
                  </a:lnTo>
                  <a:lnTo>
                    <a:pt x="451" y="289"/>
                  </a:lnTo>
                  <a:lnTo>
                    <a:pt x="483" y="328"/>
                  </a:lnTo>
                  <a:lnTo>
                    <a:pt x="512" y="377"/>
                  </a:lnTo>
                  <a:lnTo>
                    <a:pt x="544" y="424"/>
                  </a:lnTo>
                  <a:lnTo>
                    <a:pt x="573" y="478"/>
                  </a:lnTo>
                  <a:lnTo>
                    <a:pt x="486" y="581"/>
                  </a:lnTo>
                  <a:lnTo>
                    <a:pt x="769" y="641"/>
                  </a:lnTo>
                  <a:lnTo>
                    <a:pt x="783" y="223"/>
                  </a:lnTo>
                  <a:lnTo>
                    <a:pt x="706" y="312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98200">
              <a:off x="2972520" y="3575880"/>
              <a:ext cx="47520" cy="256680"/>
            </a:xfrm>
            <a:custGeom>
              <a:avLst/>
              <a:gdLst/>
              <a:ahLst/>
              <a:rect l="l" t="t" r="r" b="b"/>
              <a:pathLst>
                <a:path w="39" h="450">
                  <a:moveTo>
                    <a:pt x="0" y="449"/>
                  </a:moveTo>
                  <a:lnTo>
                    <a:pt x="22" y="420"/>
                  </a:lnTo>
                  <a:lnTo>
                    <a:pt x="38" y="0"/>
                  </a:lnTo>
                  <a:lnTo>
                    <a:pt x="9" y="34"/>
                  </a:lnTo>
                  <a:lnTo>
                    <a:pt x="0" y="449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198200">
              <a:off x="2077200" y="3307320"/>
              <a:ext cx="957240" cy="361440"/>
            </a:xfrm>
            <a:custGeom>
              <a:avLst/>
              <a:gdLst/>
              <a:ahLst/>
              <a:rect l="l" t="t" r="r" b="b"/>
              <a:pathLst>
                <a:path w="781" h="634">
                  <a:moveTo>
                    <a:pt x="703" y="306"/>
                  </a:moveTo>
                  <a:lnTo>
                    <a:pt x="666" y="259"/>
                  </a:lnTo>
                  <a:lnTo>
                    <a:pt x="629" y="212"/>
                  </a:lnTo>
                  <a:lnTo>
                    <a:pt x="591" y="177"/>
                  </a:lnTo>
                  <a:lnTo>
                    <a:pt x="545" y="140"/>
                  </a:lnTo>
                  <a:lnTo>
                    <a:pt x="502" y="109"/>
                  </a:lnTo>
                  <a:lnTo>
                    <a:pt x="459" y="81"/>
                  </a:lnTo>
                  <a:lnTo>
                    <a:pt x="415" y="59"/>
                  </a:lnTo>
                  <a:lnTo>
                    <a:pt x="369" y="40"/>
                  </a:lnTo>
                  <a:lnTo>
                    <a:pt x="323" y="21"/>
                  </a:lnTo>
                  <a:lnTo>
                    <a:pt x="276" y="8"/>
                  </a:lnTo>
                  <a:lnTo>
                    <a:pt x="227" y="2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9" y="4"/>
                  </a:lnTo>
                  <a:lnTo>
                    <a:pt x="46" y="13"/>
                  </a:lnTo>
                  <a:lnTo>
                    <a:pt x="0" y="25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77" y="59"/>
                  </a:lnTo>
                  <a:lnTo>
                    <a:pt x="119" y="66"/>
                  </a:lnTo>
                  <a:lnTo>
                    <a:pt x="160" y="75"/>
                  </a:lnTo>
                  <a:lnTo>
                    <a:pt x="196" y="94"/>
                  </a:lnTo>
                  <a:lnTo>
                    <a:pt x="237" y="108"/>
                  </a:lnTo>
                  <a:lnTo>
                    <a:pt x="276" y="126"/>
                  </a:lnTo>
                  <a:lnTo>
                    <a:pt x="311" y="150"/>
                  </a:lnTo>
                  <a:lnTo>
                    <a:pt x="348" y="179"/>
                  </a:lnTo>
                  <a:lnTo>
                    <a:pt x="382" y="210"/>
                  </a:lnTo>
                  <a:lnTo>
                    <a:pt x="415" y="247"/>
                  </a:lnTo>
                  <a:lnTo>
                    <a:pt x="448" y="284"/>
                  </a:lnTo>
                  <a:lnTo>
                    <a:pt x="481" y="326"/>
                  </a:lnTo>
                  <a:lnTo>
                    <a:pt x="509" y="371"/>
                  </a:lnTo>
                  <a:lnTo>
                    <a:pt x="541" y="419"/>
                  </a:lnTo>
                  <a:lnTo>
                    <a:pt x="566" y="471"/>
                  </a:lnTo>
                  <a:lnTo>
                    <a:pt x="483" y="574"/>
                  </a:lnTo>
                  <a:lnTo>
                    <a:pt x="765" y="633"/>
                  </a:lnTo>
                  <a:lnTo>
                    <a:pt x="780" y="217"/>
                  </a:lnTo>
                  <a:lnTo>
                    <a:pt x="703" y="306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85800" y="1828800"/>
            <a:ext cx="228600" cy="4648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62"/>
                </a:lnTo>
                <a:cubicBezTo>
                  <a:pt x="10800" y="10062"/>
                  <a:pt x="5400" y="10962"/>
                  <a:pt x="0" y="10962"/>
                </a:cubicBezTo>
                <a:cubicBezTo>
                  <a:pt x="5400" y="10962"/>
                  <a:pt x="10800" y="11862"/>
                  <a:pt x="10800" y="127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55880" y="391464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erlin Sans FB"/>
              </a:rPr>
              <a:t>Reportes o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743200" y="4343400"/>
            <a:ext cx="533520" cy="609480"/>
            <a:chOff x="2743200" y="4343400"/>
            <a:chExt cx="533520" cy="609480"/>
          </a:xfrm>
        </p:grpSpPr>
        <p:sp>
          <p:nvSpPr>
            <p:cNvPr id="232" name=""/>
            <p:cNvSpPr/>
            <p:nvPr/>
          </p:nvSpPr>
          <p:spPr>
            <a:xfrm flipH="1">
              <a:off x="2743200" y="4343400"/>
              <a:ext cx="517680" cy="585000"/>
            </a:xfrm>
            <a:custGeom>
              <a:avLst/>
              <a:gdLst/>
              <a:ahLst/>
              <a:rect l="l" t="t" r="r" b="b"/>
              <a:pathLst>
                <a:path w="784" h="642">
                  <a:moveTo>
                    <a:pt x="706" y="312"/>
                  </a:moveTo>
                  <a:lnTo>
                    <a:pt x="671" y="263"/>
                  </a:lnTo>
                  <a:lnTo>
                    <a:pt x="633" y="216"/>
                  </a:lnTo>
                  <a:lnTo>
                    <a:pt x="590" y="179"/>
                  </a:lnTo>
                  <a:lnTo>
                    <a:pt x="551" y="147"/>
                  </a:lnTo>
                  <a:lnTo>
                    <a:pt x="504" y="111"/>
                  </a:lnTo>
                  <a:lnTo>
                    <a:pt x="463" y="84"/>
                  </a:lnTo>
                  <a:lnTo>
                    <a:pt x="419" y="63"/>
                  </a:lnTo>
                  <a:lnTo>
                    <a:pt x="369" y="44"/>
                  </a:lnTo>
                  <a:lnTo>
                    <a:pt x="325" y="25"/>
                  </a:lnTo>
                  <a:lnTo>
                    <a:pt x="281" y="9"/>
                  </a:lnTo>
                  <a:lnTo>
                    <a:pt x="232" y="3"/>
                  </a:lnTo>
                  <a:lnTo>
                    <a:pt x="184" y="1"/>
                  </a:lnTo>
                  <a:lnTo>
                    <a:pt x="137" y="0"/>
                  </a:lnTo>
                  <a:lnTo>
                    <a:pt x="93" y="7"/>
                  </a:lnTo>
                  <a:lnTo>
                    <a:pt x="47" y="11"/>
                  </a:lnTo>
                  <a:lnTo>
                    <a:pt x="0" y="28"/>
                  </a:lnTo>
                  <a:lnTo>
                    <a:pt x="2" y="60"/>
                  </a:lnTo>
                  <a:lnTo>
                    <a:pt x="40" y="58"/>
                  </a:lnTo>
                  <a:lnTo>
                    <a:pt x="82" y="62"/>
                  </a:lnTo>
                  <a:lnTo>
                    <a:pt x="122" y="66"/>
                  </a:lnTo>
                  <a:lnTo>
                    <a:pt x="161" y="81"/>
                  </a:lnTo>
                  <a:lnTo>
                    <a:pt x="199" y="93"/>
                  </a:lnTo>
                  <a:lnTo>
                    <a:pt x="238" y="108"/>
                  </a:lnTo>
                  <a:lnTo>
                    <a:pt x="276" y="129"/>
                  </a:lnTo>
                  <a:lnTo>
                    <a:pt x="312" y="153"/>
                  </a:lnTo>
                  <a:lnTo>
                    <a:pt x="347" y="180"/>
                  </a:lnTo>
                  <a:lnTo>
                    <a:pt x="385" y="215"/>
                  </a:lnTo>
                  <a:lnTo>
                    <a:pt x="416" y="251"/>
                  </a:lnTo>
                  <a:lnTo>
                    <a:pt x="451" y="289"/>
                  </a:lnTo>
                  <a:lnTo>
                    <a:pt x="483" y="328"/>
                  </a:lnTo>
                  <a:lnTo>
                    <a:pt x="512" y="377"/>
                  </a:lnTo>
                  <a:lnTo>
                    <a:pt x="544" y="424"/>
                  </a:lnTo>
                  <a:lnTo>
                    <a:pt x="573" y="478"/>
                  </a:lnTo>
                  <a:lnTo>
                    <a:pt x="486" y="581"/>
                  </a:lnTo>
                  <a:lnTo>
                    <a:pt x="769" y="641"/>
                  </a:lnTo>
                  <a:lnTo>
                    <a:pt x="783" y="223"/>
                  </a:lnTo>
                  <a:lnTo>
                    <a:pt x="706" y="312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742840" y="4542480"/>
              <a:ext cx="25560" cy="410040"/>
            </a:xfrm>
            <a:custGeom>
              <a:avLst/>
              <a:gdLst/>
              <a:ahLst/>
              <a:rect l="l" t="t" r="r" b="b"/>
              <a:pathLst>
                <a:path w="39" h="450">
                  <a:moveTo>
                    <a:pt x="0" y="449"/>
                  </a:moveTo>
                  <a:lnTo>
                    <a:pt x="22" y="420"/>
                  </a:lnTo>
                  <a:lnTo>
                    <a:pt x="38" y="0"/>
                  </a:lnTo>
                  <a:lnTo>
                    <a:pt x="9" y="34"/>
                  </a:lnTo>
                  <a:lnTo>
                    <a:pt x="0" y="44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760480" y="4375080"/>
              <a:ext cx="515880" cy="577800"/>
            </a:xfrm>
            <a:custGeom>
              <a:avLst/>
              <a:gdLst/>
              <a:ahLst/>
              <a:rect l="l" t="t" r="r" b="b"/>
              <a:pathLst>
                <a:path w="781" h="634">
                  <a:moveTo>
                    <a:pt x="703" y="306"/>
                  </a:moveTo>
                  <a:lnTo>
                    <a:pt x="666" y="259"/>
                  </a:lnTo>
                  <a:lnTo>
                    <a:pt x="629" y="212"/>
                  </a:lnTo>
                  <a:lnTo>
                    <a:pt x="591" y="177"/>
                  </a:lnTo>
                  <a:lnTo>
                    <a:pt x="545" y="140"/>
                  </a:lnTo>
                  <a:lnTo>
                    <a:pt x="502" y="109"/>
                  </a:lnTo>
                  <a:lnTo>
                    <a:pt x="459" y="81"/>
                  </a:lnTo>
                  <a:lnTo>
                    <a:pt x="415" y="59"/>
                  </a:lnTo>
                  <a:lnTo>
                    <a:pt x="369" y="40"/>
                  </a:lnTo>
                  <a:lnTo>
                    <a:pt x="323" y="21"/>
                  </a:lnTo>
                  <a:lnTo>
                    <a:pt x="276" y="8"/>
                  </a:lnTo>
                  <a:lnTo>
                    <a:pt x="227" y="2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9" y="4"/>
                  </a:lnTo>
                  <a:lnTo>
                    <a:pt x="46" y="13"/>
                  </a:lnTo>
                  <a:lnTo>
                    <a:pt x="0" y="25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77" y="59"/>
                  </a:lnTo>
                  <a:lnTo>
                    <a:pt x="119" y="66"/>
                  </a:lnTo>
                  <a:lnTo>
                    <a:pt x="160" y="75"/>
                  </a:lnTo>
                  <a:lnTo>
                    <a:pt x="196" y="94"/>
                  </a:lnTo>
                  <a:lnTo>
                    <a:pt x="237" y="108"/>
                  </a:lnTo>
                  <a:lnTo>
                    <a:pt x="276" y="126"/>
                  </a:lnTo>
                  <a:lnTo>
                    <a:pt x="311" y="150"/>
                  </a:lnTo>
                  <a:lnTo>
                    <a:pt x="348" y="179"/>
                  </a:lnTo>
                  <a:lnTo>
                    <a:pt x="382" y="210"/>
                  </a:lnTo>
                  <a:lnTo>
                    <a:pt x="415" y="247"/>
                  </a:lnTo>
                  <a:lnTo>
                    <a:pt x="448" y="284"/>
                  </a:lnTo>
                  <a:lnTo>
                    <a:pt x="481" y="326"/>
                  </a:lnTo>
                  <a:lnTo>
                    <a:pt x="509" y="371"/>
                  </a:lnTo>
                  <a:lnTo>
                    <a:pt x="541" y="419"/>
                  </a:lnTo>
                  <a:lnTo>
                    <a:pt x="566" y="471"/>
                  </a:lnTo>
                  <a:lnTo>
                    <a:pt x="483" y="574"/>
                  </a:lnTo>
                  <a:lnTo>
                    <a:pt x="765" y="633"/>
                  </a:lnTo>
                  <a:lnTo>
                    <a:pt x="780" y="217"/>
                  </a:lnTo>
                  <a:lnTo>
                    <a:pt x="703" y="30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620800" y="4937040"/>
            <a:ext cx="396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rlin Sans FB"/>
              </a:rPr>
              <a:t>Excel(MAQUILLADO) “CONOCIMIENTO”</a:t>
            </a:r>
            <a:r>
              <a:rPr b="0" lang="es-MX" sz="16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rlin Sans FB"/>
              </a:rPr>
              <a:t>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Berlin Sans FB"/>
              </a:rPr>
              <a:t>P</a:t>
            </a:r>
            <a:r>
              <a:rPr b="0" lang="es-MX" sz="1600" spc="-1" strike="noStrike">
                <a:solidFill>
                  <a:srgbClr val="000000"/>
                </a:solidFill>
                <a:latin typeface="Berlin Sans FB"/>
              </a:rPr>
              <a:t>arcial o </a:t>
            </a:r>
            <a:r>
              <a:rPr b="0" lang="es-ES" sz="1600" spc="-1" strike="noStrike">
                <a:solidFill>
                  <a:srgbClr val="000000"/>
                </a:solidFill>
                <a:latin typeface="Berlin Sans FB"/>
              </a:rPr>
              <a:t>S</a:t>
            </a:r>
            <a:r>
              <a:rPr b="0" lang="es-MX" sz="1600" spc="-1" strike="noStrike">
                <a:solidFill>
                  <a:srgbClr val="000000"/>
                </a:solidFill>
                <a:latin typeface="Berlin Sans FB"/>
              </a:rPr>
              <a:t>es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7760" y="5257800"/>
            <a:ext cx="1066680" cy="533520"/>
            <a:chOff x="3047760" y="5257800"/>
            <a:chExt cx="1066680" cy="533520"/>
          </a:xfrm>
        </p:grpSpPr>
        <p:sp>
          <p:nvSpPr>
            <p:cNvPr id="237" name=""/>
            <p:cNvSpPr/>
            <p:nvPr/>
          </p:nvSpPr>
          <p:spPr>
            <a:xfrm flipH="1">
              <a:off x="3047400" y="5257800"/>
              <a:ext cx="1035000" cy="511920"/>
            </a:xfrm>
            <a:custGeom>
              <a:avLst/>
              <a:gdLst/>
              <a:ahLst/>
              <a:rect l="l" t="t" r="r" b="b"/>
              <a:pathLst>
                <a:path w="784" h="642">
                  <a:moveTo>
                    <a:pt x="706" y="312"/>
                  </a:moveTo>
                  <a:lnTo>
                    <a:pt x="671" y="263"/>
                  </a:lnTo>
                  <a:lnTo>
                    <a:pt x="633" y="216"/>
                  </a:lnTo>
                  <a:lnTo>
                    <a:pt x="590" y="179"/>
                  </a:lnTo>
                  <a:lnTo>
                    <a:pt x="551" y="147"/>
                  </a:lnTo>
                  <a:lnTo>
                    <a:pt x="504" y="111"/>
                  </a:lnTo>
                  <a:lnTo>
                    <a:pt x="463" y="84"/>
                  </a:lnTo>
                  <a:lnTo>
                    <a:pt x="419" y="63"/>
                  </a:lnTo>
                  <a:lnTo>
                    <a:pt x="369" y="44"/>
                  </a:lnTo>
                  <a:lnTo>
                    <a:pt x="325" y="25"/>
                  </a:lnTo>
                  <a:lnTo>
                    <a:pt x="281" y="9"/>
                  </a:lnTo>
                  <a:lnTo>
                    <a:pt x="232" y="3"/>
                  </a:lnTo>
                  <a:lnTo>
                    <a:pt x="184" y="1"/>
                  </a:lnTo>
                  <a:lnTo>
                    <a:pt x="137" y="0"/>
                  </a:lnTo>
                  <a:lnTo>
                    <a:pt x="93" y="7"/>
                  </a:lnTo>
                  <a:lnTo>
                    <a:pt x="47" y="11"/>
                  </a:lnTo>
                  <a:lnTo>
                    <a:pt x="0" y="28"/>
                  </a:lnTo>
                  <a:lnTo>
                    <a:pt x="2" y="60"/>
                  </a:lnTo>
                  <a:lnTo>
                    <a:pt x="40" y="58"/>
                  </a:lnTo>
                  <a:lnTo>
                    <a:pt x="82" y="62"/>
                  </a:lnTo>
                  <a:lnTo>
                    <a:pt x="122" y="66"/>
                  </a:lnTo>
                  <a:lnTo>
                    <a:pt x="161" y="81"/>
                  </a:lnTo>
                  <a:lnTo>
                    <a:pt x="199" y="93"/>
                  </a:lnTo>
                  <a:lnTo>
                    <a:pt x="238" y="108"/>
                  </a:lnTo>
                  <a:lnTo>
                    <a:pt x="276" y="129"/>
                  </a:lnTo>
                  <a:lnTo>
                    <a:pt x="312" y="153"/>
                  </a:lnTo>
                  <a:lnTo>
                    <a:pt x="347" y="180"/>
                  </a:lnTo>
                  <a:lnTo>
                    <a:pt x="385" y="215"/>
                  </a:lnTo>
                  <a:lnTo>
                    <a:pt x="416" y="251"/>
                  </a:lnTo>
                  <a:lnTo>
                    <a:pt x="451" y="289"/>
                  </a:lnTo>
                  <a:lnTo>
                    <a:pt x="483" y="328"/>
                  </a:lnTo>
                  <a:lnTo>
                    <a:pt x="512" y="377"/>
                  </a:lnTo>
                  <a:lnTo>
                    <a:pt x="544" y="424"/>
                  </a:lnTo>
                  <a:lnTo>
                    <a:pt x="573" y="478"/>
                  </a:lnTo>
                  <a:lnTo>
                    <a:pt x="486" y="581"/>
                  </a:lnTo>
                  <a:lnTo>
                    <a:pt x="769" y="641"/>
                  </a:lnTo>
                  <a:lnTo>
                    <a:pt x="783" y="223"/>
                  </a:lnTo>
                  <a:lnTo>
                    <a:pt x="706" y="312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047400" y="5432040"/>
              <a:ext cx="51480" cy="358920"/>
            </a:xfrm>
            <a:custGeom>
              <a:avLst/>
              <a:gdLst/>
              <a:ahLst/>
              <a:rect l="l" t="t" r="r" b="b"/>
              <a:pathLst>
                <a:path w="39" h="450">
                  <a:moveTo>
                    <a:pt x="0" y="449"/>
                  </a:moveTo>
                  <a:lnTo>
                    <a:pt x="22" y="420"/>
                  </a:lnTo>
                  <a:lnTo>
                    <a:pt x="38" y="0"/>
                  </a:lnTo>
                  <a:lnTo>
                    <a:pt x="9" y="34"/>
                  </a:lnTo>
                  <a:lnTo>
                    <a:pt x="0" y="44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083400" y="5285520"/>
              <a:ext cx="1031040" cy="505800"/>
            </a:xfrm>
            <a:custGeom>
              <a:avLst/>
              <a:gdLst/>
              <a:ahLst/>
              <a:rect l="l" t="t" r="r" b="b"/>
              <a:pathLst>
                <a:path w="781" h="634">
                  <a:moveTo>
                    <a:pt x="703" y="306"/>
                  </a:moveTo>
                  <a:lnTo>
                    <a:pt x="666" y="259"/>
                  </a:lnTo>
                  <a:lnTo>
                    <a:pt x="629" y="212"/>
                  </a:lnTo>
                  <a:lnTo>
                    <a:pt x="591" y="177"/>
                  </a:lnTo>
                  <a:lnTo>
                    <a:pt x="545" y="140"/>
                  </a:lnTo>
                  <a:lnTo>
                    <a:pt x="502" y="109"/>
                  </a:lnTo>
                  <a:lnTo>
                    <a:pt x="459" y="81"/>
                  </a:lnTo>
                  <a:lnTo>
                    <a:pt x="415" y="59"/>
                  </a:lnTo>
                  <a:lnTo>
                    <a:pt x="369" y="40"/>
                  </a:lnTo>
                  <a:lnTo>
                    <a:pt x="323" y="21"/>
                  </a:lnTo>
                  <a:lnTo>
                    <a:pt x="276" y="8"/>
                  </a:lnTo>
                  <a:lnTo>
                    <a:pt x="227" y="2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9" y="4"/>
                  </a:lnTo>
                  <a:lnTo>
                    <a:pt x="46" y="13"/>
                  </a:lnTo>
                  <a:lnTo>
                    <a:pt x="0" y="25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77" y="59"/>
                  </a:lnTo>
                  <a:lnTo>
                    <a:pt x="119" y="66"/>
                  </a:lnTo>
                  <a:lnTo>
                    <a:pt x="160" y="75"/>
                  </a:lnTo>
                  <a:lnTo>
                    <a:pt x="196" y="94"/>
                  </a:lnTo>
                  <a:lnTo>
                    <a:pt x="237" y="108"/>
                  </a:lnTo>
                  <a:lnTo>
                    <a:pt x="276" y="126"/>
                  </a:lnTo>
                  <a:lnTo>
                    <a:pt x="311" y="150"/>
                  </a:lnTo>
                  <a:lnTo>
                    <a:pt x="348" y="179"/>
                  </a:lnTo>
                  <a:lnTo>
                    <a:pt x="382" y="210"/>
                  </a:lnTo>
                  <a:lnTo>
                    <a:pt x="415" y="247"/>
                  </a:lnTo>
                  <a:lnTo>
                    <a:pt x="448" y="284"/>
                  </a:lnTo>
                  <a:lnTo>
                    <a:pt x="481" y="326"/>
                  </a:lnTo>
                  <a:lnTo>
                    <a:pt x="509" y="371"/>
                  </a:lnTo>
                  <a:lnTo>
                    <a:pt x="541" y="419"/>
                  </a:lnTo>
                  <a:lnTo>
                    <a:pt x="566" y="471"/>
                  </a:lnTo>
                  <a:lnTo>
                    <a:pt x="483" y="574"/>
                  </a:lnTo>
                  <a:lnTo>
                    <a:pt x="765" y="633"/>
                  </a:lnTo>
                  <a:lnTo>
                    <a:pt x="780" y="217"/>
                  </a:lnTo>
                  <a:lnTo>
                    <a:pt x="703" y="30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93672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91440" y="2139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182680" y="2133720"/>
            <a:ext cx="1219320" cy="100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097720" y="587844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Reporte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54800" y="648324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Toma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740000">
            <a:off x="104760" y="1143000"/>
            <a:ext cx="546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Tiempo ??       1,2,3....n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454720" y="3809880"/>
            <a:ext cx="488520" cy="598680"/>
            <a:chOff x="5454720" y="3809880"/>
            <a:chExt cx="488520" cy="598680"/>
          </a:xfrm>
        </p:grpSpPr>
        <p:sp>
          <p:nvSpPr>
            <p:cNvPr id="248" name=""/>
            <p:cNvSpPr/>
            <p:nvPr/>
          </p:nvSpPr>
          <p:spPr>
            <a:xfrm>
              <a:off x="5550480" y="3963960"/>
              <a:ext cx="392760" cy="444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06920" y="3921120"/>
              <a:ext cx="393120" cy="434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54720" y="3809880"/>
              <a:ext cx="405360" cy="446400"/>
              <a:chOff x="5454720" y="3809880"/>
              <a:chExt cx="405360" cy="446400"/>
            </a:xfrm>
          </p:grpSpPr>
          <p:sp>
            <p:nvSpPr>
              <p:cNvPr id="251" name=""/>
              <p:cNvSpPr/>
              <p:nvPr/>
            </p:nvSpPr>
            <p:spPr>
              <a:xfrm>
                <a:off x="5465520" y="3811680"/>
                <a:ext cx="287280" cy="433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45600" y="3921120"/>
                <a:ext cx="112680" cy="32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58920" y="3811680"/>
                <a:ext cx="99360" cy="10620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54720" y="3813120"/>
                <a:ext cx="29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60120" y="3809880"/>
                <a:ext cx="0" cy="43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454720" y="4251240"/>
                <a:ext cx="405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58640" y="3922920"/>
                <a:ext cx="0" cy="33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92160" y="3903840"/>
                <a:ext cx="20844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92160" y="3998880"/>
                <a:ext cx="32328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92160" y="4046400"/>
                <a:ext cx="32328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492160" y="4094280"/>
                <a:ext cx="32328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92160" y="4143240"/>
                <a:ext cx="32328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92160" y="4191120"/>
                <a:ext cx="32328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92160" y="3951360"/>
                <a:ext cx="20844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6781680" y="4419720"/>
            <a:ext cx="865800" cy="533160"/>
            <a:chOff x="6781680" y="4419720"/>
            <a:chExt cx="865800" cy="533160"/>
          </a:xfrm>
        </p:grpSpPr>
        <p:grpSp>
          <p:nvGrpSpPr>
            <p:cNvPr id="266" name=""/>
            <p:cNvGrpSpPr/>
            <p:nvPr/>
          </p:nvGrpSpPr>
          <p:grpSpPr>
            <a:xfrm>
              <a:off x="6781680" y="4645080"/>
              <a:ext cx="790560" cy="307800"/>
              <a:chOff x="6781680" y="4645080"/>
              <a:chExt cx="790560" cy="307800"/>
            </a:xfrm>
          </p:grpSpPr>
          <p:sp>
            <p:nvSpPr>
              <p:cNvPr id="267" name=""/>
              <p:cNvSpPr/>
              <p:nvPr/>
            </p:nvSpPr>
            <p:spPr>
              <a:xfrm>
                <a:off x="6858360" y="4645080"/>
                <a:ext cx="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81680" y="4903200"/>
                <a:ext cx="7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91120" y="4690440"/>
                <a:ext cx="194760" cy="212760"/>
              </a:xfrm>
              <a:prstGeom prst="rect">
                <a:avLst/>
              </a:prstGeom>
              <a:solidFill>
                <a:srgbClr val="315fa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18280" y="4766040"/>
                <a:ext cx="194760" cy="1368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345440" y="4829040"/>
                <a:ext cx="194760" cy="741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8440" bIns="28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6852960" y="4419720"/>
              <a:ext cx="794520" cy="261720"/>
              <a:chOff x="6852960" y="4419720"/>
              <a:chExt cx="794520" cy="26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7138080" y="4450320"/>
                <a:ext cx="11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58680" y="4621680"/>
                <a:ext cx="11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54360" y="4457880"/>
                <a:ext cx="0" cy="1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7364880" y="4464360"/>
                <a:ext cx="282600" cy="217080"/>
                <a:chOff x="7364880" y="4464360"/>
                <a:chExt cx="282600" cy="217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364880" y="4464360"/>
                  <a:ext cx="279720" cy="217080"/>
                </a:xfrm>
                <a:prstGeom prst="rect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371360" y="4472280"/>
                  <a:ext cx="269640" cy="496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3960" bIns="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68840" y="4528080"/>
                  <a:ext cx="275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7422840" y="4469040"/>
                  <a:ext cx="0" cy="21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7479360" y="446688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7533360" y="446688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7590600" y="446688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367040" y="4582440"/>
                  <a:ext cx="27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371360" y="4634280"/>
                  <a:ext cx="276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852960" y="4419720"/>
                <a:ext cx="282960" cy="217080"/>
                <a:chOff x="6852960" y="4419720"/>
                <a:chExt cx="282960" cy="2170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852960" y="4419720"/>
                  <a:ext cx="279720" cy="217080"/>
                </a:xfrm>
                <a:prstGeom prst="rect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859440" y="4427640"/>
                  <a:ext cx="270000" cy="496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3960" bIns="3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856920" y="4483440"/>
                  <a:ext cx="275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10920" y="4424760"/>
                  <a:ext cx="0" cy="21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6966720" y="4421880"/>
                  <a:ext cx="0" cy="21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7020720" y="4421880"/>
                  <a:ext cx="0" cy="21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7077960" y="4421880"/>
                  <a:ext cx="0" cy="21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855120" y="4537800"/>
                  <a:ext cx="27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859440" y="4589640"/>
                  <a:ext cx="27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" name=""/>
          <p:cNvGrpSpPr/>
          <p:nvPr/>
        </p:nvGrpSpPr>
        <p:grpSpPr>
          <a:xfrm>
            <a:off x="7010280" y="5600880"/>
            <a:ext cx="933480" cy="799920"/>
            <a:chOff x="7010280" y="5600880"/>
            <a:chExt cx="933480" cy="799920"/>
          </a:xfrm>
        </p:grpSpPr>
        <p:graphicFrame>
          <p:nvGraphicFramePr>
            <p:cNvPr id="297" name=""/>
            <p:cNvGraphicFramePr/>
            <p:nvPr/>
          </p:nvGraphicFramePr>
          <p:xfrm>
            <a:off x="7010280" y="5639040"/>
            <a:ext cx="44460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10280" y="5639040"/>
                      <a:ext cx="4446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7467480" y="5600880"/>
            <a:ext cx="476280" cy="79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67480" y="5600880"/>
                      <a:ext cx="4762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"/>
          <p:cNvSpPr/>
          <p:nvPr/>
        </p:nvSpPr>
        <p:spPr>
          <a:xfrm rot="41400">
            <a:off x="671040" y="1447920"/>
            <a:ext cx="1143000" cy="531720"/>
          </a:xfrm>
          <a:prstGeom prst="rightArrow">
            <a:avLst>
              <a:gd name="adj1" fmla="val 21306"/>
              <a:gd name="adj2" fmla="val 65842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41400">
            <a:off x="5027400" y="5944680"/>
            <a:ext cx="1295280" cy="532080"/>
          </a:xfrm>
          <a:prstGeom prst="rightArrow">
            <a:avLst>
              <a:gd name="adj1" fmla="val 21306"/>
              <a:gd name="adj2" fmla="val 74564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260280"/>
            <a:ext cx="820908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¿Por qué es importante la VISIÓN de un Sistema Integral de Información para el manejo de inform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30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17280" y="1030320"/>
            <a:ext cx="46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ecesidad de toma de Decisiones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219760" y="1967760"/>
            <a:ext cx="1425240" cy="1433160"/>
            <a:chOff x="2219760" y="1967760"/>
            <a:chExt cx="1425240" cy="1433160"/>
          </a:xfrm>
        </p:grpSpPr>
        <p:sp>
          <p:nvSpPr>
            <p:cNvPr id="311" name=""/>
            <p:cNvSpPr/>
            <p:nvPr/>
          </p:nvSpPr>
          <p:spPr>
            <a:xfrm rot="19003800">
              <a:off x="2317680" y="2277360"/>
              <a:ext cx="1207440" cy="764640"/>
            </a:xfrm>
            <a:custGeom>
              <a:avLst/>
              <a:gdLst/>
              <a:ahLst/>
              <a:rect l="l" t="t" r="r" b="b"/>
              <a:pathLst>
                <a:path w="784" h="642">
                  <a:moveTo>
                    <a:pt x="706" y="312"/>
                  </a:moveTo>
                  <a:lnTo>
                    <a:pt x="671" y="263"/>
                  </a:lnTo>
                  <a:lnTo>
                    <a:pt x="633" y="216"/>
                  </a:lnTo>
                  <a:lnTo>
                    <a:pt x="590" y="179"/>
                  </a:lnTo>
                  <a:lnTo>
                    <a:pt x="551" y="147"/>
                  </a:lnTo>
                  <a:lnTo>
                    <a:pt x="504" y="111"/>
                  </a:lnTo>
                  <a:lnTo>
                    <a:pt x="463" y="84"/>
                  </a:lnTo>
                  <a:lnTo>
                    <a:pt x="419" y="63"/>
                  </a:lnTo>
                  <a:lnTo>
                    <a:pt x="369" y="44"/>
                  </a:lnTo>
                  <a:lnTo>
                    <a:pt x="325" y="25"/>
                  </a:lnTo>
                  <a:lnTo>
                    <a:pt x="281" y="9"/>
                  </a:lnTo>
                  <a:lnTo>
                    <a:pt x="232" y="3"/>
                  </a:lnTo>
                  <a:lnTo>
                    <a:pt x="184" y="1"/>
                  </a:lnTo>
                  <a:lnTo>
                    <a:pt x="137" y="0"/>
                  </a:lnTo>
                  <a:lnTo>
                    <a:pt x="93" y="7"/>
                  </a:lnTo>
                  <a:lnTo>
                    <a:pt x="47" y="11"/>
                  </a:lnTo>
                  <a:lnTo>
                    <a:pt x="0" y="28"/>
                  </a:lnTo>
                  <a:lnTo>
                    <a:pt x="2" y="60"/>
                  </a:lnTo>
                  <a:lnTo>
                    <a:pt x="40" y="58"/>
                  </a:lnTo>
                  <a:lnTo>
                    <a:pt x="82" y="62"/>
                  </a:lnTo>
                  <a:lnTo>
                    <a:pt x="122" y="66"/>
                  </a:lnTo>
                  <a:lnTo>
                    <a:pt x="161" y="81"/>
                  </a:lnTo>
                  <a:lnTo>
                    <a:pt x="199" y="93"/>
                  </a:lnTo>
                  <a:lnTo>
                    <a:pt x="238" y="108"/>
                  </a:lnTo>
                  <a:lnTo>
                    <a:pt x="276" y="129"/>
                  </a:lnTo>
                  <a:lnTo>
                    <a:pt x="312" y="153"/>
                  </a:lnTo>
                  <a:lnTo>
                    <a:pt x="347" y="180"/>
                  </a:lnTo>
                  <a:lnTo>
                    <a:pt x="385" y="215"/>
                  </a:lnTo>
                  <a:lnTo>
                    <a:pt x="416" y="251"/>
                  </a:lnTo>
                  <a:lnTo>
                    <a:pt x="451" y="289"/>
                  </a:lnTo>
                  <a:lnTo>
                    <a:pt x="483" y="328"/>
                  </a:lnTo>
                  <a:lnTo>
                    <a:pt x="512" y="377"/>
                  </a:lnTo>
                  <a:lnTo>
                    <a:pt x="544" y="424"/>
                  </a:lnTo>
                  <a:lnTo>
                    <a:pt x="573" y="478"/>
                  </a:lnTo>
                  <a:lnTo>
                    <a:pt x="486" y="581"/>
                  </a:lnTo>
                  <a:lnTo>
                    <a:pt x="769" y="641"/>
                  </a:lnTo>
                  <a:lnTo>
                    <a:pt x="783" y="223"/>
                  </a:lnTo>
                  <a:lnTo>
                    <a:pt x="706" y="312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9003800">
              <a:off x="3409560" y="2104920"/>
              <a:ext cx="59760" cy="536040"/>
            </a:xfrm>
            <a:custGeom>
              <a:avLst/>
              <a:gdLst/>
              <a:ahLst/>
              <a:rect l="l" t="t" r="r" b="b"/>
              <a:pathLst>
                <a:path w="39" h="450">
                  <a:moveTo>
                    <a:pt x="0" y="449"/>
                  </a:moveTo>
                  <a:lnTo>
                    <a:pt x="22" y="420"/>
                  </a:lnTo>
                  <a:lnTo>
                    <a:pt x="38" y="0"/>
                  </a:lnTo>
                  <a:lnTo>
                    <a:pt x="9" y="34"/>
                  </a:lnTo>
                  <a:lnTo>
                    <a:pt x="0" y="44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003800">
              <a:off x="2316600" y="2335680"/>
              <a:ext cx="1202760" cy="755280"/>
            </a:xfrm>
            <a:custGeom>
              <a:avLst/>
              <a:gdLst/>
              <a:ahLst/>
              <a:rect l="l" t="t" r="r" b="b"/>
              <a:pathLst>
                <a:path w="781" h="634">
                  <a:moveTo>
                    <a:pt x="703" y="306"/>
                  </a:moveTo>
                  <a:lnTo>
                    <a:pt x="666" y="259"/>
                  </a:lnTo>
                  <a:lnTo>
                    <a:pt x="629" y="212"/>
                  </a:lnTo>
                  <a:lnTo>
                    <a:pt x="591" y="177"/>
                  </a:lnTo>
                  <a:lnTo>
                    <a:pt x="545" y="140"/>
                  </a:lnTo>
                  <a:lnTo>
                    <a:pt x="502" y="109"/>
                  </a:lnTo>
                  <a:lnTo>
                    <a:pt x="459" y="81"/>
                  </a:lnTo>
                  <a:lnTo>
                    <a:pt x="415" y="59"/>
                  </a:lnTo>
                  <a:lnTo>
                    <a:pt x="369" y="40"/>
                  </a:lnTo>
                  <a:lnTo>
                    <a:pt x="323" y="21"/>
                  </a:lnTo>
                  <a:lnTo>
                    <a:pt x="276" y="8"/>
                  </a:lnTo>
                  <a:lnTo>
                    <a:pt x="227" y="2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9" y="4"/>
                  </a:lnTo>
                  <a:lnTo>
                    <a:pt x="46" y="13"/>
                  </a:lnTo>
                  <a:lnTo>
                    <a:pt x="0" y="25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77" y="59"/>
                  </a:lnTo>
                  <a:lnTo>
                    <a:pt x="119" y="66"/>
                  </a:lnTo>
                  <a:lnTo>
                    <a:pt x="160" y="75"/>
                  </a:lnTo>
                  <a:lnTo>
                    <a:pt x="196" y="94"/>
                  </a:lnTo>
                  <a:lnTo>
                    <a:pt x="237" y="108"/>
                  </a:lnTo>
                  <a:lnTo>
                    <a:pt x="276" y="126"/>
                  </a:lnTo>
                  <a:lnTo>
                    <a:pt x="311" y="150"/>
                  </a:lnTo>
                  <a:lnTo>
                    <a:pt x="348" y="179"/>
                  </a:lnTo>
                  <a:lnTo>
                    <a:pt x="382" y="210"/>
                  </a:lnTo>
                  <a:lnTo>
                    <a:pt x="415" y="247"/>
                  </a:lnTo>
                  <a:lnTo>
                    <a:pt x="448" y="284"/>
                  </a:lnTo>
                  <a:lnTo>
                    <a:pt x="481" y="326"/>
                  </a:lnTo>
                  <a:lnTo>
                    <a:pt x="509" y="371"/>
                  </a:lnTo>
                  <a:lnTo>
                    <a:pt x="541" y="419"/>
                  </a:lnTo>
                  <a:lnTo>
                    <a:pt x="566" y="471"/>
                  </a:lnTo>
                  <a:lnTo>
                    <a:pt x="483" y="574"/>
                  </a:lnTo>
                  <a:lnTo>
                    <a:pt x="765" y="633"/>
                  </a:lnTo>
                  <a:lnTo>
                    <a:pt x="780" y="217"/>
                  </a:lnTo>
                  <a:lnTo>
                    <a:pt x="703" y="30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85800" y="1828800"/>
            <a:ext cx="228600" cy="4648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62"/>
                </a:lnTo>
                <a:cubicBezTo>
                  <a:pt x="10800" y="10062"/>
                  <a:pt x="5400" y="10962"/>
                  <a:pt x="0" y="10962"/>
                </a:cubicBezTo>
                <a:cubicBezTo>
                  <a:pt x="5400" y="10962"/>
                  <a:pt x="10800" y="11862"/>
                  <a:pt x="10800" y="127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40440" y="63244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Toma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0740000">
            <a:off x="104760" y="1143000"/>
            <a:ext cx="546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Tiempo ........x min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700440" y="1905120"/>
            <a:ext cx="1337760" cy="1466280"/>
            <a:chOff x="3700440" y="1905120"/>
            <a:chExt cx="1337760" cy="1466280"/>
          </a:xfrm>
        </p:grpSpPr>
        <p:grpSp>
          <p:nvGrpSpPr>
            <p:cNvPr id="318" name=""/>
            <p:cNvGrpSpPr/>
            <p:nvPr/>
          </p:nvGrpSpPr>
          <p:grpSpPr>
            <a:xfrm>
              <a:off x="3700440" y="1905120"/>
              <a:ext cx="1312920" cy="1466280"/>
              <a:chOff x="3700440" y="1905120"/>
              <a:chExt cx="1312920" cy="1466280"/>
            </a:xfrm>
          </p:grpSpPr>
          <p:sp>
            <p:nvSpPr>
              <p:cNvPr id="319" name=""/>
              <p:cNvSpPr/>
              <p:nvPr/>
            </p:nvSpPr>
            <p:spPr>
              <a:xfrm>
                <a:off x="3717720" y="2152440"/>
                <a:ext cx="1285920" cy="11044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28880" y="3031920"/>
                <a:ext cx="1284480" cy="3394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0440" y="1905120"/>
                <a:ext cx="1284120" cy="3376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785040" y="2428560"/>
              <a:ext cx="12531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30240" bIns="30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Ware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05320" y="4343400"/>
            <a:ext cx="1981080" cy="1295280"/>
            <a:chOff x="3505320" y="4343400"/>
            <a:chExt cx="1981080" cy="1295280"/>
          </a:xfrm>
        </p:grpSpPr>
        <p:sp>
          <p:nvSpPr>
            <p:cNvPr id="324" name=""/>
            <p:cNvSpPr/>
            <p:nvPr/>
          </p:nvSpPr>
          <p:spPr>
            <a:xfrm>
              <a:off x="3505320" y="4343400"/>
              <a:ext cx="1981080" cy="12952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81640" y="4437000"/>
              <a:ext cx="1733400" cy="105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Verdana"/>
                </a:rPr>
                <a:t>Sistema(SII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Verdana"/>
                </a:rPr>
                <a:t>Soporta Toma de decisiones en Lí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401280" y="4062240"/>
            <a:ext cx="2041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Berlin Sans FB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5380800">
            <a:off x="4169880" y="3600360"/>
            <a:ext cx="611280" cy="417600"/>
          </a:xfrm>
          <a:prstGeom prst="rightArrow">
            <a:avLst>
              <a:gd name="adj1" fmla="val 50000"/>
              <a:gd name="adj2" fmla="val 36595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628640"/>
            <a:ext cx="2006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Berlin Sans FB"/>
              </a:rPr>
              <a:t>INFOR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661840" y="4651560"/>
            <a:ext cx="635400" cy="399600"/>
          </a:xfrm>
          <a:prstGeom prst="line">
            <a:avLst/>
          </a:prstGeom>
          <a:ln cap="rnd"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1080" y="5105520"/>
            <a:ext cx="239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onsulta de Indic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Prefabr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Modelación de Cub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172200" y="3124080"/>
            <a:ext cx="1981080" cy="1496880"/>
            <a:chOff x="6172200" y="3124080"/>
            <a:chExt cx="1981080" cy="149688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6324480" y="3124080"/>
              <a:ext cx="1828800" cy="149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6172200" y="3216240"/>
              <a:ext cx="456840" cy="516960"/>
              <a:chOff x="6172200" y="3216240"/>
              <a:chExt cx="456840" cy="516960"/>
            </a:xfrm>
          </p:grpSpPr>
          <p:sp>
            <p:nvSpPr>
              <p:cNvPr id="334" name=""/>
              <p:cNvSpPr/>
              <p:nvPr/>
            </p:nvSpPr>
            <p:spPr>
              <a:xfrm>
                <a:off x="6257160" y="350532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57160" y="340704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57160" y="3308760"/>
                <a:ext cx="9612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57160" y="321624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349680" y="3505320"/>
                <a:ext cx="979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349680" y="3407040"/>
                <a:ext cx="979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349680" y="3308760"/>
                <a:ext cx="9792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349680" y="3216240"/>
                <a:ext cx="979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39680" y="350532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439680" y="3407040"/>
                <a:ext cx="954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39680" y="3308760"/>
                <a:ext cx="9540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39680" y="321624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32920" y="350532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32920" y="340704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532920" y="3308760"/>
                <a:ext cx="9612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32920" y="321624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26200" y="3544560"/>
                <a:ext cx="972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26200" y="3446280"/>
                <a:ext cx="972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26200" y="3348000"/>
                <a:ext cx="972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26200" y="3254040"/>
                <a:ext cx="97200" cy="111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320880" y="354456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20880" y="344628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320880" y="3348000"/>
                <a:ext cx="968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20880" y="3254040"/>
                <a:ext cx="96840" cy="111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09440" y="354456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09440" y="344628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409440" y="3348000"/>
                <a:ext cx="968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09440" y="3254040"/>
                <a:ext cx="96840" cy="111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503040" y="3544560"/>
                <a:ext cx="979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03040" y="3446280"/>
                <a:ext cx="979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03040" y="3348000"/>
                <a:ext cx="979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503040" y="3254040"/>
                <a:ext cx="97920" cy="111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02080" y="3584160"/>
                <a:ext cx="950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02080" y="3486960"/>
                <a:ext cx="950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02080" y="3388680"/>
                <a:ext cx="9504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02080" y="3293640"/>
                <a:ext cx="950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96400" y="3584160"/>
                <a:ext cx="954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296400" y="348696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96400" y="3388680"/>
                <a:ext cx="9540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296400" y="329364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85320" y="3584160"/>
                <a:ext cx="954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5320" y="348696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85320" y="3388680"/>
                <a:ext cx="9540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385320" y="329364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78920" y="358416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8920" y="348696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78920" y="3388680"/>
                <a:ext cx="9612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478920" y="329364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72200" y="362448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2200" y="3525120"/>
                <a:ext cx="96840" cy="109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72200" y="3427920"/>
                <a:ext cx="968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72200" y="3336120"/>
                <a:ext cx="96840" cy="1076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266520" y="3624480"/>
                <a:ext cx="954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66520" y="3525120"/>
                <a:ext cx="95400" cy="109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66520" y="342792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66520" y="3336120"/>
                <a:ext cx="95400" cy="1076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55440" y="362448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55440" y="3525120"/>
                <a:ext cx="96120" cy="109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55440" y="342792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55440" y="3336120"/>
                <a:ext cx="96120" cy="1076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449760" y="362448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49760" y="3525120"/>
                <a:ext cx="96120" cy="109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49760" y="342792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49760" y="3336120"/>
                <a:ext cx="96120" cy="1076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514840" y="4994280"/>
            <a:ext cx="965880" cy="635040"/>
          </a:xfrm>
          <a:prstGeom prst="line">
            <a:avLst/>
          </a:prstGeom>
          <a:ln cap="rnd"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561640" y="4000680"/>
            <a:ext cx="572040" cy="494280"/>
          </a:xfrm>
          <a:prstGeom prst="line">
            <a:avLst/>
          </a:prstGeom>
          <a:ln cap="rnd"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6553080"/>
            <a:ext cx="6858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6705720"/>
            <a:ext cx="6858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858000" y="4952880"/>
            <a:ext cx="2286000" cy="1447920"/>
            <a:chOff x="6858000" y="4952880"/>
            <a:chExt cx="2286000" cy="1447920"/>
          </a:xfrm>
        </p:grpSpPr>
        <p:pic>
          <p:nvPicPr>
            <p:cNvPr id="403" name="" descr=""/>
            <p:cNvPicPr/>
            <p:nvPr/>
          </p:nvPicPr>
          <p:blipFill>
            <a:blip r:embed="rId3"/>
            <a:stretch/>
          </p:blipFill>
          <p:spPr>
            <a:xfrm>
              <a:off x="6858000" y="495288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04" name=""/>
            <p:cNvGraphicFramePr/>
            <p:nvPr/>
          </p:nvGraphicFramePr>
          <p:xfrm>
            <a:off x="8381880" y="5638680"/>
            <a:ext cx="762120" cy="6811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381880" y="5638680"/>
                      <a:ext cx="762120" cy="681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06" name=""/>
          <p:cNvSpPr/>
          <p:nvPr/>
        </p:nvSpPr>
        <p:spPr>
          <a:xfrm>
            <a:off x="920880" y="2344680"/>
            <a:ext cx="1469880" cy="9414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fefefe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33480" y="3094200"/>
            <a:ext cx="1468440" cy="288720"/>
          </a:xfrm>
          <a:prstGeom prst="ellipse">
            <a:avLst/>
          </a:prstGeom>
          <a:gradFill rotWithShape="0">
            <a:gsLst>
              <a:gs pos="0">
                <a:srgbClr val="333333"/>
              </a:gs>
              <a:gs pos="50000">
                <a:srgbClr val="fefefe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00000" y="2133720"/>
            <a:ext cx="1468440" cy="287280"/>
          </a:xfrm>
          <a:prstGeom prst="ellipse">
            <a:avLst/>
          </a:prstGeom>
          <a:gradFill rotWithShape="0">
            <a:gsLst>
              <a:gs pos="0">
                <a:srgbClr val="333333"/>
              </a:gs>
              <a:gs pos="50000">
                <a:srgbClr val="fefefe"/>
              </a:gs>
              <a:gs pos="100000">
                <a:srgbClr val="3333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6920" y="2492280"/>
            <a:ext cx="1657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o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 de datos institu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41400">
            <a:off x="394920" y="981000"/>
            <a:ext cx="1143000" cy="531720"/>
          </a:xfrm>
          <a:prstGeom prst="rightArrow">
            <a:avLst>
              <a:gd name="adj1" fmla="val 21306"/>
              <a:gd name="adj2" fmla="val 65842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32000" y="260280"/>
            <a:ext cx="7488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Ventajas con un sistema institucional integ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13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620640"/>
            <a:ext cx="7632720" cy="52056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erlin Sans FB"/>
              </a:rPr>
              <a:t>Las IES tenemos necesidad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00000" y="1628640"/>
            <a:ext cx="792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Berlin Sans FB"/>
              </a:rPr>
              <a:t>Conocimiento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:  Para la toma de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Berlin Sans FB"/>
              </a:rPr>
              <a:t>Información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:     Para conocer los fenómeno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Berlin Sans FB"/>
              </a:rPr>
              <a:t>Datos: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             Generados por procesos que no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  necesariamente se explot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393372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rlin Sans FB"/>
              </a:rPr>
              <a:t>Los Datos existen, pero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No siempre se acceden fáci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No siempre se explo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27432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2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836640"/>
            <a:ext cx="86868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Se necesitan sistemas orientados a 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soportar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toma de decisiones…. Trabajar en equip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Expresividad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Berlin Sans FB"/>
              </a:rPr>
              <a:t>eficiencia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Berlin Sans FB"/>
              </a:rPr>
              <a:t> y eficacia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 en consultas 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sencillas ha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las más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comple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                    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Datos actu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                                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      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           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históricos resum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               </a:t>
            </a: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7924680" y="5792760"/>
            <a:ext cx="1295640" cy="10652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0" y="5678640"/>
            <a:ext cx="1447920" cy="12556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611280" y="189000"/>
            <a:ext cx="7632720" cy="52056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¿Cuál es la prio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8275400">
            <a:off x="462600" y="3721680"/>
            <a:ext cx="1674720" cy="1521000"/>
          </a:xfrm>
          <a:custGeom>
            <a:avLst/>
            <a:gdLst/>
            <a:ahLst/>
            <a:rect l="l" t="t" r="r" b="b"/>
            <a:pathLst>
              <a:path w="666" h="667">
                <a:moveTo>
                  <a:pt x="386" y="86"/>
                </a:moveTo>
                <a:lnTo>
                  <a:pt x="339" y="109"/>
                </a:lnTo>
                <a:lnTo>
                  <a:pt x="293" y="133"/>
                </a:lnTo>
                <a:lnTo>
                  <a:pt x="257" y="160"/>
                </a:lnTo>
                <a:lnTo>
                  <a:pt x="217" y="193"/>
                </a:lnTo>
                <a:lnTo>
                  <a:pt x="181" y="225"/>
                </a:lnTo>
                <a:lnTo>
                  <a:pt x="149" y="259"/>
                </a:lnTo>
                <a:lnTo>
                  <a:pt x="121" y="294"/>
                </a:lnTo>
                <a:lnTo>
                  <a:pt x="95" y="331"/>
                </a:lnTo>
                <a:lnTo>
                  <a:pt x="70" y="368"/>
                </a:lnTo>
                <a:lnTo>
                  <a:pt x="49" y="407"/>
                </a:lnTo>
                <a:lnTo>
                  <a:pt x="33" y="449"/>
                </a:lnTo>
                <a:lnTo>
                  <a:pt x="20" y="491"/>
                </a:lnTo>
                <a:lnTo>
                  <a:pt x="10" y="531"/>
                </a:lnTo>
                <a:lnTo>
                  <a:pt x="4" y="575"/>
                </a:lnTo>
                <a:lnTo>
                  <a:pt x="0" y="615"/>
                </a:lnTo>
                <a:lnTo>
                  <a:pt x="0" y="659"/>
                </a:lnTo>
                <a:lnTo>
                  <a:pt x="28" y="666"/>
                </a:lnTo>
                <a:lnTo>
                  <a:pt x="37" y="629"/>
                </a:lnTo>
                <a:lnTo>
                  <a:pt x="46" y="597"/>
                </a:lnTo>
                <a:lnTo>
                  <a:pt x="61" y="560"/>
                </a:lnTo>
                <a:lnTo>
                  <a:pt x="77" y="526"/>
                </a:lnTo>
                <a:lnTo>
                  <a:pt x="101" y="496"/>
                </a:lnTo>
                <a:lnTo>
                  <a:pt x="121" y="464"/>
                </a:lnTo>
                <a:lnTo>
                  <a:pt x="144" y="432"/>
                </a:lnTo>
                <a:lnTo>
                  <a:pt x="171" y="405"/>
                </a:lnTo>
                <a:lnTo>
                  <a:pt x="203" y="378"/>
                </a:lnTo>
                <a:lnTo>
                  <a:pt x="236" y="353"/>
                </a:lnTo>
                <a:lnTo>
                  <a:pt x="274" y="331"/>
                </a:lnTo>
                <a:lnTo>
                  <a:pt x="311" y="309"/>
                </a:lnTo>
                <a:lnTo>
                  <a:pt x="352" y="289"/>
                </a:lnTo>
                <a:lnTo>
                  <a:pt x="396" y="272"/>
                </a:lnTo>
                <a:lnTo>
                  <a:pt x="441" y="254"/>
                </a:lnTo>
                <a:lnTo>
                  <a:pt x="490" y="242"/>
                </a:lnTo>
                <a:lnTo>
                  <a:pt x="555" y="336"/>
                </a:lnTo>
                <a:lnTo>
                  <a:pt x="665" y="96"/>
                </a:lnTo>
                <a:lnTo>
                  <a:pt x="331" y="0"/>
                </a:lnTo>
                <a:lnTo>
                  <a:pt x="386" y="86"/>
                </a:lnTo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8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335120" y="3314880"/>
            <a:ext cx="2584440" cy="2516760"/>
            <a:chOff x="4335120" y="3314880"/>
            <a:chExt cx="2584440" cy="2516760"/>
          </a:xfrm>
        </p:grpSpPr>
        <p:sp>
          <p:nvSpPr>
            <p:cNvPr id="432" name=""/>
            <p:cNvSpPr/>
            <p:nvPr/>
          </p:nvSpPr>
          <p:spPr>
            <a:xfrm rot="2449800">
              <a:off x="4716720" y="3743280"/>
              <a:ext cx="1909440" cy="1608480"/>
            </a:xfrm>
            <a:custGeom>
              <a:avLst/>
              <a:gdLst/>
              <a:ahLst/>
              <a:rect l="l" t="t" r="r" b="b"/>
              <a:pathLst>
                <a:path w="784" h="642">
                  <a:moveTo>
                    <a:pt x="706" y="312"/>
                  </a:moveTo>
                  <a:lnTo>
                    <a:pt x="671" y="263"/>
                  </a:lnTo>
                  <a:lnTo>
                    <a:pt x="633" y="216"/>
                  </a:lnTo>
                  <a:lnTo>
                    <a:pt x="590" y="179"/>
                  </a:lnTo>
                  <a:lnTo>
                    <a:pt x="551" y="147"/>
                  </a:lnTo>
                  <a:lnTo>
                    <a:pt x="504" y="111"/>
                  </a:lnTo>
                  <a:lnTo>
                    <a:pt x="463" y="84"/>
                  </a:lnTo>
                  <a:lnTo>
                    <a:pt x="419" y="63"/>
                  </a:lnTo>
                  <a:lnTo>
                    <a:pt x="369" y="44"/>
                  </a:lnTo>
                  <a:lnTo>
                    <a:pt x="325" y="25"/>
                  </a:lnTo>
                  <a:lnTo>
                    <a:pt x="281" y="9"/>
                  </a:lnTo>
                  <a:lnTo>
                    <a:pt x="232" y="3"/>
                  </a:lnTo>
                  <a:lnTo>
                    <a:pt x="184" y="1"/>
                  </a:lnTo>
                  <a:lnTo>
                    <a:pt x="137" y="0"/>
                  </a:lnTo>
                  <a:lnTo>
                    <a:pt x="93" y="7"/>
                  </a:lnTo>
                  <a:lnTo>
                    <a:pt x="47" y="11"/>
                  </a:lnTo>
                  <a:lnTo>
                    <a:pt x="0" y="28"/>
                  </a:lnTo>
                  <a:lnTo>
                    <a:pt x="2" y="60"/>
                  </a:lnTo>
                  <a:lnTo>
                    <a:pt x="40" y="58"/>
                  </a:lnTo>
                  <a:lnTo>
                    <a:pt x="82" y="62"/>
                  </a:lnTo>
                  <a:lnTo>
                    <a:pt x="122" y="66"/>
                  </a:lnTo>
                  <a:lnTo>
                    <a:pt x="161" y="81"/>
                  </a:lnTo>
                  <a:lnTo>
                    <a:pt x="199" y="93"/>
                  </a:lnTo>
                  <a:lnTo>
                    <a:pt x="238" y="108"/>
                  </a:lnTo>
                  <a:lnTo>
                    <a:pt x="276" y="129"/>
                  </a:lnTo>
                  <a:lnTo>
                    <a:pt x="312" y="153"/>
                  </a:lnTo>
                  <a:lnTo>
                    <a:pt x="347" y="180"/>
                  </a:lnTo>
                  <a:lnTo>
                    <a:pt x="385" y="215"/>
                  </a:lnTo>
                  <a:lnTo>
                    <a:pt x="416" y="251"/>
                  </a:lnTo>
                  <a:lnTo>
                    <a:pt x="451" y="289"/>
                  </a:lnTo>
                  <a:lnTo>
                    <a:pt x="483" y="328"/>
                  </a:lnTo>
                  <a:lnTo>
                    <a:pt x="512" y="377"/>
                  </a:lnTo>
                  <a:lnTo>
                    <a:pt x="544" y="424"/>
                  </a:lnTo>
                  <a:lnTo>
                    <a:pt x="573" y="478"/>
                  </a:lnTo>
                  <a:lnTo>
                    <a:pt x="486" y="581"/>
                  </a:lnTo>
                  <a:lnTo>
                    <a:pt x="769" y="641"/>
                  </a:lnTo>
                  <a:lnTo>
                    <a:pt x="783" y="223"/>
                  </a:lnTo>
                  <a:lnTo>
                    <a:pt x="706" y="31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449800">
              <a:off x="6108840" y="4809600"/>
              <a:ext cx="94680" cy="1127880"/>
            </a:xfrm>
            <a:custGeom>
              <a:avLst/>
              <a:gdLst/>
              <a:ahLst/>
              <a:rect l="l" t="t" r="r" b="b"/>
              <a:pathLst>
                <a:path w="39" h="450">
                  <a:moveTo>
                    <a:pt x="0" y="449"/>
                  </a:moveTo>
                  <a:lnTo>
                    <a:pt x="22" y="420"/>
                  </a:lnTo>
                  <a:lnTo>
                    <a:pt x="38" y="0"/>
                  </a:lnTo>
                  <a:lnTo>
                    <a:pt x="9" y="34"/>
                  </a:lnTo>
                  <a:lnTo>
                    <a:pt x="0" y="44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2449800">
              <a:off x="4622760" y="3771360"/>
              <a:ext cx="1902240" cy="1588680"/>
            </a:xfrm>
            <a:custGeom>
              <a:avLst/>
              <a:gdLst/>
              <a:ahLst/>
              <a:rect l="l" t="t" r="r" b="b"/>
              <a:pathLst>
                <a:path w="781" h="634">
                  <a:moveTo>
                    <a:pt x="703" y="306"/>
                  </a:moveTo>
                  <a:lnTo>
                    <a:pt x="666" y="259"/>
                  </a:lnTo>
                  <a:lnTo>
                    <a:pt x="629" y="212"/>
                  </a:lnTo>
                  <a:lnTo>
                    <a:pt x="591" y="177"/>
                  </a:lnTo>
                  <a:lnTo>
                    <a:pt x="545" y="140"/>
                  </a:lnTo>
                  <a:lnTo>
                    <a:pt x="502" y="109"/>
                  </a:lnTo>
                  <a:lnTo>
                    <a:pt x="459" y="81"/>
                  </a:lnTo>
                  <a:lnTo>
                    <a:pt x="415" y="59"/>
                  </a:lnTo>
                  <a:lnTo>
                    <a:pt x="369" y="40"/>
                  </a:lnTo>
                  <a:lnTo>
                    <a:pt x="323" y="21"/>
                  </a:lnTo>
                  <a:lnTo>
                    <a:pt x="276" y="8"/>
                  </a:lnTo>
                  <a:lnTo>
                    <a:pt x="227" y="2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9" y="4"/>
                  </a:lnTo>
                  <a:lnTo>
                    <a:pt x="46" y="13"/>
                  </a:lnTo>
                  <a:lnTo>
                    <a:pt x="0" y="25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77" y="59"/>
                  </a:lnTo>
                  <a:lnTo>
                    <a:pt x="119" y="66"/>
                  </a:lnTo>
                  <a:lnTo>
                    <a:pt x="160" y="75"/>
                  </a:lnTo>
                  <a:lnTo>
                    <a:pt x="196" y="94"/>
                  </a:lnTo>
                  <a:lnTo>
                    <a:pt x="237" y="108"/>
                  </a:lnTo>
                  <a:lnTo>
                    <a:pt x="276" y="126"/>
                  </a:lnTo>
                  <a:lnTo>
                    <a:pt x="311" y="150"/>
                  </a:lnTo>
                  <a:lnTo>
                    <a:pt x="348" y="179"/>
                  </a:lnTo>
                  <a:lnTo>
                    <a:pt x="382" y="210"/>
                  </a:lnTo>
                  <a:lnTo>
                    <a:pt x="415" y="247"/>
                  </a:lnTo>
                  <a:lnTo>
                    <a:pt x="448" y="284"/>
                  </a:lnTo>
                  <a:lnTo>
                    <a:pt x="481" y="326"/>
                  </a:lnTo>
                  <a:lnTo>
                    <a:pt x="509" y="371"/>
                  </a:lnTo>
                  <a:lnTo>
                    <a:pt x="541" y="419"/>
                  </a:lnTo>
                  <a:lnTo>
                    <a:pt x="566" y="471"/>
                  </a:lnTo>
                  <a:lnTo>
                    <a:pt x="483" y="574"/>
                  </a:lnTo>
                  <a:lnTo>
                    <a:pt x="765" y="633"/>
                  </a:lnTo>
                  <a:lnTo>
                    <a:pt x="780" y="217"/>
                  </a:lnTo>
                  <a:lnTo>
                    <a:pt x="703" y="30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1619280" y="522936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En Constante Evolución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2473560" y="635940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Berlin Sans FB"/>
              </a:rPr>
              <a:t>Eficiencia = cómo    --  </a:t>
            </a:r>
            <a:r>
              <a:rPr b="0" lang="es-ES" sz="1800" spc="-1" strike="noStrike">
                <a:solidFill>
                  <a:srgbClr val="000000"/>
                </a:solidFill>
                <a:latin typeface="Berlin Sans FB"/>
              </a:rPr>
              <a:t>E</a:t>
            </a:r>
            <a:r>
              <a:rPr b="0" lang="es-MX" sz="1800" spc="-1" strike="noStrike">
                <a:solidFill>
                  <a:srgbClr val="000000"/>
                </a:solidFill>
                <a:latin typeface="Berlin Sans FB"/>
              </a:rPr>
              <a:t>ficacia =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38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0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63640" y="1197000"/>
            <a:ext cx="766908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Estructura de información sólo de consul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Diseñada para facilitar el análisis de datos de diferentes sistemas o fu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Puede ser usada para eliminar suposiciones y desconocimiento para la toma de decisiones dentro de las mis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Puede ser utilizada a nivel estratégico, incluye tanto datos recientes como históricos, además de los datos actuales que son el centro de un sistema operacional, y la posibilidad de analizar t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89000"/>
            <a:ext cx="8064360" cy="52056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erlin Sans FB"/>
              </a:rPr>
              <a:t>¿Qué es un Sistema de Información Ejecuti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7164360" y="549360"/>
            <a:ext cx="1600200" cy="1479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611280" y="20606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611280" y="31417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2142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50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6324480" y="739800"/>
            <a:ext cx="2895840" cy="13939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755640" y="1197000"/>
            <a:ext cx="815328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Acceder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a los datos de toda la in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Formatos y arquitecturas diferentes, fuent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datos diversas (txt, excel, SQL, oracle, fox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3141720"/>
            <a:ext cx="80773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Obtener datos cons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Codificacion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es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de agrupacione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5640" y="4221000"/>
            <a:ext cx="7772400" cy="11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Obtener datos requeridos en  forma ráp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Diseños particulares para acelerar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el proceso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 con grandes volúmenes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1280" y="189000"/>
            <a:ext cx="6769080" cy="52056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BENEFICIOS UN SIE para las IES ….(DW)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16000" y="5734080"/>
            <a:ext cx="788508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Estos beneficios aumentan cuanto más importantes so</a:t>
            </a: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 </a:t>
            </a: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las   decisiones a tomar y cuanto más crítico es el factor tiempo</a:t>
            </a: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”</a:t>
            </a: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611280" y="32846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611280" y="4365720"/>
            <a:ext cx="2142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64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1280" y="189000"/>
            <a:ext cx="7705800" cy="4129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FASES DE IMPLANTACIÓN DE UN SIE (D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5276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8360" y="765000"/>
            <a:ext cx="8136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Un Data Warehouse NO se puede COMPRAR, se tiene que  CONSTRUI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image92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6248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684360" y="54936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14300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328400"/>
            <a:ext cx="77756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erlin Sans FB"/>
                <a:ea typeface="Arial"/>
              </a:rPr>
              <a:t>AMEREIAF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Arial"/>
              </a:rPr>
              <a:t> es una Asociación Civil cuyo 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  <a:ea typeface="Arial"/>
              </a:rPr>
              <a:t>objeto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Arial"/>
              </a:rPr>
              <a:t>,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Arial"/>
              </a:rPr>
              <a:t>Coadyuvar al mejoramiento cualitativo de los procesos y productos académicos de las instituciones de educación superior, a través de actualizar, perfeccionar y hacer más eficientes sus sistemas administrativos y financieros, en lo conceptual, técnico y operativo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73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4005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Mantener información histórica dentro de la base de datos institucional que de soporte a la toma de decisiones del Rector y funcionarios mediante aplicaciones ger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55640" y="1916280"/>
            <a:ext cx="7841880" cy="1159920"/>
            <a:chOff x="755640" y="1916280"/>
            <a:chExt cx="7841880" cy="1159920"/>
          </a:xfrm>
        </p:grpSpPr>
        <p:sp>
          <p:nvSpPr>
            <p:cNvPr id="479" name=""/>
            <p:cNvSpPr/>
            <p:nvPr/>
          </p:nvSpPr>
          <p:spPr>
            <a:xfrm>
              <a:off x="755640" y="1916280"/>
              <a:ext cx="784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5640" y="1916280"/>
              <a:ext cx="784188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rlin Sans FB"/>
                </a:rPr>
                <a:t>Recolectar y consolidar información estadística sobre el Sistema Integral de Información Administrativa (SIIA) de la Universidad y a partir de ello, brindar una estructura de apoyo para la toma de decisiones a través de la exploración de la misma, y asi poder contar con información  consistent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124000" y="476280"/>
            <a:ext cx="6335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  <a:ea typeface="Times New Roman"/>
              </a:rPr>
              <a:t>SIE en las IE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656000" cy="11923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2142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486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8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476280"/>
            <a:ext cx="6935760" cy="581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erlin Sans FB"/>
              </a:rPr>
              <a:t>Esquema de 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21360600">
            <a:off x="0" y="2066760"/>
            <a:ext cx="539640" cy="457200"/>
          </a:xfrm>
          <a:prstGeom prst="rightArrow">
            <a:avLst>
              <a:gd name="adj1" fmla="val 33241"/>
              <a:gd name="adj2" fmla="val 1624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143440" y="1817640"/>
            <a:ext cx="1251000" cy="1276200"/>
            <a:chOff x="2143440" y="1817640"/>
            <a:chExt cx="1251000" cy="1276200"/>
          </a:xfrm>
        </p:grpSpPr>
        <p:sp>
          <p:nvSpPr>
            <p:cNvPr id="493" name=""/>
            <p:cNvSpPr/>
            <p:nvPr/>
          </p:nvSpPr>
          <p:spPr>
            <a:xfrm rot="19003800">
              <a:off x="2362320" y="1957680"/>
              <a:ext cx="785520" cy="950760"/>
            </a:xfrm>
            <a:custGeom>
              <a:avLst/>
              <a:gdLst/>
              <a:ahLst/>
              <a:rect l="l" t="t" r="r" b="b"/>
              <a:pathLst>
                <a:path w="784" h="642">
                  <a:moveTo>
                    <a:pt x="706" y="312"/>
                  </a:moveTo>
                  <a:lnTo>
                    <a:pt x="671" y="263"/>
                  </a:lnTo>
                  <a:lnTo>
                    <a:pt x="633" y="216"/>
                  </a:lnTo>
                  <a:lnTo>
                    <a:pt x="590" y="179"/>
                  </a:lnTo>
                  <a:lnTo>
                    <a:pt x="551" y="147"/>
                  </a:lnTo>
                  <a:lnTo>
                    <a:pt x="504" y="111"/>
                  </a:lnTo>
                  <a:lnTo>
                    <a:pt x="463" y="84"/>
                  </a:lnTo>
                  <a:lnTo>
                    <a:pt x="419" y="63"/>
                  </a:lnTo>
                  <a:lnTo>
                    <a:pt x="369" y="44"/>
                  </a:lnTo>
                  <a:lnTo>
                    <a:pt x="325" y="25"/>
                  </a:lnTo>
                  <a:lnTo>
                    <a:pt x="281" y="9"/>
                  </a:lnTo>
                  <a:lnTo>
                    <a:pt x="232" y="3"/>
                  </a:lnTo>
                  <a:lnTo>
                    <a:pt x="184" y="1"/>
                  </a:lnTo>
                  <a:lnTo>
                    <a:pt x="137" y="0"/>
                  </a:lnTo>
                  <a:lnTo>
                    <a:pt x="93" y="7"/>
                  </a:lnTo>
                  <a:lnTo>
                    <a:pt x="47" y="11"/>
                  </a:lnTo>
                  <a:lnTo>
                    <a:pt x="0" y="28"/>
                  </a:lnTo>
                  <a:lnTo>
                    <a:pt x="2" y="60"/>
                  </a:lnTo>
                  <a:lnTo>
                    <a:pt x="40" y="58"/>
                  </a:lnTo>
                  <a:lnTo>
                    <a:pt x="82" y="62"/>
                  </a:lnTo>
                  <a:lnTo>
                    <a:pt x="122" y="66"/>
                  </a:lnTo>
                  <a:lnTo>
                    <a:pt x="161" y="81"/>
                  </a:lnTo>
                  <a:lnTo>
                    <a:pt x="199" y="93"/>
                  </a:lnTo>
                  <a:lnTo>
                    <a:pt x="238" y="108"/>
                  </a:lnTo>
                  <a:lnTo>
                    <a:pt x="276" y="129"/>
                  </a:lnTo>
                  <a:lnTo>
                    <a:pt x="312" y="153"/>
                  </a:lnTo>
                  <a:lnTo>
                    <a:pt x="347" y="180"/>
                  </a:lnTo>
                  <a:lnTo>
                    <a:pt x="385" y="215"/>
                  </a:lnTo>
                  <a:lnTo>
                    <a:pt x="416" y="251"/>
                  </a:lnTo>
                  <a:lnTo>
                    <a:pt x="451" y="289"/>
                  </a:lnTo>
                  <a:lnTo>
                    <a:pt x="483" y="328"/>
                  </a:lnTo>
                  <a:lnTo>
                    <a:pt x="512" y="377"/>
                  </a:lnTo>
                  <a:lnTo>
                    <a:pt x="544" y="424"/>
                  </a:lnTo>
                  <a:lnTo>
                    <a:pt x="573" y="478"/>
                  </a:lnTo>
                  <a:lnTo>
                    <a:pt x="486" y="581"/>
                  </a:lnTo>
                  <a:lnTo>
                    <a:pt x="769" y="641"/>
                  </a:lnTo>
                  <a:lnTo>
                    <a:pt x="783" y="223"/>
                  </a:lnTo>
                  <a:lnTo>
                    <a:pt x="706" y="312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003800">
              <a:off x="3132360" y="1976400"/>
              <a:ext cx="38880" cy="666360"/>
            </a:xfrm>
            <a:custGeom>
              <a:avLst/>
              <a:gdLst/>
              <a:ahLst/>
              <a:rect l="l" t="t" r="r" b="b"/>
              <a:pathLst>
                <a:path w="39" h="450">
                  <a:moveTo>
                    <a:pt x="0" y="449"/>
                  </a:moveTo>
                  <a:lnTo>
                    <a:pt x="22" y="420"/>
                  </a:lnTo>
                  <a:lnTo>
                    <a:pt x="38" y="0"/>
                  </a:lnTo>
                  <a:lnTo>
                    <a:pt x="9" y="34"/>
                  </a:lnTo>
                  <a:lnTo>
                    <a:pt x="0" y="449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9003800">
              <a:off x="2376720" y="2014200"/>
              <a:ext cx="782640" cy="938880"/>
            </a:xfrm>
            <a:custGeom>
              <a:avLst/>
              <a:gdLst/>
              <a:ahLst/>
              <a:rect l="l" t="t" r="r" b="b"/>
              <a:pathLst>
                <a:path w="781" h="634">
                  <a:moveTo>
                    <a:pt x="703" y="306"/>
                  </a:moveTo>
                  <a:lnTo>
                    <a:pt x="666" y="259"/>
                  </a:lnTo>
                  <a:lnTo>
                    <a:pt x="629" y="212"/>
                  </a:lnTo>
                  <a:lnTo>
                    <a:pt x="591" y="177"/>
                  </a:lnTo>
                  <a:lnTo>
                    <a:pt x="545" y="140"/>
                  </a:lnTo>
                  <a:lnTo>
                    <a:pt x="502" y="109"/>
                  </a:lnTo>
                  <a:lnTo>
                    <a:pt x="459" y="81"/>
                  </a:lnTo>
                  <a:lnTo>
                    <a:pt x="415" y="59"/>
                  </a:lnTo>
                  <a:lnTo>
                    <a:pt x="369" y="40"/>
                  </a:lnTo>
                  <a:lnTo>
                    <a:pt x="323" y="21"/>
                  </a:lnTo>
                  <a:lnTo>
                    <a:pt x="276" y="8"/>
                  </a:lnTo>
                  <a:lnTo>
                    <a:pt x="227" y="2"/>
                  </a:lnTo>
                  <a:lnTo>
                    <a:pt x="181" y="0"/>
                  </a:lnTo>
                  <a:lnTo>
                    <a:pt x="136" y="0"/>
                  </a:lnTo>
                  <a:lnTo>
                    <a:pt x="89" y="4"/>
                  </a:lnTo>
                  <a:lnTo>
                    <a:pt x="46" y="13"/>
                  </a:lnTo>
                  <a:lnTo>
                    <a:pt x="0" y="25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77" y="59"/>
                  </a:lnTo>
                  <a:lnTo>
                    <a:pt x="119" y="66"/>
                  </a:lnTo>
                  <a:lnTo>
                    <a:pt x="160" y="75"/>
                  </a:lnTo>
                  <a:lnTo>
                    <a:pt x="196" y="94"/>
                  </a:lnTo>
                  <a:lnTo>
                    <a:pt x="237" y="108"/>
                  </a:lnTo>
                  <a:lnTo>
                    <a:pt x="276" y="126"/>
                  </a:lnTo>
                  <a:lnTo>
                    <a:pt x="311" y="150"/>
                  </a:lnTo>
                  <a:lnTo>
                    <a:pt x="348" y="179"/>
                  </a:lnTo>
                  <a:lnTo>
                    <a:pt x="382" y="210"/>
                  </a:lnTo>
                  <a:lnTo>
                    <a:pt x="415" y="247"/>
                  </a:lnTo>
                  <a:lnTo>
                    <a:pt x="448" y="284"/>
                  </a:lnTo>
                  <a:lnTo>
                    <a:pt x="481" y="326"/>
                  </a:lnTo>
                  <a:lnTo>
                    <a:pt x="509" y="371"/>
                  </a:lnTo>
                  <a:lnTo>
                    <a:pt x="541" y="419"/>
                  </a:lnTo>
                  <a:lnTo>
                    <a:pt x="566" y="471"/>
                  </a:lnTo>
                  <a:lnTo>
                    <a:pt x="483" y="574"/>
                  </a:lnTo>
                  <a:lnTo>
                    <a:pt x="765" y="633"/>
                  </a:lnTo>
                  <a:lnTo>
                    <a:pt x="780" y="217"/>
                  </a:lnTo>
                  <a:lnTo>
                    <a:pt x="703" y="30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635280" y="1773360"/>
            <a:ext cx="1726200" cy="1654920"/>
            <a:chOff x="3635280" y="1773360"/>
            <a:chExt cx="1726200" cy="1654920"/>
          </a:xfrm>
        </p:grpSpPr>
        <p:grpSp>
          <p:nvGrpSpPr>
            <p:cNvPr id="497" name=""/>
            <p:cNvGrpSpPr/>
            <p:nvPr/>
          </p:nvGrpSpPr>
          <p:grpSpPr>
            <a:xfrm>
              <a:off x="3635280" y="1773360"/>
              <a:ext cx="1726200" cy="1654920"/>
              <a:chOff x="3635280" y="1773360"/>
              <a:chExt cx="1726200" cy="1654920"/>
            </a:xfrm>
          </p:grpSpPr>
          <p:sp>
            <p:nvSpPr>
              <p:cNvPr id="498" name=""/>
              <p:cNvSpPr/>
              <p:nvPr/>
            </p:nvSpPr>
            <p:spPr>
              <a:xfrm>
                <a:off x="3657960" y="2052720"/>
                <a:ext cx="1691280" cy="12463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672360" y="3044880"/>
                <a:ext cx="1689120" cy="38340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635280" y="1773360"/>
                <a:ext cx="1688760" cy="3812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3804120" y="2364480"/>
              <a:ext cx="1526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30240" bIns="30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Da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Ware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505320" y="4343400"/>
            <a:ext cx="1981080" cy="1697400"/>
            <a:chOff x="3505320" y="4343400"/>
            <a:chExt cx="1981080" cy="1697400"/>
          </a:xfrm>
        </p:grpSpPr>
        <p:sp>
          <p:nvSpPr>
            <p:cNvPr id="503" name=""/>
            <p:cNvSpPr/>
            <p:nvPr/>
          </p:nvSpPr>
          <p:spPr>
            <a:xfrm>
              <a:off x="3505320" y="4343400"/>
              <a:ext cx="1981080" cy="1409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81640" y="4445640"/>
              <a:ext cx="1733400" cy="1595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Sistema(SII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Soporta Toma de decisiones en Lí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Experiencia del usu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348000" y="6165720"/>
            <a:ext cx="20322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erlin Sans FB"/>
              </a:rPr>
              <a:t>CONO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5380800">
            <a:off x="4169880" y="3600360"/>
            <a:ext cx="611280" cy="417600"/>
          </a:xfrm>
          <a:prstGeom prst="rightArrow">
            <a:avLst>
              <a:gd name="adj1" fmla="val 50000"/>
              <a:gd name="adj2" fmla="val 36595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46080" y="1243080"/>
            <a:ext cx="1799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Berlin Sans FB"/>
              </a:rPr>
              <a:t>INFOR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61840" y="4651560"/>
            <a:ext cx="635400" cy="399600"/>
          </a:xfrm>
          <a:prstGeom prst="line">
            <a:avLst/>
          </a:prstGeom>
          <a:ln cap="rnd"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84800" y="5110200"/>
            <a:ext cx="21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Modelación de Cub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580000" y="6021360"/>
            <a:ext cx="456840" cy="517320"/>
            <a:chOff x="5580000" y="6021360"/>
            <a:chExt cx="456840" cy="517320"/>
          </a:xfrm>
        </p:grpSpPr>
        <p:sp>
          <p:nvSpPr>
            <p:cNvPr id="511" name=""/>
            <p:cNvSpPr/>
            <p:nvPr/>
          </p:nvSpPr>
          <p:spPr>
            <a:xfrm>
              <a:off x="5664960" y="631080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64960" y="6212160"/>
              <a:ext cx="961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64960" y="6113880"/>
              <a:ext cx="961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64960" y="602136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57480" y="6310800"/>
              <a:ext cx="979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57480" y="6212160"/>
              <a:ext cx="979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57480" y="6113880"/>
              <a:ext cx="979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57480" y="6021360"/>
              <a:ext cx="979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47480" y="6310800"/>
              <a:ext cx="9540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47480" y="6212160"/>
              <a:ext cx="9540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47480" y="6113880"/>
              <a:ext cx="9540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47480" y="6021360"/>
              <a:ext cx="9540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40720" y="631080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40720" y="6212160"/>
              <a:ext cx="961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40720" y="6113880"/>
              <a:ext cx="961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40720" y="602136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34000" y="6350040"/>
              <a:ext cx="9720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34000" y="6251400"/>
              <a:ext cx="9720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34000" y="6153480"/>
              <a:ext cx="9720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34000" y="6059160"/>
              <a:ext cx="97200" cy="1112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28680" y="6350040"/>
              <a:ext cx="9684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28680" y="6251400"/>
              <a:ext cx="9684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28680" y="6153480"/>
              <a:ext cx="9684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28680" y="6059160"/>
              <a:ext cx="96840" cy="1112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17240" y="6350040"/>
              <a:ext cx="9684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17240" y="6251400"/>
              <a:ext cx="9684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17240" y="6153480"/>
              <a:ext cx="9684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17240" y="6059160"/>
              <a:ext cx="96840" cy="1112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10840" y="6350040"/>
              <a:ext cx="979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10840" y="6251400"/>
              <a:ext cx="979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10840" y="6153480"/>
              <a:ext cx="979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10840" y="6059160"/>
              <a:ext cx="97920" cy="1112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09880" y="6389640"/>
              <a:ext cx="9504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09880" y="6292440"/>
              <a:ext cx="9504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09880" y="6193800"/>
              <a:ext cx="9504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09880" y="6098760"/>
              <a:ext cx="9504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04200" y="6389640"/>
              <a:ext cx="9540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04200" y="6292440"/>
              <a:ext cx="9540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04200" y="6193800"/>
              <a:ext cx="9540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04200" y="6098760"/>
              <a:ext cx="9540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93120" y="6389640"/>
              <a:ext cx="9540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93120" y="6292440"/>
              <a:ext cx="9540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93120" y="6193800"/>
              <a:ext cx="9540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93120" y="6098760"/>
              <a:ext cx="9540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86720" y="6389640"/>
              <a:ext cx="961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86720" y="629244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86720" y="6193800"/>
              <a:ext cx="961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86720" y="609876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80000" y="6429960"/>
              <a:ext cx="9684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80000" y="6330240"/>
              <a:ext cx="96840" cy="10980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80000" y="6233040"/>
              <a:ext cx="9684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80000" y="6141600"/>
              <a:ext cx="9684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74320" y="6429960"/>
              <a:ext cx="9540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74320" y="6330240"/>
              <a:ext cx="95400" cy="10980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74320" y="6233040"/>
              <a:ext cx="9540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74320" y="6141600"/>
              <a:ext cx="9540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63240" y="6429960"/>
              <a:ext cx="961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63240" y="6330240"/>
              <a:ext cx="96120" cy="10980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63240" y="623304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63240" y="614160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57560" y="6429960"/>
              <a:ext cx="96120" cy="10872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57560" y="6330240"/>
              <a:ext cx="96120" cy="10980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57560" y="623304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57560" y="6141600"/>
              <a:ext cx="96120" cy="107640"/>
            </a:xfrm>
            <a:prstGeom prst="cube">
              <a:avLst>
                <a:gd name="adj" fmla="val 24861"/>
              </a:avLst>
            </a:prstGeom>
            <a:gradFill rotWithShape="0">
              <a:gsLst>
                <a:gs pos="0">
                  <a:srgbClr val="96a7f3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96a7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514840" y="4994280"/>
            <a:ext cx="965880" cy="635040"/>
          </a:xfrm>
          <a:prstGeom prst="line">
            <a:avLst/>
          </a:prstGeom>
          <a:ln cap="rnd"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5561640" y="4000680"/>
            <a:ext cx="572040" cy="494280"/>
          </a:xfrm>
          <a:prstGeom prst="line">
            <a:avLst/>
          </a:prstGeom>
          <a:ln cap="rnd" w="381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58000" y="4952880"/>
            <a:ext cx="2286000" cy="1447920"/>
            <a:chOff x="6858000" y="4952880"/>
            <a:chExt cx="2286000" cy="144792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6858000" y="495288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9" name=""/>
            <p:cNvGraphicFramePr/>
            <p:nvPr/>
          </p:nvGraphicFramePr>
          <p:xfrm>
            <a:off x="8381880" y="5638680"/>
            <a:ext cx="762120" cy="6811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1880" y="5638680"/>
                      <a:ext cx="762120" cy="681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81" name=""/>
          <p:cNvGrpSpPr/>
          <p:nvPr/>
        </p:nvGrpSpPr>
        <p:grpSpPr>
          <a:xfrm>
            <a:off x="755640" y="1628640"/>
            <a:ext cx="1383480" cy="1249560"/>
            <a:chOff x="755640" y="1628640"/>
            <a:chExt cx="1383480" cy="1249560"/>
          </a:xfrm>
        </p:grpSpPr>
        <p:grpSp>
          <p:nvGrpSpPr>
            <p:cNvPr id="582" name=""/>
            <p:cNvGrpSpPr/>
            <p:nvPr/>
          </p:nvGrpSpPr>
          <p:grpSpPr>
            <a:xfrm>
              <a:off x="755640" y="1628640"/>
              <a:ext cx="1383480" cy="1249560"/>
              <a:chOff x="755640" y="1628640"/>
              <a:chExt cx="1383480" cy="1249560"/>
            </a:xfrm>
          </p:grpSpPr>
          <p:sp>
            <p:nvSpPr>
              <p:cNvPr id="583" name=""/>
              <p:cNvSpPr/>
              <p:nvPr/>
            </p:nvSpPr>
            <p:spPr>
              <a:xfrm>
                <a:off x="773640" y="1839600"/>
                <a:ext cx="1355040" cy="941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5520" y="2588760"/>
                <a:ext cx="1353600" cy="2894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5640" y="1628640"/>
                <a:ext cx="1353240" cy="2876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1100160" y="2074680"/>
              <a:ext cx="8100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30240" bIns="30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Da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SI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19459200">
            <a:off x="776160" y="3008160"/>
            <a:ext cx="912960" cy="2627640"/>
          </a:xfrm>
          <a:custGeom>
            <a:avLst/>
            <a:gdLst>
              <a:gd name="textAreaLeft" fmla="*/ 122040 w 912960"/>
              <a:gd name="textAreaRight" fmla="*/ 790920 w 912960"/>
              <a:gd name="textAreaTop" fmla="*/ 572040 h 2627640"/>
              <a:gd name="textAreaBottom" fmla="*/ 1873080 h 26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07" stAng="-5400000" swAng="-5400000"/>
                <a:lnTo>
                  <a:pt x="0" y="10693"/>
                </a:lnTo>
                <a:arcTo wR="21600" hR="9407" stAng="10800000" swAng="-3055696"/>
                <a:lnTo>
                  <a:pt x="14400" y="21062"/>
                </a:lnTo>
                <a:lnTo>
                  <a:pt x="21600" y="19456"/>
                </a:lnTo>
                <a:lnTo>
                  <a:pt x="14400" y="16774"/>
                </a:lnTo>
                <a:lnTo>
                  <a:pt x="14400" y="18275"/>
                </a:lnTo>
                <a:arcTo wR="21600" hR="9407" stAng="7744304" swAng="2953150"/>
                <a:lnTo>
                  <a:pt x="51" y="10050"/>
                </a:lnTo>
                <a:arcTo wR="21600" hR="9407" stAng="-10697454" swAng="5297454"/>
                <a:close/>
              </a:path>
              <a:path fill="darkenLess" w="21600" h="21600">
                <a:moveTo>
                  <a:pt x="21600" y="0"/>
                </a:moveTo>
                <a:arcTo wR="21600" hR="9407" stAng="-5400000" swAng="-5400000"/>
                <a:lnTo>
                  <a:pt x="0" y="9407"/>
                </a:lnTo>
                <a:arcTo wR="21600" hR="9407" stAng="10800000" swAng="-102546"/>
                <a:lnTo>
                  <a:pt x="51" y="10050"/>
                </a:lnTo>
                <a:arcTo wR="21600" hR="9407" stAng="-10697454" swAng="529745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084720" y="3124080"/>
            <a:ext cx="2068560" cy="1497240"/>
            <a:chOff x="6084720" y="3124080"/>
            <a:chExt cx="2068560" cy="1497240"/>
          </a:xfrm>
        </p:grpSpPr>
        <p:pic>
          <p:nvPicPr>
            <p:cNvPr id="589" name="" descr=""/>
            <p:cNvPicPr/>
            <p:nvPr/>
          </p:nvPicPr>
          <p:blipFill>
            <a:blip r:embed="rId5"/>
            <a:stretch/>
          </p:blipFill>
          <p:spPr>
            <a:xfrm>
              <a:off x="6324480" y="3124080"/>
              <a:ext cx="1828800" cy="1497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"/>
            <p:cNvGrpSpPr/>
            <p:nvPr/>
          </p:nvGrpSpPr>
          <p:grpSpPr>
            <a:xfrm>
              <a:off x="6084720" y="3284640"/>
              <a:ext cx="456840" cy="516960"/>
              <a:chOff x="6084720" y="3284640"/>
              <a:chExt cx="456840" cy="516960"/>
            </a:xfrm>
          </p:grpSpPr>
          <p:sp>
            <p:nvSpPr>
              <p:cNvPr id="591" name=""/>
              <p:cNvSpPr/>
              <p:nvPr/>
            </p:nvSpPr>
            <p:spPr>
              <a:xfrm>
                <a:off x="6169680" y="357372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69680" y="347544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69680" y="3377160"/>
                <a:ext cx="9612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69680" y="328464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262200" y="3573720"/>
                <a:ext cx="979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62200" y="3475440"/>
                <a:ext cx="979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62200" y="3377160"/>
                <a:ext cx="9792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62200" y="3284640"/>
                <a:ext cx="979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352200" y="357372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52200" y="3475440"/>
                <a:ext cx="954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352200" y="3377160"/>
                <a:ext cx="9540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352200" y="328464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45440" y="357372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45440" y="347544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45440" y="3377160"/>
                <a:ext cx="9612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445440" y="328464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38720" y="3612960"/>
                <a:ext cx="972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38720" y="3514680"/>
                <a:ext cx="972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38720" y="3416400"/>
                <a:ext cx="972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38720" y="3322440"/>
                <a:ext cx="97200" cy="111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33400" y="361296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33400" y="351468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33400" y="3416400"/>
                <a:ext cx="968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33400" y="3322440"/>
                <a:ext cx="96840" cy="111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321960" y="361296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21960" y="351468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321960" y="3416400"/>
                <a:ext cx="968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21960" y="3322440"/>
                <a:ext cx="96840" cy="111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415560" y="3612960"/>
                <a:ext cx="979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415560" y="3514680"/>
                <a:ext cx="979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415560" y="3416400"/>
                <a:ext cx="979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15560" y="3322440"/>
                <a:ext cx="97920" cy="1112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114600" y="3652560"/>
                <a:ext cx="950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14600" y="3555360"/>
                <a:ext cx="950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114600" y="3457080"/>
                <a:ext cx="9504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114600" y="3362040"/>
                <a:ext cx="950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08920" y="3652560"/>
                <a:ext cx="954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08920" y="355536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08920" y="3457080"/>
                <a:ext cx="9540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08920" y="336204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97840" y="3652560"/>
                <a:ext cx="954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97840" y="355536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97840" y="3457080"/>
                <a:ext cx="9540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97840" y="336204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91440" y="365256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391440" y="355536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91440" y="3457080"/>
                <a:ext cx="96120" cy="10836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391440" y="336204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084720" y="3692880"/>
                <a:ext cx="9684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084720" y="3593520"/>
                <a:ext cx="96840" cy="109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084720" y="3496320"/>
                <a:ext cx="9684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84720" y="3404520"/>
                <a:ext cx="96840" cy="1076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79040" y="3692880"/>
                <a:ext cx="9540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79040" y="3593520"/>
                <a:ext cx="95400" cy="109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179040" y="3496320"/>
                <a:ext cx="9540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179040" y="3404520"/>
                <a:ext cx="95400" cy="1076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7960" y="369288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67960" y="3593520"/>
                <a:ext cx="96120" cy="109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67960" y="349632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67960" y="3404520"/>
                <a:ext cx="96120" cy="1076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62280" y="3692880"/>
                <a:ext cx="96120" cy="10872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62280" y="3593520"/>
                <a:ext cx="96120" cy="10980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62280" y="3496320"/>
                <a:ext cx="96120" cy="10728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62280" y="3404520"/>
                <a:ext cx="96120" cy="107640"/>
              </a:xfrm>
              <a:prstGeom prst="cube">
                <a:avLst>
                  <a:gd name="adj" fmla="val 24861"/>
                </a:avLst>
              </a:prstGeom>
              <a:gradFill rotWithShape="0">
                <a:gsLst>
                  <a:gs pos="0">
                    <a:srgbClr val="96a7f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a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"/>
          <p:cNvSpPr/>
          <p:nvPr/>
        </p:nvSpPr>
        <p:spPr>
          <a:xfrm rot="19734600">
            <a:off x="1242720" y="5794200"/>
            <a:ext cx="2448000" cy="457200"/>
          </a:xfrm>
          <a:prstGeom prst="rightArrow">
            <a:avLst>
              <a:gd name="adj1" fmla="val 33241"/>
              <a:gd name="adj2" fmla="val 7367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57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1280" y="189000"/>
            <a:ext cx="7740720" cy="94716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erlin Sans FB"/>
              </a:rPr>
              <a:t>Cubos</a:t>
            </a: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Mo</a:t>
            </a:r>
            <a:r>
              <a:rPr b="0" lang="es-MX" sz="2800" spc="-1" strike="noStrike">
                <a:solidFill>
                  <a:srgbClr val="ffffff"/>
                </a:solidFill>
                <a:latin typeface="Berlin Sans FB"/>
              </a:rPr>
              <a:t>delo </a:t>
            </a: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M</a:t>
            </a:r>
            <a:r>
              <a:rPr b="0" lang="es-MX" sz="2800" spc="-1" strike="noStrike">
                <a:solidFill>
                  <a:srgbClr val="ffffff"/>
                </a:solidFill>
                <a:latin typeface="Berlin Sans FB"/>
              </a:rPr>
              <a:t>ultidimension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erlin Sans FB"/>
              </a:rPr>
              <a:t>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Berlin Sans FB"/>
              </a:rPr>
              <a:t>integración de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681280" y="1773360"/>
            <a:ext cx="6491520" cy="4038480"/>
            <a:chOff x="2681280" y="1773360"/>
            <a:chExt cx="6491520" cy="4038480"/>
          </a:xfrm>
        </p:grpSpPr>
        <p:grpSp>
          <p:nvGrpSpPr>
            <p:cNvPr id="663" name=""/>
            <p:cNvGrpSpPr/>
            <p:nvPr/>
          </p:nvGrpSpPr>
          <p:grpSpPr>
            <a:xfrm>
              <a:off x="2681280" y="1773360"/>
              <a:ext cx="3046680" cy="3555720"/>
              <a:chOff x="2681280" y="1773360"/>
              <a:chExt cx="3046680" cy="355572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681280" y="1773360"/>
                <a:ext cx="3046680" cy="2970360"/>
                <a:chOff x="2681280" y="1773360"/>
                <a:chExt cx="3046680" cy="29703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247920" y="3434040"/>
                  <a:ext cx="6415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247920" y="2868840"/>
                  <a:ext cx="64152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247920" y="2305080"/>
                  <a:ext cx="641520" cy="62388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247920" y="1773360"/>
                  <a:ext cx="6415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863880" y="3434040"/>
                  <a:ext cx="6541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863880" y="2868840"/>
                  <a:ext cx="65412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863880" y="2305080"/>
                  <a:ext cx="654120" cy="62388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863880" y="1773360"/>
                  <a:ext cx="6541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463280" y="3434040"/>
                  <a:ext cx="63576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63280" y="2868840"/>
                  <a:ext cx="63576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463280" y="2305080"/>
                  <a:ext cx="635760" cy="62388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463280" y="1773360"/>
                  <a:ext cx="63576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86440" y="3434040"/>
                  <a:ext cx="6415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86440" y="2868840"/>
                  <a:ext cx="64152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6440" y="2305080"/>
                  <a:ext cx="641520" cy="62388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086440" y="1773360"/>
                  <a:ext cx="6415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041640" y="3660120"/>
                  <a:ext cx="64836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41640" y="3094920"/>
                  <a:ext cx="64836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41640" y="2531160"/>
                  <a:ext cx="64836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041640" y="1991880"/>
                  <a:ext cx="648360" cy="63900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672000" y="3660120"/>
                  <a:ext cx="64728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72000" y="3094920"/>
                  <a:ext cx="64728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72000" y="2531160"/>
                  <a:ext cx="64728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672000" y="1991880"/>
                  <a:ext cx="647280" cy="63900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263840" y="3660120"/>
                  <a:ext cx="64728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263840" y="3094920"/>
                  <a:ext cx="64728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263840" y="2531160"/>
                  <a:ext cx="64728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263840" y="1991880"/>
                  <a:ext cx="647280" cy="63900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887360" y="3660120"/>
                  <a:ext cx="65412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887360" y="3094920"/>
                  <a:ext cx="65412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887360" y="2531160"/>
                  <a:ext cx="6541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887360" y="1991880"/>
                  <a:ext cx="654120" cy="63900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880360" y="3886200"/>
                  <a:ext cx="63432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880360" y="3328560"/>
                  <a:ext cx="6343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880360" y="2763360"/>
                  <a:ext cx="634320" cy="62388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880360" y="2217960"/>
                  <a:ext cx="6343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509280" y="3886200"/>
                  <a:ext cx="63576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509280" y="3328560"/>
                  <a:ext cx="63576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509280" y="2763360"/>
                  <a:ext cx="635760" cy="62388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509280" y="2217960"/>
                  <a:ext cx="63576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101480" y="3886200"/>
                  <a:ext cx="63576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101480" y="3328560"/>
                  <a:ext cx="63576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101480" y="2763360"/>
                  <a:ext cx="635760" cy="62388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101480" y="2217960"/>
                  <a:ext cx="63576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724640" y="3886200"/>
                  <a:ext cx="64152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724640" y="3328560"/>
                  <a:ext cx="6415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724640" y="2763360"/>
                  <a:ext cx="641520" cy="62388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724640" y="2217960"/>
                  <a:ext cx="6415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681280" y="4118400"/>
                  <a:ext cx="64728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681280" y="3547080"/>
                  <a:ext cx="647280" cy="63144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681280" y="2989440"/>
                  <a:ext cx="64728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81280" y="2463480"/>
                  <a:ext cx="647280" cy="61920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309840" y="4118400"/>
                  <a:ext cx="63576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309840" y="3547080"/>
                  <a:ext cx="635760" cy="63144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309840" y="2989440"/>
                  <a:ext cx="63576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309840" y="2463480"/>
                  <a:ext cx="635760" cy="61920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902040" y="4118400"/>
                  <a:ext cx="64152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902040" y="3547080"/>
                  <a:ext cx="641520" cy="63144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902040" y="2989440"/>
                  <a:ext cx="6415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902040" y="2463480"/>
                  <a:ext cx="641520" cy="61920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530960" y="4118400"/>
                  <a:ext cx="641520" cy="62532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530960" y="3547080"/>
                  <a:ext cx="641520" cy="63144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530960" y="2989440"/>
                  <a:ext cx="641520" cy="61776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530960" y="2463480"/>
                  <a:ext cx="641520" cy="619200"/>
                </a:xfrm>
                <a:prstGeom prst="cube">
                  <a:avLst>
                    <a:gd name="adj" fmla="val 24861"/>
                  </a:avLst>
                </a:prstGeom>
                <a:gradFill rotWithShape="0">
                  <a:gsLst>
                    <a:gs pos="0">
                      <a:srgbClr val="96a7f3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96a7f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2887920" y="3589200"/>
                <a:ext cx="164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Berlin Sans FB"/>
                  </a:rPr>
                  <a:t>Ingres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945160" y="4808520"/>
                <a:ext cx="160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Berlin Sans FB"/>
                  </a:rPr>
                  <a:t>Tiemp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8167680" y="2001960"/>
              <a:ext cx="1005120" cy="3809880"/>
              <a:chOff x="8167680" y="2001960"/>
              <a:chExt cx="1005120" cy="3809880"/>
            </a:xfrm>
          </p:grpSpPr>
          <p:sp>
            <p:nvSpPr>
              <p:cNvPr id="732" name=""/>
              <p:cNvSpPr/>
              <p:nvPr/>
            </p:nvSpPr>
            <p:spPr>
              <a:xfrm>
                <a:off x="8167680" y="2001960"/>
                <a:ext cx="228600" cy="38098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99360 h 3809880"/>
                  <a:gd name="textAreaBottom" fmla="*/ 3710520 h 380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352000" y="3589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Berlin Sans FB"/>
                  </a:rPr>
                  <a:t>PIF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95280" y="1484280"/>
            <a:ext cx="7772400" cy="4475520"/>
            <a:chOff x="395280" y="1484280"/>
            <a:chExt cx="7772400" cy="4475520"/>
          </a:xfrm>
        </p:grpSpPr>
        <p:sp>
          <p:nvSpPr>
            <p:cNvPr id="735" name=""/>
            <p:cNvSpPr/>
            <p:nvPr/>
          </p:nvSpPr>
          <p:spPr>
            <a:xfrm>
              <a:off x="395280" y="1484280"/>
              <a:ext cx="2819520" cy="1631160"/>
            </a:xfrm>
            <a:prstGeom prst="rect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000000"/>
                  </a:solidFill>
                  <a:uFillTx/>
                  <a:latin typeface="Berlin Sans FB"/>
                </a:rPr>
                <a:t>CAMP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Berlin Sans FB"/>
                </a:rPr>
                <a:t>  </a:t>
              </a:r>
              <a:r>
                <a:rPr b="0" lang="es-MX" sz="2000" spc="-1" strike="noStrike">
                  <a:solidFill>
                    <a:srgbClr val="000000"/>
                  </a:solidFill>
                  <a:latin typeface="Berlin Sans FB"/>
                </a:rPr>
                <a:t>Información de los  camp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19920" y="2779920"/>
              <a:ext cx="3047760" cy="3179880"/>
            </a:xfrm>
            <a:prstGeom prst="rect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 u="sng">
                  <a:solidFill>
                    <a:srgbClr val="000000"/>
                  </a:solidFill>
                  <a:uFillTx/>
                  <a:latin typeface="Berlin Sans FB"/>
                </a:rPr>
                <a:t>  </a:t>
              </a:r>
              <a:r>
                <a:rPr b="1" lang="es-ES" sz="2000" spc="-1" strike="noStrike" u="sng">
                  <a:solidFill>
                    <a:srgbClr val="000000"/>
                  </a:solidFill>
                  <a:uFillTx/>
                  <a:latin typeface="Berlin Sans FB"/>
                </a:rPr>
                <a:t>MODE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Berlin Sans FB"/>
                </a:rPr>
                <a:t>  </a:t>
              </a:r>
              <a:r>
                <a:rPr b="0" lang="es-MX" sz="2400" spc="-1" strike="noStrike">
                  <a:solidFill>
                    <a:srgbClr val="000066"/>
                  </a:solidFill>
                  <a:latin typeface="Berlin Sans FB"/>
                </a:rPr>
                <a:t>Finan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66"/>
                  </a:solidFill>
                  <a:latin typeface="Berlin Sans FB"/>
                </a:rPr>
                <a:t>  </a:t>
              </a:r>
              <a:r>
                <a:rPr b="0" lang="es-MX" sz="2400" spc="-1" strike="noStrike">
                  <a:solidFill>
                    <a:srgbClr val="000066"/>
                  </a:solidFill>
                  <a:latin typeface="Berlin Sans FB"/>
                </a:rPr>
                <a:t>Esco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66"/>
                  </a:solidFill>
                  <a:latin typeface="Berlin Sans FB"/>
                </a:rPr>
                <a:t> </a:t>
              </a:r>
              <a:r>
                <a:rPr b="0" lang="es-MX" sz="2400" spc="-1" strike="noStrike">
                  <a:solidFill>
                    <a:srgbClr val="000066"/>
                  </a:solidFill>
                  <a:latin typeface="Berlin Sans FB"/>
                </a:rPr>
                <a:t>Recursos huma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66"/>
                  </a:solidFill>
                  <a:latin typeface="Berlin Sans FB"/>
                </a:rPr>
                <a:t>  </a:t>
              </a:r>
              <a:r>
                <a:rPr b="0" lang="es-MX" sz="2400" spc="-1" strike="noStrike">
                  <a:solidFill>
                    <a:srgbClr val="000066"/>
                  </a:solidFill>
                  <a:latin typeface="Berlin Sans FB"/>
                </a:rPr>
                <a:t>Plane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5003640" y="6165720"/>
            <a:ext cx="345600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Requerimientos institu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739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2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851280" y="2349360"/>
            <a:ext cx="1828080" cy="3123000"/>
            <a:chOff x="3851280" y="2349360"/>
            <a:chExt cx="1828080" cy="3123000"/>
          </a:xfrm>
        </p:grpSpPr>
        <p:grpSp>
          <p:nvGrpSpPr>
            <p:cNvPr id="744" name=""/>
            <p:cNvGrpSpPr/>
            <p:nvPr/>
          </p:nvGrpSpPr>
          <p:grpSpPr>
            <a:xfrm>
              <a:off x="3851280" y="2349360"/>
              <a:ext cx="1828080" cy="3123000"/>
              <a:chOff x="3851280" y="2349360"/>
              <a:chExt cx="1828080" cy="31230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5040" y="2876400"/>
                <a:ext cx="1790640" cy="23522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890880" y="4749120"/>
                <a:ext cx="1788480" cy="7232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851280" y="2349360"/>
                <a:ext cx="1788120" cy="7196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efefe"/>
                  </a:gs>
                  <a:gs pos="100000">
                    <a:srgbClr val="3333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4134600" y="3464640"/>
              <a:ext cx="1416240" cy="12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30240" bIns="30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Da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Ware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(Almacén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33360"/>
                  <a:tab algn="l" pos="666720"/>
                  <a:tab algn="l" pos="1000080"/>
                  <a:tab algn="l" pos="1333440"/>
                  <a:tab algn="l" pos="1666800"/>
                  <a:tab algn="l" pos="2000160"/>
                  <a:tab algn="l" pos="2333520"/>
                  <a:tab algn="l" pos="2666880"/>
                  <a:tab algn="l" pos="3000240"/>
                  <a:tab algn="l" pos="3333600"/>
                  <a:tab algn="l" pos="3666960"/>
                  <a:tab algn="l" pos="4000680"/>
                  <a:tab algn="l" pos="4334040"/>
                  <a:tab algn="l" pos="4667400"/>
                  <a:tab algn="l" pos="5000760"/>
                  <a:tab algn="l" pos="5334120"/>
                  <a:tab algn="l" pos="5667480"/>
                  <a:tab algn="l" pos="6000840"/>
                  <a:tab algn="l" pos="6334200"/>
                  <a:tab algn="l" pos="6667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dat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7861320" y="901800"/>
            <a:ext cx="1260360" cy="14475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7149960" y="4330800"/>
            <a:ext cx="1194120" cy="13716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5940360" y="1268280"/>
            <a:ext cx="1752840" cy="16765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6071040" y="84312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Berlin Sans FB"/>
              </a:rPr>
              <a:t>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680160" y="572292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erlin Sans FB"/>
              </a:rPr>
              <a:t>Plane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5"/>
          <a:stretch/>
        </p:blipFill>
        <p:spPr>
          <a:xfrm>
            <a:off x="1393920" y="3981600"/>
            <a:ext cx="1641240" cy="135720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956160" y="5403960"/>
            <a:ext cx="18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Berlin Sans FB"/>
              </a:rPr>
              <a:t>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Berlin Sans FB"/>
              </a:rPr>
              <a:t>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44600" y="907920"/>
            <a:ext cx="2679480" cy="2560320"/>
            <a:chOff x="444600" y="907920"/>
            <a:chExt cx="2679480" cy="2560320"/>
          </a:xfrm>
        </p:grpSpPr>
        <p:pic>
          <p:nvPicPr>
            <p:cNvPr id="757" name="" descr=""/>
            <p:cNvPicPr/>
            <p:nvPr/>
          </p:nvPicPr>
          <p:blipFill>
            <a:blip r:embed="rId6"/>
            <a:stretch/>
          </p:blipFill>
          <p:spPr>
            <a:xfrm>
              <a:off x="1663560" y="1499760"/>
              <a:ext cx="1447920" cy="154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7"/>
            <a:stretch/>
          </p:blipFill>
          <p:spPr>
            <a:xfrm>
              <a:off x="444600" y="2013120"/>
              <a:ext cx="1371600" cy="14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1491120" y="907920"/>
              <a:ext cx="163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3333cc"/>
                  </a:solidFill>
                  <a:latin typeface="Berlin Sans FB"/>
                </a:rPr>
                <a:t>Finanz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85880" y="1847520"/>
              <a:ext cx="138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Egr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Ingr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Presupue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6040" y="2269800"/>
              <a:ext cx="15224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Comp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Almacé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Contabi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Activos Fij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Berlin Sans FB"/>
                </a:rPr>
                <a:t>Ban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5972400" y="1704960"/>
            <a:ext cx="1741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Kar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Carga acadé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Alum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Planes de est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783920" y="1128600"/>
            <a:ext cx="1402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Maes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Calific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Inscri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Admi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Egres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85200" y="4365720"/>
            <a:ext cx="189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Nóm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erlin Sans FB"/>
              </a:rPr>
              <a:t>Planta de Maes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65320" y="4870440"/>
            <a:ext cx="71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rlin Sans FB"/>
              </a:rPr>
              <a:t>PI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erlin Sans FB"/>
              </a:rPr>
              <a:t>P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2197080" y="2348640"/>
            <a:ext cx="289512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739880" y="2960640"/>
            <a:ext cx="21333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92160" y="4564080"/>
            <a:ext cx="21337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769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769510"/>
              </a:path>
            </a:pathLst>
          </a:custGeom>
          <a:noFill/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673560" y="4786920"/>
            <a:ext cx="3199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321160" y="1434960"/>
            <a:ext cx="22852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626080" y="4710600"/>
            <a:ext cx="21326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5778360" y="4788000"/>
            <a:ext cx="2437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5702400" y="288288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55640" y="189000"/>
            <a:ext cx="8209080" cy="52056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Modelos de un 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776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8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9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78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4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5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0" y="-396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788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1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71640" y="1413000"/>
            <a:ext cx="7921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La información en un </a:t>
            </a:r>
            <a:r>
              <a:rPr b="1" lang="en-US" sz="2800" spc="-1" strike="noStrike">
                <a:solidFill>
                  <a:srgbClr val="3333cc"/>
                </a:solidFill>
                <a:latin typeface="Berlin Sans FB"/>
              </a:rPr>
              <a:t>sistema integral de informació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 se encuentra detallada registro por registro, y es la base de la información en un 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Sistema de Información Ejecutiva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 que facilita que dicha información esté resumida, transformada, depurada y lista para la toma de decisione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Disponer de un SIE permitirá a las autoridades universitarias el manejo de </a:t>
            </a:r>
            <a:r>
              <a:rPr b="1" lang="en-US" sz="2400" spc="-1" strike="noStrike">
                <a:solidFill>
                  <a:srgbClr val="3333cc"/>
                </a:solidFill>
                <a:latin typeface="Berlin Sans FB"/>
              </a:rPr>
              <a:t>INDICADOR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 que apoyen el análisis de la gestión tanto administrativa como de apoyo académico en linea, evitando duplicidad de datos, pero sobre todo, errores de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71640" y="333360"/>
            <a:ext cx="68403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Podemos entonces decir qu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21420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797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332000" y="1628640"/>
            <a:ext cx="720072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Qué nivel de detalle quer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Qué requer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Qué busc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Qué queremos que conte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214560" cy="21456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1116000" y="278136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5"/>
          <a:stretch/>
        </p:blipFill>
        <p:spPr>
          <a:xfrm>
            <a:off x="1116000" y="378936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6"/>
          <a:stretch/>
        </p:blipFill>
        <p:spPr>
          <a:xfrm>
            <a:off x="1116000" y="479736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1187280" y="333360"/>
            <a:ext cx="74170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La obtención de INDICADORES debe ser un proceso participativo al interior de las 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809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2" name=""/>
          <p:cNvSpPr/>
          <p:nvPr/>
        </p:nvSpPr>
        <p:spPr>
          <a:xfrm>
            <a:off x="684360" y="765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90560" y="529920"/>
            <a:ext cx="7958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Berlin Sans FB"/>
              </a:rPr>
              <a:t>Mejorar la Entrega de Información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: Información completa, correcta, consistente, oportuna y accesible. Información que la gente necesita, en el tiempo que la necesita y en el formato que la necesit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Berlin Sans FB"/>
              </a:rPr>
              <a:t>Mejorar el Proceso de Toma de Decisiones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: con un mayor soporte de información se obtienen decisiones más rápidas; así también, la gente  adquiere mayor confianza en sus propias decisiones y las del resto, y logra un mayor entendimiento control y seguimiento de los impactos de sus decisione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Berlin Sans FB"/>
              </a:rPr>
              <a:t>Impacto Positivo sobre los Procesos  de la institución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Eliminar los retardos de los procesos que resultan de información incorrecta, inconsistente y/o no existente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Integrar y optimizar procesos a través del uso compartido e integrado de las fuentes de inform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Evitar Inconsistencias en reportes manuales dupl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333360"/>
            <a:ext cx="6769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El valor de un SIE en tres dimens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4"/>
          <a:stretch/>
        </p:blipFill>
        <p:spPr>
          <a:xfrm>
            <a:off x="539640" y="4292640"/>
            <a:ext cx="21456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819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1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2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214560" cy="2145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3"/>
          <a:stretch/>
        </p:blipFill>
        <p:spPr>
          <a:xfrm>
            <a:off x="1042920" y="170028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4"/>
          <a:stretch/>
        </p:blipFill>
        <p:spPr>
          <a:xfrm>
            <a:off x="1042920" y="32846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187280" y="333360"/>
            <a:ext cx="74170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Homologación de criterios para el manejo de INDICADORES de las 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58920" y="148428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AMEREIAF, entre una de sus acciones 2005 esta la de trabajar en conjunto con la SESIC para tratar de establecer criterios de homologación para el manejo de Indicadores de Gest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58920" y="321300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El Grupo de trabajo sería interdisciplinario abarcando los tres componentes de un Sistema Integral de Información como son Financiero, Escolar y Recursos Humanos, además de personal de Plan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58920" y="4941720"/>
            <a:ext cx="734544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lin Sans FB"/>
              </a:rPr>
              <a:t>El Sistema de Información Integral debe de ser una línea estratégica al interior de las IES como apoyo a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908000" y="6156360"/>
            <a:ext cx="6985080" cy="703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Debe buscar ser INTEGRAL y contar con la participación de t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684360" y="54936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14300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-347040"/>
            <a:ext cx="810108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erlin Sans FB"/>
                <a:ea typeface="Arial"/>
              </a:rPr>
              <a:t>Persigue, entre otros, los siguientes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Coordinar las acciones necesarias para que opere un sistema nacional de información administrativa y financiera de la educación superior, bajo un esquema de coordinación, intercambio, colaboración y complement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Favorecer el intercambio de experiencias, en los campos administrativo y financiero, entre instituciones de educación superior del país y del extranj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Vigilar la aplicación de la norma técnica aprobada por los órganos de gobierno de la Asociación, conforme a lo que su propia normatividad establez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Colaborar con agrupaciones u organismos nacionales e internacionales para la realización de estudios comparativos en temas que forman parte del objeto de la Asoci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Actualizar los desarrollos técnicos de soporte al Sistema, de acuerdo con las experiencias acumuladas y los avances en la tecnología utiliz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Apoyar la capacitación del personal responsable de las tareas relacionadas con las áreas administrativas y financieras de las instituciones de educación sup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826920" y="2852640"/>
            <a:ext cx="214560" cy="21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87280" y="981000"/>
            <a:ext cx="214560" cy="2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826920" y="20606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900000" y="5589720"/>
            <a:ext cx="21456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83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5" name=""/>
          <p:cNvSpPr/>
          <p:nvPr/>
        </p:nvSpPr>
        <p:spPr>
          <a:xfrm>
            <a:off x="1116000" y="776880"/>
            <a:ext cx="7453440" cy="5447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erlin Sans FB"/>
              </a:rPr>
              <a:t>Los  invitamos a nuestros próximos even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1.  Curso de Contabilidad de Fon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24 al 27 de Mayo d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Lugar: Querétaro, Q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erlin Sans FB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Tercer Evento Nacional de 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22 al 24 de Junio d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Lugar: Cuernavaca, Mor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IES sede: Universidad Autónoma del Estado de Mor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837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9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0" name=""/>
          <p:cNvSpPr/>
          <p:nvPr/>
        </p:nvSpPr>
        <p:spPr>
          <a:xfrm>
            <a:off x="684360" y="765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erlin Sans FB"/>
                <a:ea typeface="Arial"/>
              </a:rPr>
              <a:t>¡Uniendo Voluntades en beneficio de las 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92360" y="2492280"/>
            <a:ext cx="535176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Arial"/>
              </a:rPr>
              <a:t>Graci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Arial"/>
              </a:rPr>
              <a:t>María Antonieta Zamora Am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Arial"/>
              </a:rPr>
              <a:t>tonyz@guaymas.uson.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Arial"/>
              </a:rPr>
              <a:t>Presidenta de AMEREIAF, A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Arial"/>
              </a:rPr>
              <a:t>http://www.amereiaf.org.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33433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4648320" y="3049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Verdana"/>
              </a:rPr>
              <a:t>CONSEJO DIR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Verdana"/>
              </a:rPr>
              <a:t>2004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58920" y="692280"/>
            <a:ext cx="723888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PRESID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L.I. María Antonieta Zamora Am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Directora de Informática de la Universidad de Son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VICEPRESID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M. en A. Armando Miguel Valerdi y Roj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Secretario General de la</a:t>
            </a:r>
            <a:br>
              <a:rPr sz="1600"/>
            </a:b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Benem</a:t>
            </a:r>
            <a:r>
              <a:rPr b="1" lang="es-MX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é</a:t>
            </a: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rita Universidad Autónoma de Pueb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SECRETARIO GENERAL</a:t>
            </a:r>
            <a:r>
              <a:rPr b="1" lang="es-ES" sz="1800" spc="-1" strike="noStrike">
                <a:solidFill>
                  <a:srgbClr val="006600"/>
                </a:solidFill>
                <a:latin typeface="Berlin Sans FB"/>
                <a:ea typeface="Arial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Lic. Jesús Nevárez  Ace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Coordinador de Sistemas Administrativos de la</a:t>
            </a:r>
            <a:br>
              <a:rPr sz="1600"/>
            </a:b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Universidad Autónoma de Coahui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SECRETARIA DE FINANZAS</a:t>
            </a:r>
            <a:r>
              <a:rPr b="1" lang="es-ES" sz="1800" spc="-1" strike="noStrike">
                <a:solidFill>
                  <a:srgbClr val="3333cc"/>
                </a:solidFill>
                <a:latin typeface="Berlin Sans FB"/>
                <a:ea typeface="Arial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C. P. Silvia Ampudia Ru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Berlin Sans FB"/>
                <a:ea typeface="Arial"/>
              </a:rPr>
              <a:t>Contralora General de la Universidad Autónoma de Cd. Juáre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7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3124080" y="0"/>
            <a:ext cx="5715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Verdana"/>
              </a:rPr>
              <a:t>CONSEJO DIRECTIVO 2004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Verdana"/>
              </a:rPr>
              <a:t>COM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762120"/>
            <a:ext cx="649584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CP Guadalupe Sánchez S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Universidad de Sono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ESTUDI</a:t>
            </a:r>
            <a:r>
              <a:rPr b="1" lang="es-ES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OS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LAE Rogelio A. Suárez Sánchez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Universidad Veracruz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SERVICIO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Ing.  Herasmo Chavira Sot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Instituto Tecnológico de Sono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CAPACITACION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Ing. Dionisio Buenrostro Cervant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Universidad Michoacana de San Nicolás de Hidal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Berlin Sans FB"/>
                <a:ea typeface="Arial"/>
              </a:rPr>
              <a:t>TECNOLOGIA E INFORMATIC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Cs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. Francisco Gerardo Cu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é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llar Hernández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Berlin Sans FB"/>
                <a:ea typeface="Arial"/>
              </a:rPr>
              <a:t>Universidad de Guadalaj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81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5760" y="189000"/>
            <a:ext cx="5188680" cy="8254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36 MIEM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Universidades públicas autó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42920" y="1260360"/>
          <a:ext cx="7772400" cy="54151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Benemérita Universidad Autónoma de Pueb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Instituto Tecnológico de Son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Benito Juárez de Oax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Aguas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Baja Califor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Baja California S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Campe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Ciudad Juá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Coahu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Chiap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Chihuah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Guerr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88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14320" y="11268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Berlin Sans FB"/>
              </a:rPr>
              <a:t>MIEM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87280" y="765000"/>
          <a:ext cx="7771680" cy="5486040"/>
        </p:xfrm>
        <a:graphic>
          <a:graphicData uri="http://schemas.openxmlformats.org/drawingml/2006/table">
            <a:tbl>
              <a:tblPr/>
              <a:tblGrid>
                <a:gridCol w="7771680"/>
              </a:tblGrid>
              <a:tr h="42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Nayar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Nuevo Le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Queréta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San Luis Potos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Sinal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Tamaulip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Tlaxca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Yucatá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 Zacate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l Car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l Estado de Hidal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l Estado de Mé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de Coli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14320" y="11268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Berlin Sans FB"/>
              </a:rPr>
              <a:t>MIEM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87280" y="907920"/>
          <a:ext cx="7771680" cy="5485680"/>
        </p:xfrm>
        <a:graphic>
          <a:graphicData uri="http://schemas.openxmlformats.org/drawingml/2006/table">
            <a:tbl>
              <a:tblPr/>
              <a:tblGrid>
                <a:gridCol w="7771680"/>
              </a:tblGrid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de Guadalaj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de Guanaju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de Quintana R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de Son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Juárez Autónoma de Tabas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Juárez del Estado de Dura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Michoacana de San Nicolás de Hidal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Veracruz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Politécnica de San Luis Potos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Universidad Autónoma del Estado de Morel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  <a:ea typeface="Arial"/>
                        </a:rPr>
                        <a:t>Centro de Estudios Superiores del Estado de Sono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10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0" y="5865840"/>
              <a:ext cx="106668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858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744480"/>
            <a:ext cx="8153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189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Berlin Sans FB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16000" y="981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onvenio de colaboración con NACUBO (ASOCIACION NACIONAL DE ADMINISTRADORES DE COLEGIOS Y UNIVERSIDADES DE 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onvenio de colaboración con  CAUBO (ASOCIACION DE ADMINISTRADORES DE COLEGIOS Y UNIVERSIDADES CANADIEN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onvenio de colaboración con </a:t>
            </a:r>
            <a:r>
              <a:rPr b="1" lang="en-US" sz="2000" spc="-1" strike="noStrike">
                <a:solidFill>
                  <a:srgbClr val="000066"/>
                </a:solidFill>
                <a:latin typeface="Berlin Sans FB"/>
              </a:rPr>
              <a:t>AMOCVI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(ASOCIACION MEXICANA DE ORGANOS DE CONTROL Y VIGILENCIA DE LAS INSTITUCIONES DE EDUCACION SUPER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onvenio de colaboración con el CONAHEC (CONSORCIO PARA LA COLABORACION DE LA EDUCACION SUPERIOR DE NORTEAMERIC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onvenio de colaboración con el IMEF (INSTITUTO MEXICANO DE EJECUTIVOS DE FINANZ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00:58:33Z</dcterms:created>
  <dc:creator> .</dc:creator>
  <dc:description/>
  <dc:language>en-US</dc:language>
  <cp:lastModifiedBy>Brenda Arjona</cp:lastModifiedBy>
  <dcterms:modified xsi:type="dcterms:W3CDTF">2005-04-22T06:19:33Z</dcterms:modified>
  <cp:revision>142</cp:revision>
  <dc:subject/>
  <dc:title>Presentación de PowerPoint</dc:title>
</cp:coreProperties>
</file>