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923-1895-4ADC-BF4F-801C0C8C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7148-BD87-440F-B8C6-CA83CE08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688E-816B-40BB-B2DE-52073B69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E82-F9F6-4807-8584-AD6941CC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D83C-817A-437A-9A44-6277B081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7BDA-7807-4ABD-9C65-23DFF16C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8503-C8EF-48F9-B0D8-4DB8F014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46A7-704C-4560-A047-947A3F42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AB7B-31D5-4A20-B071-9A8E433A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3671-7E5D-421A-94E2-EFCB6A94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4320-019E-4424-94D9-15656E43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B68-9ABD-41B7-8568-33474ACF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84BF-122F-4E81-9086-A9FFCB5E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A912-25FD-457B-A834-59B9E5B2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A605-F2F0-4475-B805-F681FBA8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7FB6-28B3-42C7-A235-87DDE654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5A76-536E-447B-A3D7-A91B169D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AAB-F1B6-461E-9900-3F0F98BA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AAB-FD9D-4E41-9126-A1811633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4B9-3525-4699-B9D7-04C38E2A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ADC-1052-42D8-AA8D-0DD7F9EF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190-2940-43ED-B5A3-6948273A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C81-A40F-4AFD-8381-02C07816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335-C223-4652-AD73-EABE6462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C66B-A419-4F68-9830-F5F5C80CF4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592B-B807-40E5-8995-B400CD3B5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742840"/>
            <a:ext cx="88390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EXPERIENCIAS DE LA UABC EN AUDITORÍA REALIZADA BAJO EL CONVENIO AMOCVIES-ASF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INFORME DE AUDITORÍ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 el documento en el que se relacionan todos los resultados obtenidos en la auditoría, las observaciones (en su caso) y las acciones promovi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DICTÁME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dictámen es la conclusión a la cual se llegó con el desarrollo de la auditoría como consecuencia de la verificación documental durante la revisió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isión más amplia de la Institu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mpromiso por parte de las áreas revisada de continuar mejorando sus proces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s ventajas de llevar a cabo revisiones de esta índo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municación tanto interna como exter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L HACER Y RETOMAR LO ANTES HECHO ES PARTE DEL APRENDIZAJE QUE PERMITE A TODA INSTITUCIÓN FORTALECERSE PARA MEJORAR CADA DÍ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Gracias por su aten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ANTECEDENTE</a:t>
            </a: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tendiendo a los principios de transparencia y rendición de cuentas, la UABC solicitó por oficio en julio de 2004 a la presidencia de AMOCVIES ser considerada para llevar a cabo la auditoría bajo el convenio firmado con la AS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FIRMA DEL ACUERDO OPERATIVO ENTRE LA AMOCVIES Y LA UABC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2895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27 de agosto se firmó el acuerdo operativo cuyo objetivo f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ecer y desarrollar mecanismos de coordinación de acciones entre ambas par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</a:rPr>
              <a:t>COMPROMISOS DE LA UABC ADQUIRIDOS EN EL CONVENIO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La UABC se compromete a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Realizar la revisión de su cuenta pública con base en los “Términos de referencia para la evaluación del control interno” y la “Guía de auditoría” de la ASF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Integrarse a la comisión de seguimient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Realizar las reuniones de trabajo que considere necesaria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Elaborar informes parcial y final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roporcionar a la AMOCVIES información de avances, pendientes y resultados de la revisión así como la documentación que le solicite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COMPROMISOS DE LA AMOCVIES POR EL CONVENI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AMOCVIES se compromete 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rse al comité de segu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aborar en el desarrollo de la revisión por medio del comité de segu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ificar el avance y cumplimiento del programa de traba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sar el informe previo incorporando las recomendaciones del comit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DESARROLLO DE LA AUDITORÍ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cc66"/>
                </a:solidFill>
                <a:latin typeface="Times New Roman"/>
              </a:rPr>
              <a:t>I. FASE IN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Firma del Acta de Formalización e Inicio de la revi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laneación de la Auditor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cialización y difusión a nivel institu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90360" y="2362320"/>
            <a:ext cx="7848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Times New Roman"/>
              </a:rPr>
              <a:t>II. DETERMINACIÓN DE LAS ÁREAS A REVIS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dad de Presupuesto y Finanz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 Patrimon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ursos Human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ios Administrativos (obras, adquisiciones y servici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762120"/>
            <a:ext cx="6934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DESARROLLO DE LA AUDITOR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66"/>
                </a:solidFill>
                <a:latin typeface="Arial"/>
              </a:rPr>
              <a:t>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Times New Roman"/>
              </a:rPr>
              <a:t>III. ALCANCE DE LA AUDITO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ursos Feder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ursos Esta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gresos Prop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 un porcentaje del 5% de la mezcla de dichos recurs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94040" y="5526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1680" y="609480"/>
            <a:ext cx="6738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DESARROLLO DE LA AUDITOR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66"/>
                </a:solidFill>
                <a:latin typeface="Arial"/>
              </a:rPr>
              <a:t>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DESARROLLO DE LA AUDITORÍA</a:t>
            </a:r>
            <a:br>
              <a:rPr sz="2000"/>
            </a:br>
            <a:r>
              <a:rPr b="0" lang="es-ES" sz="1800" spc="-1" strike="noStrike">
                <a:solidFill>
                  <a:srgbClr val="ffcc66"/>
                </a:solidFill>
                <a:latin typeface="Arial"/>
              </a:rPr>
              <a:t>(continuación)</a:t>
            </a:r>
            <a:br>
              <a:rPr sz="1800"/>
            </a:b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IV. ACTIVIDADES POSTERI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aboración del programa de trabajo y cronograma por cada área sujeta a revi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ificación de que se contara con las leyes y reglamentos aplicables en cada caso y documentación adicional que facilitara la consul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aboración de cédulas analíticas de los procesos revisados, que son la base para elaborar las cédulas de resultados, mismas que se utilizan para la formulación del informe y dictáme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08:51:33Z</dcterms:created>
  <dc:creator>CP ANA MA. GUILLEN</dc:creator>
  <dc:description/>
  <dc:language>en-US</dc:language>
  <cp:lastModifiedBy>cecy</cp:lastModifiedBy>
  <dcterms:modified xsi:type="dcterms:W3CDTF">2005-04-05T16:47:51Z</dcterms:modified>
  <cp:revision>29</cp:revision>
  <dc:subject/>
  <dc:title>EXPERIENCIAS DE LA UABC EN LA AUDITORIA BAJO EL CONVENIO AMOCVIES-ASF </dc:title>
</cp:coreProperties>
</file>