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9C4-0DD0-4694-AFC4-708658A9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8E0-038C-4D81-BBE9-A6999C12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5F2-B632-4667-A5BD-50697B5B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7D81-0A9D-470C-9F21-E1F755AA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EF2-F699-40E0-94AB-9FD37BA9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826-EF20-406B-85CA-0F74D498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5B4-6EEC-45A5-9D60-D9E5D0BF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8AA-829E-420C-B05E-B04A195C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E42-F2D5-4192-B760-EEA811CD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32C-B180-42D4-83D4-080D93C4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8DD4-A209-4747-9A19-B24E64A8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248-D612-4430-8F79-491699D3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BD02-6A06-4ACB-B1AD-B305A95B2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sa1.ppt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Book Antiqua"/>
              </a:rPr>
              <a:t>ACCESO A LA INFORMACIÓN EN ORGANISMOS CONSTITUCIONALES AUTÓNOMO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Los Órganos Internos de Control de cada Universidad con la finalidad de que establezcan los controles necesarios para el buen funcionamiento de su programa de transparencia y acceso a la información, pueden llevar a cabo las siguientes actividades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3300"/>
                </a:solidFill>
                <a:latin typeface="Book Antiqua"/>
              </a:rPr>
              <a:t>1. CONTROL INTERNO PREVENTIVO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a) Participar en el diseño de los procedimientos necesarios para el desarrollo del programa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b) Participar  en  el diseño del sistema informático que se desarrolle, para la atención de la Unidad de Enlace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Book Antiqua"/>
              </a:rPr>
              <a:t>c) Participar en las definiciones de lo que corresponde a la información reservada y confidencial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d) Participar en el diseño de los mecanismos de comunicación entre la Unidad de Enlace y las Áreas de la Universidad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Book Antiqua"/>
              </a:rPr>
              <a:t>e) Determinar las características que deben contemplar la información contable y presupuestal disponible para todas las personas que deseen consultar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Book Antiqua"/>
              </a:rPr>
              <a:t>f) Determinar las características de comunicar los resultados de Auditoria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g) Participar activamente en el proceso de capacitación, para el buen desarrollo del programa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h) Diseñar y establecer un procedimiento de autodiagnóstico del programa de atención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3300"/>
                </a:solidFill>
                <a:latin typeface="Book Antiqua"/>
              </a:rPr>
              <a:t>2. CONTROL INTERNO OPERATIVO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a) Monitorear permanentemente el buen funcionamiento de los sistemas y procedimientos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b) Solicitar sus modificaciones y adecuaciones, para hacerlo más eficiente y confiable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c) Crear un modulo de quejas y sugerencias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d) Realizar encuestas a los usuarios de la información y publicar sus resultados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e) Obtener y difundir datos estadísticos sobre este programa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Book Antiqua"/>
              </a:rPr>
              <a:t>f) Solicitar reclasificaciones de información confidencial y reservada, por motivos de seguridad de la Institución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Book Antiqua"/>
              </a:rPr>
              <a:t>g) Participar activamente, en casos de controversias institucionales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h) Desarrollar un programa de capacitación permanente, para el personal involucrado en situaciones de desconocimiento del programa integral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i) Solicitar, periódicamente, mediante ciertos formatos específicos, información, para el autodiagnóstico del programa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3300"/>
                </a:solidFill>
                <a:latin typeface="Book Antiqua"/>
              </a:rPr>
              <a:t>3. CONTROL INTERNO DETECTIVO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Book Antiqua"/>
              </a:rPr>
              <a:t>a) Incorporar en el Programa Anual de auditoria, la revisión integral del Programa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b) Presentar el informe público, de este programa, con sus observaciones y sugerencias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c) Solicitar, en su caso, la aplicación de las sanciones que corresponda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Book Antiqua"/>
              </a:rPr>
              <a:t>d) Solicitar,  en   su  caso, la remoción de funcionarios  y empleados,  que  pongan  en riesgo, el cumplimiento institucional del programa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e) Identificar, permanentemente áreas de riesgo, del programa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f) Determinar áreas de oportunidad, para la atención eficiente del programa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g) Revisar anualmente el programa de autodiagnóstico y proponer mejoras al mismo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Book Antiqua"/>
              </a:rPr>
              <a:t>h) Revisar, cuidadosamente, los informes de auditoria, para su publicación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ccff"/>
                </a:solidFill>
                <a:uFillTx/>
                <a:latin typeface="Book Antiqua"/>
                <a:hlinkClick r:id="rId2"/>
              </a:rPr>
              <a:t>Participación AMEREIAF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A partir de la entrada en vigor de la Ley Federal de Transparencia y Acceso a la Información Pública Gubernamental, más de 250 dependencias y entidades del gobierno federal tienen la obligación de atender las solicitudes de acceso a la  información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Organismos constitucionales autónomos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El Instituto Federal Electora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La Comisión Nacional de los Derechos Humano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El Banco de México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Las universidad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Y  las  demás  instituciones de educación superior a las que   la ley otorgue autonomía y cualquier otro establecido en la Constitución Política de los Estados Unidos Mexicanos"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Book Antiqua"/>
              </a:rPr>
              <a:t>Lo anterior con fundamento en lo establecido en términos del artículo tercero fracción IX de la ley en materi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El artículo 18 del Reglamento de la Ley Federal de Transparencia y Acceso a la Información Pública Gubernamental, menciona que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"Los órganos internos de control deberán incluir la información a que se refiere el artículo anterior en el sitio de Internet de las dependencias o entidades..."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Supuesto que coloca a la AMOCVIES en un punto clave para reafirmar el compromiso que tienen las Instituciones que a ella se encuentran asociada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Este compromiso han adquirido las Universidades Públicas Estatales las cuales están interesadas en contribuir con el fortalecimiento de una cultura de transparencia de gestión universitaria y de rendición de cuentas a las comunidades universitarias y a la socieda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Mostrando su buena disposición de transparentar su organización, administración, funcionamiento y quehacer social, para atender la demanda de la sociedad en materia de información, independientemente de la obligación legal que se tenga para ell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Y sobre todo cuidando aquella información restringida que la misma  Ley Federal de Transparencia y Acceso a la Información Pública considerada como reservada y confidencial en el capítulo respectiv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El 28 de marzo del año en curso se iniciaron trabajos conjuntos encabezados por directivos representantes de la AMOCVIES, AMEREIAF y ANAIPES. Obteniendo como producto la propuesta del documento denominado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Book Antiqua"/>
              </a:rPr>
              <a:t>     </a:t>
            </a:r>
            <a:r>
              <a:rPr b="0" lang="es-MX" sz="2400" spc="-1" strike="noStrike">
                <a:solidFill>
                  <a:srgbClr val="ff3300"/>
                </a:solidFill>
                <a:latin typeface="Book Antiqua"/>
              </a:rPr>
              <a:t>"RECOMENDACIONES GENERALES PARA EL CUMPLIMIENTO CON LA TRANSPARENCIA Y ACCESO A LA INFORMACIÓN EN LAS IPES“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Documento que tiene por objeto contar con una guía o modelo que facilite a las Universidades el cumplimiento social y legal de informar de manera estandarizada a las instancias públicas oficiale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Y permitir el acceso a la comunidad universitaria y a la sociedad en general a consultar la información universitaria bajo un adecuado, esquema de organización y procedimientos, procurando siempre salvaguardar la autonomía universitaria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8:05:59Z</dcterms:created>
  <dc:creator>Proteo</dc:creator>
  <dc:description/>
  <dc:language>en-US</dc:language>
  <cp:lastModifiedBy>Ramon Armando Aban Ramirez</cp:lastModifiedBy>
  <dcterms:modified xsi:type="dcterms:W3CDTF">2005-04-22T02:01:05Z</dcterms:modified>
  <cp:revision>55</cp:revision>
  <dc:subject/>
  <dc:title>ACCESO A LA INFORMACIÓN EN ORGANISMOS CONSTITUCIONALES AUTÓNOMOS</dc:title>
</cp:coreProperties>
</file>