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12.png" ContentType="image/png"/>
  <Override PartName="/ppt/media/image13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1.png" ContentType="image/png"/>
  <Override PartName="/ppt/media/image42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5DE-147C-4B4D-B693-4A35E953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CC6-6863-413A-AD16-69F20143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E47-051A-4664-986B-37FC0D91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62F-0BB9-4A42-91DA-BEDF762D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FDD05-42EF-4524-842F-81BB73BE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E770A-3DB1-4400-B5EB-1BF90413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C4B47-17ED-4391-B824-C6BEE4E9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225B6-814B-485F-9DC3-3B140312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495B4-D0DD-4D25-B793-DB4FC265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0CFCA-49FA-4FBB-9366-F1951D1D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F5710-8A47-4CF0-9FC5-36EC025C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8AB-5BCF-4F54-BF07-913FF7FE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FD3BA-A28A-4A74-8AB1-D5CF0284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CB617-088D-489A-8EBD-B86F6A37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09DB3-573D-4F89-9478-C82CCCD4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4288E-C6E6-4F33-BEB9-A0268099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82289-6AAC-454F-9281-1C407A08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FF75-853E-4B99-8603-50913251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41E9-8FEC-4669-92B1-649C8DC2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4FC7F-6A29-4B60-A7CD-3D377617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F9A7-2CB7-4700-A6E3-E6C507C2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9805-F6D8-4353-8BF9-29292515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B90-B8E5-4AA7-A683-78A1C1DF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53A0-3FB4-4DDF-87D0-AC943689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40F1-BA66-4E12-B539-C027083D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3631-A484-491E-B7C1-850140A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42AD-9560-4F14-94E5-5542E51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A42A-BBBB-4308-8BA8-F463BAC9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EB60-D287-4FA5-A389-A342F203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7A42-98A2-46AA-A2FA-8F9C3DE0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895B-153E-40AE-8B7A-8FC5B905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04BC-B863-422D-87AE-DE27E045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C5C38-A65F-435A-9CF0-7CD9CDA8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7D7-C0CA-4C59-9089-4C2F1687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2558-9462-4634-99FC-6047F012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A1D6-2170-4DDF-8C34-7C2DA49F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B3CF-2CCD-4A86-8E04-C9094E0D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507CF-30DA-479A-8428-A4546DA1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D6690-5449-43BE-B550-D1F8EE9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8333-A6D6-46D4-99FC-64860E88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453A-7CB5-43FD-94DA-6CADC5F8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F0B3-B0C2-4D05-93DB-8BF3C705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B573-32A9-4901-AAD6-819FE37A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8BD-DD62-47AB-A5C5-287A04BD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030-0F4D-419A-BBF8-72AB3243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F54-54FF-46FB-B783-7946611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044-32F0-49E3-B48E-2D79D756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C71-DA00-4C4E-83F0-8A23B687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A248-0EC3-41F3-A13E-C8131C3AB529}" type="slidenum"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CDE7-2CD3-4CE4-A7B6-520BB8CFC626}" type="slidenum"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0" y="404640"/>
            <a:ext cx="774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4572000" cy="1225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9837-9B37-4D82-A3B2-7690A4CB8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B749-C493-4382-B2BE-5D8CC6B6A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4360" y="2924280"/>
            <a:ext cx="7848360" cy="253116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CONSEJO MEXICANO PARA LA INVESTIGACIÓN  Y DESARROL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DE NORMAS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INFORMACIÓN FINANCIERA , A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CINI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2779920" cy="1654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7280" y="6021360"/>
            <a:ext cx="45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 Unicode MS"/>
              </a:rPr>
              <a:t>ABRIL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833BC-3DC7-4EBF-A4D3-8634E6672391}" type="slidenum">
              <a:t>1</a:t>
            </a:fld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820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0" algn="just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333360"/>
            <a:ext cx="669780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FUNCIONES DEL C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2924280"/>
            <a:ext cx="71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1413000"/>
            <a:ext cx="828036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90000"/>
              </a:lnSpc>
              <a:spcBef>
                <a:spcPts val="2361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Vigilar el </a:t>
            </a: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cumplimiento de los estatutos</a:t>
            </a: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 de la asociació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2361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Rendir anualmente a la Asamblea de Asociados, informes sobre la </a:t>
            </a: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veracidad, suficiencia y razonabilidad de la información</a:t>
            </a: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 presentada por el C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2361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Actuar como </a:t>
            </a:r>
            <a:r>
              <a:rPr b="1" lang="es-MX" sz="2700" spc="-1" strike="noStrike">
                <a:solidFill>
                  <a:srgbClr val="ffff00"/>
                </a:solidFill>
                <a:latin typeface="Arial"/>
              </a:rPr>
              <a:t>consultor técnico</a:t>
            </a: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2361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00"/>
                </a:solidFill>
                <a:latin typeface="Arial"/>
              </a:rPr>
              <a:t>Asesorar y recomendar</a:t>
            </a: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 sobre los proyectos de NIF que lleve a cabo el CI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2361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Asegurar que se tomen en cuenta los </a:t>
            </a:r>
            <a:r>
              <a:rPr b="1" lang="es-MX" sz="2700" spc="-1" strike="noStrike">
                <a:solidFill>
                  <a:srgbClr val="ffff00"/>
                </a:solidFill>
                <a:latin typeface="Arial"/>
              </a:rPr>
              <a:t>comentarios de la auscultación</a:t>
            </a: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8A5-A21F-4A9D-B7A5-6C57E5BDD167}" type="slidenum">
              <a:t>10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0" algn="just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87280" y="333360"/>
            <a:ext cx="669780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DIRECTORIO DEL C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2924280"/>
            <a:ext cx="71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1341360"/>
            <a:ext cx="7200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.P.C. Héctor Pérez Aguil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Arial"/>
              </a:rPr>
              <a:t>Presiden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.P. Gerardo Estrada Attolini</a:t>
            </a:r>
            <a:r>
              <a:rPr b="1" i="1" lang="es-ES" sz="2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Arial"/>
              </a:rPr>
              <a:t>Vicepresidente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.P. Eduardo Argil Aguil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.P. Humberto Márquez Gónzález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ic. Isaac Martínez Martínez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ic. Alberto Navarro Rodríguez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.P. Raúl Robles Segura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ic. Carlos Sámano Caballer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ic. Guillermo Zamarripa Escamill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77080" y="2421000"/>
            <a:ext cx="1868400" cy="189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D93-F7DF-4CFB-AD3E-E363086D1539}" type="slidenum">
              <a:t>11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0" algn="just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333360"/>
            <a:ext cx="698508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FUNCIONES DEL 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227664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7280" y="198900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1052640"/>
            <a:ext cx="755964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90000"/>
              </a:lnSpc>
              <a:spcBef>
                <a:spcPts val="2701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Investigación y desarrollo de NIF</a:t>
            </a: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, teniendo como meta la </a:t>
            </a: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convergencia</a:t>
            </a: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 con el IASB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2701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00"/>
                </a:solidFill>
                <a:latin typeface="Arial"/>
              </a:rPr>
              <a:t>Reuniones colegiadas</a:t>
            </a: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 para comentar y analizar los proyectos de NIF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2701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Enviar el proyecto de NIF para </a:t>
            </a:r>
            <a:r>
              <a:rPr b="1" lang="es-MX" sz="2700" spc="-1" strike="noStrike">
                <a:solidFill>
                  <a:srgbClr val="ffff00"/>
                </a:solidFill>
                <a:latin typeface="Arial"/>
              </a:rPr>
              <a:t>auscultación</a:t>
            </a: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2701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00"/>
                </a:solidFill>
                <a:latin typeface="Arial"/>
              </a:rPr>
              <a:t>Evaluar los resultados de auscultación</a:t>
            </a: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 y, en su caso, realizar los cambios procedent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2701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9900"/>
                </a:solidFill>
                <a:latin typeface="Arial"/>
              </a:rPr>
              <a:t>Publicar y difundir las NIF finales</a:t>
            </a: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6804000" y="5516640"/>
            <a:ext cx="100656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AAC-FDA1-4F86-9F47-97F5D099B11A}" type="slidenum">
              <a:t>12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0" algn="just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333360"/>
            <a:ext cx="698508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DIRECTORIO DEL 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227664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16000" y="1197000"/>
            <a:ext cx="763272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Direct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PC Felipe Pérez Cerv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vestigadores de tiempo comple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PC J. Alfonso Campaña Ro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PC Luis Antonio Cortés More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PC Elsa Beatriz García Bojo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P y MIA Denise Gómez S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vestigador para el Proyecto de Segu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PC José Covarrubias Martínez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vestigador asist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P Isabel Garza Rodrígue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020000" y="2747880"/>
            <a:ext cx="1746000" cy="18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99B-E0F3-440E-A0C7-DB7A8CA4FE54}" type="slidenum">
              <a:t>13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4495680" cy="60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tacto estrecho con IASB y la AIC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elebración en conjunción con ellos del Seminario Interamericano en Méxic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lación de intercambio de material bibliográfico con la </a:t>
            </a: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Asociación Española de Contabilidad y Administración de Empresas (AECA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y con algunos investigadores de la Universidad de Madr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292720" y="3645000"/>
          <a:ext cx="353376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3645000"/>
                    <a:ext cx="35337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826920" y="333360"/>
            <a:ext cx="763272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VINCULACIONES CON EMISORES DE NORMA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5219640" y="1916280"/>
            <a:ext cx="3529080" cy="85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5435640" y="5300640"/>
          <a:ext cx="338436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35640" y="5300640"/>
                    <a:ext cx="3384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778-DBF3-4CD8-B7E4-4E2A67E30366}" type="slidenum">
              <a:t>14</a:t>
            </a:fld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7724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celebró los días 6 y 7 de octubre de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sencia del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Presidente de IASB,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residente de la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AIC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representantes de instituciones emisoras de normas de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Latinoaméric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con funcionarios del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sector regulador, financiero, profesional, académico y de negocios en México y América Lat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trataron varios te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85480" algn="just">
              <a:lnSpc>
                <a:spcPct val="9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Revisión a la Constitución de IAS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85480" algn="just">
              <a:lnSpc>
                <a:spcPct val="9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Proyecto de Mejoras a las NI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85480" algn="just">
              <a:lnSpc>
                <a:spcPct val="9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Normas para PY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85480" algn="just">
              <a:lnSpc>
                <a:spcPct val="9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Convergencia Intern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333360"/>
            <a:ext cx="669780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SEMINARIO INTERAMERICANO EN MÉ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6732720" y="4581360"/>
            <a:ext cx="1981080" cy="19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5BA-7F9A-4E3E-85E4-FE6A96C76B0B}" type="slidenum">
              <a:t>15</a:t>
            </a:fld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4360" y="3573360"/>
            <a:ext cx="784836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II. PROCESO DE AUSCUL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277992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52435-6185-4CF4-8CAA-0E48CB09D638}" type="slidenum">
              <a:t>16</a:t>
            </a:fld>
          </a:p>
        </p:txBody>
      </p:sp>
    </p:spTree>
  </p:cSld>
  <p:transition>
    <p:strips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842840"/>
            <a:ext cx="505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Importante recalcar que…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82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82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Las Normas de Información Financiera deben pasar por un </a:t>
            </a:r>
            <a:r>
              <a:rPr b="1" i="1" lang="es-MX" sz="2600" spc="-1" strike="noStrike">
                <a:solidFill>
                  <a:srgbClr val="ff9900"/>
                </a:solidFill>
                <a:latin typeface="Arial"/>
              </a:rPr>
              <a:t>proceso formal de</a:t>
            </a:r>
            <a:r>
              <a:rPr b="1" i="1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MX" sz="2600" spc="-1" strike="noStrike">
                <a:solidFill>
                  <a:srgbClr val="ff9900"/>
                </a:solidFill>
                <a:latin typeface="Arial"/>
              </a:rPr>
              <a:t>auscultación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abierto a la observación y participación activa de los interesados e involucrados en la información financier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 Unicode MS"/>
              </a:rPr>
              <a:t>REGLAMENTO DE AUSCULTACIÓN Y EMISIÓN DE NORMAS DE INFORMACIÓN FINANCI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940360" y="2997360"/>
            <a:ext cx="2675160" cy="223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DE0-B043-4E3D-B373-6AFF29CA09AF}" type="slidenum">
              <a:t>17</a:t>
            </a:fld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280" y="155592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9900"/>
                </a:solidFill>
                <a:latin typeface="Arial"/>
              </a:rPr>
              <a:t>PROCESO DE EMISIÓN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Reuniones colegiadas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del CID y juntas con el CTC para su asesoramien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82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Publicación de los proyectos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en auscultación en la página web.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Plazo para recibir comentarios: </a:t>
            </a:r>
            <a:r>
              <a:rPr b="1" lang="es-MX" sz="2200" spc="-1" strike="noStrike">
                <a:solidFill>
                  <a:srgbClr val="ff9900"/>
                </a:solidFill>
                <a:latin typeface="Arial"/>
              </a:rPr>
              <a:t>3 me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82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Discusión de los proyectos en </a:t>
            </a: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foros, conferencias y seminarios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abiertos al públic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82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Envío de proyectos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a diversos interesados como s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8548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isiones de estudio de normas con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8548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stituciones profesiona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8548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irmas de contadores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 Unicode MS"/>
              </a:rPr>
              <a:t>REGLAMENTO DE AUSCULTACIÓN Y EMISIÓN DE NORMAS DE INFORMACIÓN FINANCI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6732720" y="4653000"/>
            <a:ext cx="1052280" cy="77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173-9541-4557-83FD-E788BA579014}" type="slidenum">
              <a:t>18</a:t>
            </a:fld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7993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9900"/>
                </a:solidFill>
                <a:latin typeface="Arial"/>
              </a:rPr>
              <a:t>RESULTADOS DE LA AUSCULTACIÓN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80000"/>
              </a:lnSpc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" sz="2500" spc="-1" strike="noStrike">
                <a:solidFill>
                  <a:srgbClr val="ff9900"/>
                </a:solidFill>
                <a:latin typeface="Arial"/>
              </a:rPr>
              <a:t>comentarios recibidos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son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publicados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en la página web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80000"/>
              </a:lnSpc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analizan por el CID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y en su caso, los proyectos de norma son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modificados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con las observaciones recibidas. Los cambios son  comentados con el CTC, antes de la emisión final del documento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80000"/>
              </a:lnSpc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CID y CTC trabajan coordinadamente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con objetividad e independencia de criterio para lograr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información financiera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con los más altos estándares de calidad, en beneficio del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 interés público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 Unicode MS"/>
              </a:rPr>
              <a:t>REGLAMENTO DE AUSCULTACIÓN Y EMISIÓN DE NORMAS DE INFORMACIÓN FINANCI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7020000" y="1484280"/>
            <a:ext cx="900000" cy="8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433-B758-4B67-A3BC-DD69F6D67B63}" type="slidenum">
              <a:t>19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4360" y="3573360"/>
            <a:ext cx="784836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I. DESCRIPCIÓN DEL CIN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277992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ADDF0-EF50-4359-A452-10F5DD5CACBF}" type="slidenum">
              <a:t>2</a:t>
            </a:fld>
          </a:p>
        </p:txBody>
      </p:sp>
    </p:spTree>
  </p:cSld>
  <p:transition>
    <p:strips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4560" y="1555920"/>
            <a:ext cx="8642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7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9900"/>
                </a:solidFill>
                <a:latin typeface="Arial"/>
              </a:rPr>
              <a:t>APROBACIÓN DE LAS NIF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just">
              <a:lnSpc>
                <a:spcPct val="7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70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Juntas del CID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star presentes dos terceras partes de investig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7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Votos requerido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60% de los investigadores con derecho a vo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 Unicode MS"/>
              </a:rPr>
              <a:t>REGLAMENTO DE AUSCULTACIÓN Y EMISIÓN DE NORMAS DE INFORMACIÓN FINANCI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451640" y="4005360"/>
            <a:ext cx="906480" cy="907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39640" y="3932280"/>
            <a:ext cx="6696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70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 algn="just">
              <a:lnSpc>
                <a:spcPct val="7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Investigadores ausentes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: enviar su voto por escrito al Director del CI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 algn="just">
              <a:lnSpc>
                <a:spcPct val="7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00"/>
                </a:solidFill>
                <a:latin typeface="Arial"/>
              </a:rPr>
              <a:t>Voto no aprobatorio</a:t>
            </a: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fundamentar sus objeciones las cuales son revisadas por el CTC antes de la emisión final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7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300" spc="-1" strike="noStrike">
                <a:solidFill>
                  <a:srgbClr val="ffff00"/>
                </a:solidFill>
                <a:latin typeface="Arial"/>
              </a:rPr>
              <a:t>Los documentos aprobados por el CID y el CTC serán emitidos y difundidos como </a:t>
            </a:r>
            <a:r>
              <a:rPr b="1" lang="es-ES" sz="2300" spc="-1" strike="noStrike">
                <a:solidFill>
                  <a:srgbClr val="ff9900"/>
                </a:solidFill>
                <a:latin typeface="Arial"/>
              </a:rPr>
              <a:t>Normas de Información Financier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74D-4084-4DBD-892F-D95ECC6DD372}" type="slidenum">
              <a:t>20</a:t>
            </a:fld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3573360"/>
            <a:ext cx="784836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III. PROYECTOS EN PROC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277992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38E23-B950-48C7-B890-226BE1D30D19}" type="slidenum">
              <a:t>21</a:t>
            </a:fld>
          </a:p>
        </p:txBody>
      </p:sp>
    </p:spTree>
  </p:cSld>
  <p:transition>
    <p:strips dir="l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-36360" y="1341000"/>
            <a:ext cx="7921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546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VERGENCIA DE LA NORMATIVIDAD CONTABLE D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ECTOR FINANCIER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CON LAS NIF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546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VISIÓN DE LA NORMATIVIDAD CONTABLE APLICABLE PARA LA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STITUCIONES DE EDUCACIÓN SUPERIOR (IP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546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VERGENCIA DE LA NORMATIVIDAD CONTABLE DE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SEGUR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CON LAS NI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546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VERGENCIA DE LAS NORMAS DE INFORMACIÓN FINANCIERA CON LA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NORMAS INTERNACIONALES DE INFORMACIÓN FINANCIER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PROYECTOS DEL 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897680" y="4869000"/>
            <a:ext cx="1246320" cy="134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F5C-78A6-47D2-AA70-32AF185DA863}" type="slidenum">
              <a:t>22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2246040"/>
            <a:ext cx="8229600" cy="58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600" spc="-1" strike="noStrike" u="sng">
                <a:solidFill>
                  <a:srgbClr val="ffff00"/>
                </a:solidFill>
                <a:uFillTx/>
                <a:latin typeface="Arial"/>
              </a:rPr>
              <a:t>Objetivo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homologar las circulares emitidas por la CNBV con las N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Tres alternativa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9900"/>
                </a:solidFill>
                <a:latin typeface="Arial"/>
              </a:rPr>
              <a:t>Diferencias con NIF</a:t>
            </a: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eliminar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9900"/>
                </a:solidFill>
                <a:latin typeface="Arial"/>
              </a:rPr>
              <a:t>Diferencias por procedimientos particulares del sector</a:t>
            </a: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convertirlas en políticas contables de la CNB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9900"/>
                </a:solidFill>
                <a:latin typeface="Arial"/>
              </a:rPr>
              <a:t>Diferencias por operaciones especializadas</a:t>
            </a: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incorporarlas a las N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333360"/>
            <a:ext cx="7559640" cy="155628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. CONVERGENCIA DE LA NORMATIVIDAD CONTABLE DEL 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SECTOR FINANCIERO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CON LAS N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6948360" y="2852640"/>
            <a:ext cx="1474920" cy="128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8FB-DBE1-4E77-ACD9-DD578D2CDAF4}" type="slidenum">
              <a:t>23</a:t>
            </a:fld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799400" y="4365720"/>
            <a:ext cx="1344600" cy="1944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38040" y="1557360"/>
            <a:ext cx="7979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AMOCVIES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ha emitido un documento que describe las prácticas contables específicas que actualmente llevan a cabo dichas institucio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ffcc"/>
                </a:solidFill>
                <a:uFillTx/>
                <a:latin typeface="Arial"/>
              </a:rPr>
              <a:t>Principales diferencias identificadas con NI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82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Estados financieros básicos: </a:t>
            </a:r>
            <a:r>
              <a:rPr b="1" i="1" lang="es-MX" sz="2200" spc="-1" strike="noStrike">
                <a:solidFill>
                  <a:srgbClr val="ffffff"/>
                </a:solidFill>
                <a:latin typeface="Arial"/>
              </a:rPr>
              <a:t>Situación Patrimonial, Ejercicio del Presupuesto, Ingresos-Egresos e Inversió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82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Sistema Presupuestal-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eje del sistema cont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82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Bases distintas para el reconocimiento de ingre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y egre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82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se reconocen pasivos por </a:t>
            </a: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obligaciones labor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825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se reconocen los efectos de la </a:t>
            </a: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infl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75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se realiza la </a:t>
            </a:r>
            <a:r>
              <a:rPr b="1" lang="es-MX" sz="2200" spc="-1" strike="noStrike">
                <a:solidFill>
                  <a:srgbClr val="ffff00"/>
                </a:solidFill>
                <a:latin typeface="Arial"/>
              </a:rPr>
              <a:t>depreciación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de los activo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7080" y="333360"/>
            <a:ext cx="756000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I. REVISIÓN DE LA NORMATIVIDAD APLICABLE PARA LAS 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10F-2DDB-4404-94AF-18D332793057}" type="slidenum">
              <a:t>24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 algn="just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44000" indent="-1440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Estados Unidos las </a:t>
            </a:r>
            <a:r>
              <a:rPr b="1" lang="es-ES" sz="2400" spc="-1" strike="noStrike">
                <a:solidFill>
                  <a:srgbClr val="00ffcc"/>
                </a:solidFill>
                <a:latin typeface="Arial"/>
              </a:rPr>
              <a:t>IPES pública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e rigen por la normatividad emitida por 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Governmental Accounting Standards Board (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ASB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00"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00" indent="-1440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ASB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s un órgano privado e independiente (similar al FASB) el cual establece normatividad contable para las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entidades gubernamentales estatales y municipales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00"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00" indent="-1440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Website: www.gasb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00"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788000" y="5300640"/>
          <a:ext cx="3960720" cy="10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5300640"/>
                    <a:ext cx="3960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84360" y="333360"/>
            <a:ext cx="755964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NORMATIVIDAD INTERNACIONAL PARA 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371-963E-4A52-83FE-2F122EF0C063}" type="slidenum">
              <a:t>25</a:t>
            </a:fld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2031840"/>
            <a:ext cx="6562800" cy="61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GASB 29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Utilización de la contabilidad y los principios de reporte financiero para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operaciones no lucrativas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por parte de entidades gubernamental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GASB 34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Estados Financieros Básicos- y MD&amp;A para Gobiernos Locales y Estatal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GASB 35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Estados Financieros Básicos- y MD&amp;A para </a:t>
            </a:r>
            <a:r>
              <a:rPr b="1" i="1" lang="es-ES" sz="2400" spc="-1" strike="noStrike">
                <a:solidFill>
                  <a:srgbClr val="00ffcc"/>
                </a:solidFill>
                <a:latin typeface="Arial"/>
              </a:rPr>
              <a:t>Colegios y Universidades Públicas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una enmienda al GASB-34”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60360"/>
            <a:ext cx="755964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NORMATIVIDAD APLICABLE PARA LAS 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IPES-sector pú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7267680" y="5084640"/>
            <a:ext cx="1876320" cy="13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500-031F-4426-B05C-197B5282E995}" type="slidenum">
              <a:t>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42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plicables a entidades estatales y municipales,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incluidos los colegios y universidades públicas,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involucrados en </a:t>
            </a: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actividades gubernamentales,  empresariales o en amb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ntabilidad sobre la base de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devengación contabl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y permite algunas excepciones para el tratamiento contable de ciertas partid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FAS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emitidos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DESPUÉS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del 30 de noviembre de 1989 (ej.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FAS 116 y FAS 117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) pueden aplicarse únicamente para contabilizar sus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actividades empresari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344520"/>
            <a:ext cx="849780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UNTOS RELEVANTES EN GASB 34 Y 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DCF-BB10-42C0-AD98-D45D358E2963}" type="slidenum">
              <a:t>27</a:t>
            </a:fld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24000" y="1510920"/>
            <a:ext cx="842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AS 116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Contabilización de contribuciones recibidas y contribuciones hech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AS-117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Estados financieros de organizaciones no lucrativ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dicionalmente: guías emitidas por la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National Association of College and University Business Officers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(NACUBO)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organización no lucrativa que promueve prácticas adecuadas en los colegios y universidades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s Normas que actualmente aplican a las 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instituciones no lucrativas en general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(B-2, B-16, E-2)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están basadas en el FAS 116 y FAS 117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115920"/>
            <a:ext cx="755964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NORMATIVIDAD APLICABLE PARA LAS </a:t>
            </a: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IPES-sector priv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9F1-B926-47B3-B2AF-35AF07A2DA1A}" type="slidenum">
              <a:t>28</a:t>
            </a:fld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23640" y="1510920"/>
            <a:ext cx="8280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l B-2 estable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00"/>
                </a:solidFill>
                <a:latin typeface="Arial"/>
              </a:rPr>
              <a:t>(párr. 4)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”…los objetivos de los estados financieros… de las 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ntidades patrocinadas por el gobiern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tales como hospitales, 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scuela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o de servicios) 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son semejante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a los objetivos de los estados financieros de las entidades con propósitos no lucrativ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00"/>
                </a:solidFill>
                <a:latin typeface="Arial"/>
              </a:rPr>
              <a:t>(párr. 9)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“la diferencia entre las organizaciones lucrativas y no lucrativas muchas veces no es muy clara y, por tanto, se requiere del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análisis de las operaciones de las organizaciones para concluir si sus características dominantes son o no lucrativa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217440"/>
            <a:ext cx="755964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PLICABILIDAD DEL B-2, B-16 y E-2 PARA LAS 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BB0-67CE-4421-A549-2D0F22DBC679}" type="slidenum">
              <a:t>29</a:t>
            </a:fld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0560" y="1195200"/>
            <a:ext cx="8893080" cy="61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Usu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sociación  de  Banqueros  de  Méx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sociación Mexicana de Intermediarios Bursát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sociación de Instituciones Financieras Inter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sejo Coordinador Empres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sejo Mexicano de Hombres de Negocios, A.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sociación Mexicana de Instituciones de Seguros, A.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Sector educ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sociación  Nacional  de  Facultades y Escuelas de Contaduría y Administ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Regul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olsa Mexicana de 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misión Nacional Bancaria y de 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misión Nacional de Seguros y Fianz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stituto Mexicano de Contadores Públ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cretaría de Hacienda y Crédito Púb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cretaría de la Función Públ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Prepa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buClr>
                <a:srgbClr val="ffff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stituto Mexicano de Ejecutivos de Finan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87280" y="115920"/>
            <a:ext cx="669780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INSTITUCIONES FUNDAD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77080" y="4437000"/>
            <a:ext cx="135720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EA244-4AE5-4933-9B02-58290FA4DD1A}" type="slidenum">
              <a:t>3</a:t>
            </a:fld>
          </a:p>
        </p:txBody>
      </p:sp>
    </p:spTree>
  </p:cSld>
  <p:transition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956960"/>
            <a:ext cx="605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Habrá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 entidades gubernamentales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que decidan acogerse a los PCG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B-2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proporciona los criterios suficien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Utilizar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juicio profesi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Atender a la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sustancia económica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de sus activida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360360"/>
            <a:ext cx="755964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PLICABILIDAD DEL B-2, B-16 y E-2 PARA LAS 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6156360" y="3357720"/>
            <a:ext cx="2387520" cy="14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061-30E3-4D9B-9641-D1DBB430AF3A}" type="slidenum">
              <a:t>30</a:t>
            </a:fld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205848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Por lo tanto, se requiere del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ANÁLISIS DE SUS OPERACIONES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para concluir si sus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características dominantes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caen dentro del alcance de las </a:t>
            </a:r>
            <a:r>
              <a:rPr b="1" lang="es-MX" sz="2600" spc="-1" strike="noStrike">
                <a:solidFill>
                  <a:srgbClr val="ff9900"/>
                </a:solidFill>
                <a:latin typeface="Arial"/>
              </a:rPr>
              <a:t>entidades con propósitos no lucrativ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Considera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aracterísticas de sus activ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eyes a las que está suj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origen de sus ingr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objetivo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erpos de gobier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289080"/>
            <a:ext cx="755964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PLICABILIDAD DEL B-2, B-16 y E-2 PARA LAS 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6732720" y="3933720"/>
            <a:ext cx="1887480" cy="18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1CF-B31B-400B-89BD-B22FFA5E8509}" type="slidenum">
              <a:t>31</a:t>
            </a:fld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Objetivo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homologar la normatividad emitida por la autoridad reguladora del sector asegurador con las NI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Este proyecto se encuentra actualmente en proceso de planeación y análi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4360" y="333360"/>
            <a:ext cx="7559640" cy="155628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II. CONVERGENCIA DE LA NORMATIVIDAD CONTABLE DE SEGUROS CON LAS N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662880" y="501336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5D2-10DE-4B24-B1EF-5283D23F0F34}" type="slidenum">
              <a:t>32</a:t>
            </a:fld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39640" y="333360"/>
            <a:ext cx="8209080" cy="97092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V. CONVERGENCIA DE LAS NIF CON LAS NORMAS INTERN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46560" y="5273640"/>
            <a:ext cx="3695040" cy="995760"/>
            <a:chOff x="5146560" y="5273640"/>
            <a:chExt cx="3695040" cy="995760"/>
          </a:xfrm>
        </p:grpSpPr>
        <p:sp>
          <p:nvSpPr>
            <p:cNvPr id="362" name=""/>
            <p:cNvSpPr/>
            <p:nvPr/>
          </p:nvSpPr>
          <p:spPr>
            <a:xfrm flipV="1">
              <a:off x="6377400" y="5414760"/>
              <a:ext cx="1232640" cy="284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77400" y="5913000"/>
              <a:ext cx="1232640" cy="285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46560" y="5629320"/>
              <a:ext cx="100764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NIF’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(PCG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33960" y="5273640"/>
              <a:ext cx="1007640" cy="28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FAS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33960" y="5983920"/>
              <a:ext cx="10076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IAS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8081640" y="5620320"/>
              <a:ext cx="0" cy="294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588160" y="5660280"/>
              <a:ext cx="0" cy="294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79280" y="5227560"/>
            <a:ext cx="4268880" cy="1441440"/>
          </a:xfrm>
          <a:prstGeom prst="rect">
            <a:avLst/>
          </a:prstGeom>
          <a:solidFill>
            <a:srgbClr val="cc3300"/>
          </a:solidFill>
          <a:ln w="284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¡HAY QUE AD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PTAR LAS NORMAS CONTABLES INTERNACIONALES NO AD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PTARLA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Objetivo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Identificar las áreas de mayores diferencias con la normatividad emitida por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ASB y FASB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a fin de promover la converg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8360" y="256536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4240" indent="-35424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9900"/>
                </a:solidFill>
                <a:latin typeface="Arial"/>
              </a:rPr>
              <a:t>International Accounting Standards Board (IASB)-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isor de normas internacionales de información financiera, con sede en Londres.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www.iasb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9900"/>
                </a:solidFill>
                <a:latin typeface="Arial"/>
              </a:rPr>
              <a:t>Financial Accounting Standards Board (FASB):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isor de normatividad contable en los Estados Unidos.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www.fasb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CA6-5D8C-4A85-85A2-A47BE0AA19F2}" type="slidenum">
              <a:t>33</a:t>
            </a:fld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69960" y="1268280"/>
            <a:ext cx="193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Arial"/>
              </a:rPr>
              <a:t>Nivel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66"/>
                </a:solidFill>
                <a:latin typeface="Arial"/>
              </a:rPr>
              <a:t>Nivel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Nivel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Nivel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ivel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74440" y="1052640"/>
            <a:ext cx="61642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e3ff"/>
                </a:solidFill>
                <a:latin typeface="Arial"/>
              </a:rPr>
              <a:t>SFAS </a:t>
            </a:r>
            <a:r>
              <a:rPr b="1" lang="es-ES_tradnl" sz="1800" spc="-1" strike="noStrike">
                <a:solidFill>
                  <a:srgbClr val="33cccc"/>
                </a:solidFill>
                <a:latin typeface="Arial"/>
              </a:rPr>
              <a:t>(15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e3ff"/>
                </a:solidFill>
                <a:latin typeface="Arial"/>
              </a:rPr>
              <a:t>FASB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Interpretations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(4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e3ff"/>
                </a:solidFill>
                <a:latin typeface="Arial"/>
              </a:rPr>
              <a:t>APB </a:t>
            </a: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Opinions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(3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e3ff"/>
                </a:solidFill>
                <a:latin typeface="Arial"/>
              </a:rPr>
              <a:t>ARB’s </a:t>
            </a:r>
            <a:r>
              <a:rPr b="1" lang="es-ES_tradnl" sz="1800" spc="-1" strike="noStrike">
                <a:solidFill>
                  <a:srgbClr val="33cccc"/>
                </a:solidFill>
                <a:latin typeface="Arial"/>
              </a:rPr>
              <a:t>(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FASB </a:t>
            </a: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Technical Bulletins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(5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Industry Audit and Accounting Guides</a:t>
            </a: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 del AIC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Arial"/>
              </a:rPr>
              <a:t>SOP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Arial"/>
              </a:rPr>
              <a:t>EITF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ssues (43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Arial"/>
              </a:rPr>
              <a:t>Boletines de práctica del AcSEC del AIC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AICPA Accounting Interpretations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(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FASB Implementation Guides (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Prácticas de la Ind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SFAC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ICPA Accounting Principles Board Stat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ICPA Issues Pa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ICPA Technical Practice A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bros de texto, artícu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68360" y="1125360"/>
            <a:ext cx="331920" cy="863640"/>
          </a:xfrm>
          <a:custGeom>
            <a:avLst/>
            <a:gdLst>
              <a:gd name="textAreaLeft" fmla="*/ 212040 w 331920"/>
              <a:gd name="textAreaRight" fmla="*/ 332280 w 331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68360" y="2494080"/>
            <a:ext cx="331920" cy="647640"/>
          </a:xfrm>
          <a:custGeom>
            <a:avLst/>
            <a:gdLst>
              <a:gd name="textAreaLeft" fmla="*/ 212040 w 331920"/>
              <a:gd name="textAreaRight" fmla="*/ 332280 w 331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3573360"/>
            <a:ext cx="331920" cy="576360"/>
          </a:xfrm>
          <a:custGeom>
            <a:avLst/>
            <a:gdLst>
              <a:gd name="textAreaLeft" fmla="*/ 212040 w 331920"/>
              <a:gd name="textAreaRight" fmla="*/ 332280 w 3319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68360" y="4437000"/>
            <a:ext cx="331920" cy="719280"/>
          </a:xfrm>
          <a:custGeom>
            <a:avLst/>
            <a:gdLst>
              <a:gd name="textAreaLeft" fmla="*/ 212040 w 331920"/>
              <a:gd name="textAreaRight" fmla="*/ 332280 w 331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68360" y="5516640"/>
            <a:ext cx="358920" cy="1341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34920 h 1341360"/>
              <a:gd name="textAreaBottom" fmla="*/ 1306440 h 134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4360" y="333360"/>
            <a:ext cx="7559640" cy="5324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ERARQUÍA DE USGA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093080" y="1197000"/>
          <a:ext cx="11127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1197000"/>
                    <a:ext cx="1112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CFE-8D28-4B0B-A2CA-C12A076A0C8F}" type="slidenum">
              <a:t>34</a:t>
            </a:fld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19303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ffcc"/>
                </a:solidFill>
                <a:latin typeface="Arial"/>
              </a:rPr>
              <a:t>Nivel 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9900"/>
                </a:solidFill>
                <a:latin typeface="Arial"/>
              </a:rPr>
              <a:t>Nivel 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10920" y="2060640"/>
            <a:ext cx="616428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cc"/>
                </a:solidFill>
                <a:latin typeface="Arial"/>
              </a:rPr>
              <a:t>31 Normas Internacionales de Contabilidad (NIC-I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cc"/>
                </a:solidFill>
                <a:latin typeface="Arial"/>
              </a:rPr>
              <a:t>6 Normas Internacionales de Información Financiera (NIIF-I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16 Interpretaciones a las 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SIC’s (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FRIC’s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63640" y="2133720"/>
            <a:ext cx="576360" cy="1944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333360"/>
            <a:ext cx="8642160" cy="1409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RUCTURA DE LAS NORMAS INTERNACIONALES DE INFORMACIÓN FINANCIERA (NII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35280" y="4981680"/>
            <a:ext cx="431640" cy="1400040"/>
          </a:xfrm>
          <a:custGeom>
            <a:avLst/>
            <a:gdLst>
              <a:gd name="textAreaLeft" fmla="*/ 275760 w 431640"/>
              <a:gd name="textAreaRight" fmla="*/ 432000 w 431640"/>
              <a:gd name="textAreaTop" fmla="*/ 36360 h 1400040"/>
              <a:gd name="textAreaBottom" fmla="*/ 1363680 h 14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364000" y="5445000"/>
          <a:ext cx="3348360" cy="9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5445000"/>
                    <a:ext cx="334836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B86-C88F-4761-B15D-B2F8492D9720}" type="slidenum">
              <a:t>35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00"/>
                </a:solidFill>
                <a:latin typeface="Arial"/>
              </a:rPr>
              <a:t>Convergencia – 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normas de contabilidad financiera tienden a concurrir hacia el mismo fi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cccc"/>
                </a:solidFill>
                <a:latin typeface="Arial"/>
              </a:rPr>
              <a:t>2005: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reparación de estados financieros de conformidad con los IFRS/NIC, por parte de la compañías que coticen o vayan a cotizar en un </a:t>
            </a:r>
            <a:r>
              <a:rPr b="1" lang="es-MX" sz="2500" spc="-1" strike="noStrike">
                <a:solidFill>
                  <a:srgbClr val="ffff00"/>
                </a:solidFill>
                <a:latin typeface="Arial"/>
              </a:rPr>
              <a:t>mercado regulado de la Unión Europea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7308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CONVERGENCIA INTERN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7596360" y="4365720"/>
            <a:ext cx="107604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24000" y="4148280"/>
            <a:ext cx="705636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cccc"/>
                </a:solidFill>
                <a:latin typeface="Arial"/>
              </a:rPr>
              <a:t>FASB e IASB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suscriben en septiembre del 2002 un protocolo denominado </a:t>
            </a:r>
            <a:r>
              <a:rPr b="1" lang="es-ES" sz="2500" spc="-1" strike="noStrike">
                <a:solidFill>
                  <a:srgbClr val="ff9900"/>
                </a:solidFill>
                <a:latin typeface="Arial"/>
              </a:rPr>
              <a:t>“Acuerdo Norwalk”,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en el que se comprometen </a:t>
            </a:r>
            <a:r>
              <a:rPr b="1" lang="es-ES_tradnl" sz="2500" spc="-1" strike="noStrike">
                <a:solidFill>
                  <a:srgbClr val="ffffff"/>
                </a:solidFill>
                <a:latin typeface="Arial"/>
              </a:rPr>
              <a:t>a  lograr  la  convergencia de las prácticas norteamericanas  y  las internacionales en </a:t>
            </a:r>
            <a:r>
              <a:rPr b="1" lang="es-ES_tradnl" sz="2500" spc="-1" strike="noStrike">
                <a:solidFill>
                  <a:srgbClr val="ffff00"/>
                </a:solidFill>
                <a:latin typeface="Arial"/>
              </a:rPr>
              <a:t>2007</a:t>
            </a:r>
            <a:r>
              <a:rPr b="1" lang="es-ES_tradnl" sz="2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482-6C4A-4EBC-8D17-38AA81F51330}" type="slidenum">
              <a:t>36</a:t>
            </a:fld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6840" y="194472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Marco Concep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ntabilidad inflaciona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ratamiento contable de cambios en políticas y estimaciones contables y err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stados financieros consoli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Inmuebles, maquinaria y equi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4360" y="333360"/>
            <a:ext cx="755964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¿EN CUÁLES TÓPICOS ESTAMOS TRABAJAN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78740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F2E-F186-4F53-8F67-D4BDC4415027}" type="slidenum">
              <a:t>37</a:t>
            </a:fld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4360" y="3573360"/>
            <a:ext cx="784836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MARCO CONCEPTUAL: SERIE NIF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277992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7F35D-451D-4E7C-B93F-FCCC86AA1AE9}" type="slidenum">
              <a:t>38</a:t>
            </a:fld>
          </a:p>
        </p:txBody>
      </p:sp>
    </p:spTree>
  </p:cSld>
  <p:transition>
    <p:strips dir="l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12480" y="1944720"/>
            <a:ext cx="79311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on el conjunto de conceptos normativos generales y normas particulares,</a:t>
            </a: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emitidos o adoptados por el CID,</a:t>
            </a: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que regulan la información contenida en los estados financieros en un lugar y a una fecha determinados y que son</a:t>
            </a: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ceptados de manera amplia y generalizada</a:t>
            </a:r>
            <a:r>
              <a:rPr b="1" lang="es-MX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por la comunidad financiera y de negocio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¿QUÉ SON LAS NI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858-FC98-4EB3-8E1E-0D136137DB7F}" type="slidenum">
              <a:t>39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333360"/>
            <a:ext cx="590580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OBJETIVOS DEL CIN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080" y="1268280"/>
            <a:ext cx="8604000" cy="62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3e3ff"/>
                </a:solidFill>
                <a:latin typeface="Arial"/>
              </a:rPr>
              <a:t>Desarrollar en beneficio de la sociedad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normas de información financiera, transparentes, objetivas y confiables</a:t>
            </a:r>
            <a:r>
              <a:rPr b="1" lang="es-ES" sz="2500" spc="-1" strike="noStrike">
                <a:solidFill>
                  <a:srgbClr val="e3e3ff"/>
                </a:solidFill>
                <a:latin typeface="Arial"/>
              </a:rPr>
              <a:t> que sirvan a los objetivos de los usuarios de dicha información financier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3e3ff"/>
                </a:solidFill>
                <a:latin typeface="Arial"/>
              </a:rPr>
              <a:t>Efectuar los procesos de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investigación, auscultación, emisión y difusión</a:t>
            </a:r>
            <a:r>
              <a:rPr b="1" lang="es-ES" sz="2500" spc="-1" strike="noStrike">
                <a:solidFill>
                  <a:srgbClr val="e3e3ff"/>
                </a:solidFill>
                <a:latin typeface="Arial"/>
              </a:rPr>
              <a:t> de las normas de información financier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00"/>
                </a:solidFill>
                <a:latin typeface="Arial"/>
              </a:rPr>
              <a:t>Armonizar</a:t>
            </a:r>
            <a:r>
              <a:rPr b="1" lang="es-ES_tradnl" sz="2500" spc="-1" strike="noStrike">
                <a:solidFill>
                  <a:srgbClr val="ffffff"/>
                </a:solidFill>
                <a:latin typeface="Arial"/>
              </a:rPr>
              <a:t> las normatividad contable en diversos sectores económicos en México (e.j. financiero-CNBV y asegurador-CNSyF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3e3ff"/>
                </a:solidFill>
                <a:latin typeface="Arial"/>
              </a:rPr>
              <a:t>Promover la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convergencia</a:t>
            </a:r>
            <a:r>
              <a:rPr b="1" lang="es-ES" sz="2500" spc="-1" strike="noStrike">
                <a:solidFill>
                  <a:srgbClr val="e3e3ff"/>
                </a:solidFill>
                <a:latin typeface="Arial"/>
              </a:rPr>
              <a:t> de normas nacionales con las internacionales</a:t>
            </a:r>
            <a:r>
              <a:rPr b="1" lang="es-ES_tradnl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052280" cy="110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3C9-7AB5-4121-8555-57D8F3E5086B}" type="slidenum">
              <a:t>4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95280" y="1339920"/>
            <a:ext cx="1512720" cy="4537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"/>
              </a:rPr>
              <a:t>N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27280" y="1268280"/>
            <a:ext cx="1368360" cy="23050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27280" y="3860640"/>
            <a:ext cx="1368360" cy="1944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Bolet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M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6720" y="1628640"/>
            <a:ext cx="3741840" cy="2087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Ambas se denominan en forma GENÉR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NORMAS DE INFORMACIÓN 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NIF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24000" y="1339920"/>
            <a:ext cx="144360" cy="453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8"/>
                </a:lnTo>
                <a:cubicBezTo>
                  <a:pt x="10800" y="9688"/>
                  <a:pt x="5400" y="10588"/>
                  <a:pt x="0" y="10588"/>
                </a:cubicBezTo>
                <a:cubicBezTo>
                  <a:pt x="5400" y="10588"/>
                  <a:pt x="10800" y="11488"/>
                  <a:pt x="10800" y="123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333360"/>
            <a:ext cx="7559640" cy="45972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STRUCTUR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LAS N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21337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451008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78520" y="4076640"/>
            <a:ext cx="3741480" cy="208764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tinúan vigentes hasta en tanto no hayan sido reemplazadas por alguna NIF emitida por el 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4941720"/>
            <a:ext cx="720720" cy="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826-2771-473D-A471-865539FCAD11}" type="slidenum">
              <a:t>40</a:t>
            </a:fld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60360" y="1339920"/>
            <a:ext cx="2411280" cy="453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Normas de Información Financi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40360" y="1268280"/>
            <a:ext cx="4608360" cy="24480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Marco Concep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40360" y="4508640"/>
            <a:ext cx="4608360" cy="1296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Normas Partic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87640" y="1339920"/>
            <a:ext cx="792360" cy="4537080"/>
          </a:xfrm>
          <a:custGeom>
            <a:avLst/>
            <a:gdLst>
              <a:gd name="textAreaLeft" fmla="*/ 506160 w 792360"/>
              <a:gd name="textAreaRight" fmla="*/ 792720 w 79236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8"/>
                </a:lnTo>
                <a:cubicBezTo>
                  <a:pt x="10800" y="9688"/>
                  <a:pt x="5400" y="10588"/>
                  <a:pt x="0" y="10588"/>
                </a:cubicBezTo>
                <a:cubicBezTo>
                  <a:pt x="5400" y="10588"/>
                  <a:pt x="10800" y="11488"/>
                  <a:pt x="10800" y="123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333360"/>
            <a:ext cx="7559640" cy="45972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STRUCTUR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LAS N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2EC-8D77-46CC-992D-0BF8FAC27C0F}" type="slidenum">
              <a:t>41</a:t>
            </a:fld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68000" y="1486080"/>
            <a:ext cx="539892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n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sistema coherente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de objetivos y fundamentos interrelacion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rven como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sustento racional y teóric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ara el desarrollo de las N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porciona una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terminología comú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imula el uso del </a:t>
            </a: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juicio profesional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en la solución de los problemas que surgen en la práctica conta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¿QUÉ ES EL MARCO CONCEPTU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6621480" y="1989000"/>
            <a:ext cx="2031840" cy="35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BF8-595B-4BE7-A8D2-24E932499916}" type="slidenum">
              <a:t>42</a:t>
            </a:fld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7" dur="20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5219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stablece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la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la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concretas que deben observarse par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conocer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los elementos que integran los estados financieros. S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viden 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Reglas de valuación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atribuir val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Reglas de presentación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mostrar inform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Reglas de revelación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ampliar la inform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1695600" cy="15112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684360" y="333360"/>
            <a:ext cx="755964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¿QUÉ SON LAS NORMAS PARTICULA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220840" cy="200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D79-3993-4C5F-A314-011270149B4A}" type="slidenum">
              <a:t>43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2204640"/>
            <a:ext cx="749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nfoque </a:t>
            </a:r>
            <a:r>
              <a:rPr b="1" lang="es-MX" sz="2200" spc="-1" strike="noStrike">
                <a:solidFill>
                  <a:srgbClr val="ff9900"/>
                </a:solidFill>
                <a:latin typeface="Arial"/>
              </a:rPr>
              <a:t>“en base a principio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Tener </a:t>
            </a: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alcances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muy </a:t>
            </a: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ampli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ntener </a:t>
            </a: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pocas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(de ser posible ninguna) </a:t>
            </a: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o excepcion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s transacciones </a:t>
            </a: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similares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deben tener un tratamiento simil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Apropiado </a:t>
            </a: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juicio profesional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, reconociendo que no sería posible emitir normas específicas que cubran cualquier situación particul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333360"/>
            <a:ext cx="7559640" cy="155628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PREMISAS DEL CID PARA LA EMISIÓN DE NORMAS PARTICU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6"/>
          <a:stretch/>
        </p:blipFill>
        <p:spPr>
          <a:xfrm>
            <a:off x="7176960" y="2421000"/>
            <a:ext cx="1571760" cy="27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27F-E1F6-4920-BE92-3CF73E1E15E1}" type="slidenum">
              <a:t>44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95280" y="1268280"/>
            <a:ext cx="1512720" cy="4537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rmas de Información 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27280" y="1268280"/>
            <a:ext cx="1368360" cy="2952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Marco Conceptu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27280" y="4508640"/>
            <a:ext cx="1368360" cy="129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ormas Particul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18160" y="981000"/>
            <a:ext cx="417492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Postulados bás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716360" y="1413000"/>
            <a:ext cx="417528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ecesidades de los usuarios y objetivos de la información financi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18160" y="1989000"/>
            <a:ext cx="417492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aracterísticas cualitativas de la información financi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18160" y="4508640"/>
            <a:ext cx="417492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16360" y="2565360"/>
            <a:ext cx="41752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lementos básicos de los estados financier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16360" y="4941720"/>
            <a:ext cx="417672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ceptos específ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16360" y="3071880"/>
            <a:ext cx="4175280" cy="5014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ceptos de valuación  y su reconocimien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5373720"/>
            <a:ext cx="417672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ndustrias especializad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18160" y="3575160"/>
            <a:ext cx="417492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ceptos de presentación y reve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16360" y="4006800"/>
            <a:ext cx="41752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upletorie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24000" y="1339920"/>
            <a:ext cx="144360" cy="453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8"/>
                </a:lnTo>
                <a:cubicBezTo>
                  <a:pt x="10800" y="9688"/>
                  <a:pt x="5400" y="10588"/>
                  <a:pt x="0" y="10588"/>
                </a:cubicBezTo>
                <a:cubicBezTo>
                  <a:pt x="5400" y="10588"/>
                  <a:pt x="10800" y="11488"/>
                  <a:pt x="10800" y="123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11640" y="1052640"/>
            <a:ext cx="144360" cy="33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8"/>
                </a:lnTo>
                <a:cubicBezTo>
                  <a:pt x="10800" y="9688"/>
                  <a:pt x="5400" y="10588"/>
                  <a:pt x="0" y="10588"/>
                </a:cubicBezTo>
                <a:cubicBezTo>
                  <a:pt x="5400" y="10588"/>
                  <a:pt x="10800" y="11488"/>
                  <a:pt x="10800" y="123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11640" y="458136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8"/>
                </a:lnTo>
                <a:cubicBezTo>
                  <a:pt x="10800" y="9688"/>
                  <a:pt x="5400" y="10588"/>
                  <a:pt x="0" y="10588"/>
                </a:cubicBezTo>
                <a:cubicBezTo>
                  <a:pt x="5400" y="10588"/>
                  <a:pt x="10800" y="11488"/>
                  <a:pt x="10800" y="123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4360" y="12852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SERIE N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5F3-5FA5-457E-ACA4-3400EF25AD03}" type="slidenum">
              <a:t>45</a:t>
            </a:fld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7885080" y="5373720"/>
            <a:ext cx="10065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885080" y="4581360"/>
            <a:ext cx="10065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3789360"/>
            <a:ext cx="10065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812000" y="2997360"/>
            <a:ext cx="1079640" cy="71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12000" y="2205000"/>
            <a:ext cx="108108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04000" y="5373720"/>
            <a:ext cx="1081080" cy="719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FAC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24360" y="5373720"/>
            <a:ext cx="107964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-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5372280"/>
            <a:ext cx="424800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mentos básicos de los estados financier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5373720"/>
            <a:ext cx="79200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 A-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04000" y="4583160"/>
            <a:ext cx="1081080" cy="7189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FAC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24360" y="4583160"/>
            <a:ext cx="1079640" cy="718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-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-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-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2000" y="4581360"/>
            <a:ext cx="424800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acterísticas cualitativas de la información financie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4581360"/>
            <a:ext cx="79200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 A-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3789360"/>
            <a:ext cx="1081080" cy="719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FAC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24360" y="3789360"/>
            <a:ext cx="107964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B-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B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3860640"/>
            <a:ext cx="424800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cesidades de los usuarios y objetivos de la información financi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1280" y="3787920"/>
            <a:ext cx="79200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 A-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04000" y="2995560"/>
            <a:ext cx="1081080" cy="719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FAC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24360" y="2995560"/>
            <a:ext cx="107964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-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-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2995560"/>
            <a:ext cx="417672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ulados bás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1280" y="2995560"/>
            <a:ext cx="79200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 A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05440" y="2203560"/>
            <a:ext cx="1079640" cy="7189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24360" y="2205000"/>
            <a:ext cx="106848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-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03280" y="2203560"/>
            <a:ext cx="417672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ructura de las Normas de Información Financie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2205000"/>
            <a:ext cx="79200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 A-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85080" y="1558800"/>
            <a:ext cx="939960" cy="43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AS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4000" y="1557360"/>
            <a:ext cx="1008000" cy="4316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AS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35640" y="1557360"/>
            <a:ext cx="144144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quival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03280" y="1557360"/>
            <a:ext cx="4105440" cy="43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39640" y="1557360"/>
            <a:ext cx="863640" cy="3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MARCO CONCEPTUAL Y SU EQUIVALENCIA CON ORDENAMIENTOS INTERN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650-8993-44BD-A844-E735C33204DD}" type="slidenum">
              <a:t>4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7740720" y="4292640"/>
            <a:ext cx="1006560" cy="71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67640" y="3500280"/>
            <a:ext cx="107964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C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C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67640" y="2708280"/>
            <a:ext cx="108108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32720" y="4292640"/>
            <a:ext cx="1008000" cy="7189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87280" y="4290840"/>
            <a:ext cx="424836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letorie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6560" y="4290840"/>
            <a:ext cx="792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 A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3498840"/>
            <a:ext cx="1081080" cy="719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PB 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80000" y="3498840"/>
            <a:ext cx="107964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58920" y="3498840"/>
            <a:ext cx="417672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ptos de presentación y reve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6560" y="3498840"/>
            <a:ext cx="792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 A-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61080" y="2706840"/>
            <a:ext cx="1079640" cy="7189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FAC 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FAC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2708280"/>
            <a:ext cx="1068480" cy="719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58920" y="2706840"/>
            <a:ext cx="417672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ptos de valu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560" y="2708280"/>
            <a:ext cx="792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 A-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740720" y="2062080"/>
            <a:ext cx="939600" cy="43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AS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659640" y="2060640"/>
            <a:ext cx="1008000" cy="4316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FAS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292720" y="2060640"/>
            <a:ext cx="144144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quival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58920" y="2060640"/>
            <a:ext cx="4105080" cy="43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5280" y="2060640"/>
            <a:ext cx="863640" cy="35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920" y="333360"/>
            <a:ext cx="8569080" cy="94716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MARCO CONCEPTUAL Y SU EQUIVALENCIA CON ORDENAMIENTOS INTERN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580000" y="4292640"/>
            <a:ext cx="1079640" cy="72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5B6-5EB7-4E63-B6C7-FAB5C3BA67AF}" type="slidenum">
              <a:t>47</a:t>
            </a:fld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67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438120" algn="just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Norma introductoria a la serie NIF 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438120" algn="just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Establece la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estructura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de las N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438120" algn="just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Otorga un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orden lógico-deductivo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al Marco conceptual en atención a la normatividad internaci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438120" algn="just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Establece el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</a:rPr>
              <a:t>enfoque</a:t>
            </a: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para emitir Normas Particula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CONTENIDO DE LA NIF A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6880320" y="2781360"/>
            <a:ext cx="2263680" cy="22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DA1-5992-4CA1-B5C1-B54DE451718B}" type="slidenum">
              <a:t>48</a:t>
            </a:fld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4920" y="1486080"/>
            <a:ext cx="475308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Define los postulados básicos bajo los cuales debe operar el sistema de información contable.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Los postulados básicos son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las </a:t>
            </a: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proposiciones fundamentales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que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rigen el ambiente bajo el cual debe operar el sistema de información con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CONTENIDO DE LA NIF A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345040" cy="224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30C-1CB9-4A5C-842E-BE1D17B1FD38}" type="slidenum">
              <a:t>49</a:t>
            </a:fld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634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acilitar la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comprensión y confiabilidad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en la información financier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Preparar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formación financiera bajo reglas similar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acilitar la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captación de recursos financieros,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e lo contrario, será muy difícil y costoso para aquellas compañías que deseen tener acceso a los mercados de capit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333360"/>
            <a:ext cx="669780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3068640"/>
            <a:ext cx="16351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DCC-D4A8-4AB1-A34B-31D0D103F787}" type="slidenum">
              <a:t>5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219640" y="4149720"/>
            <a:ext cx="2881440" cy="244944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Base para reconocer las operaciones del ente económ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1413000"/>
            <a:ext cx="3598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USTANCIA ECONÓM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8360" y="4292640"/>
            <a:ext cx="3527280" cy="287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VENGACIÓN CON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4726080"/>
            <a:ext cx="3527280" cy="287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SOC. COSTOS CON INGRE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27640" y="4049640"/>
            <a:ext cx="360360" cy="280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8"/>
                </a:lnTo>
                <a:cubicBezTo>
                  <a:pt x="10800" y="9688"/>
                  <a:pt x="5400" y="10588"/>
                  <a:pt x="0" y="10588"/>
                </a:cubicBezTo>
                <a:cubicBezTo>
                  <a:pt x="5400" y="10588"/>
                  <a:pt x="10800" y="11488"/>
                  <a:pt x="10800" y="123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POSTULADOS BÁ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5157720"/>
            <a:ext cx="3527280" cy="21600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5518080"/>
            <a:ext cx="3527280" cy="21600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UALIDAD ECONÓM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6235560"/>
            <a:ext cx="3527280" cy="2890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3357720"/>
            <a:ext cx="3527280" cy="502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EGOCIO EN MARCH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48360" y="1268280"/>
            <a:ext cx="295272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Prevalece en la delimitación y operación del sistema de inform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82920" y="1773360"/>
            <a:ext cx="7207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8360" y="2708280"/>
            <a:ext cx="295272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dentifica al ente económico y asume su continu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8360" y="2565360"/>
            <a:ext cx="3527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NTIDAD ECONÓM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8360" y="5877000"/>
            <a:ext cx="3527280" cy="21600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SIS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56000" y="2781360"/>
            <a:ext cx="432000" cy="107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8"/>
                </a:lnTo>
                <a:cubicBezTo>
                  <a:pt x="10800" y="9688"/>
                  <a:pt x="5400" y="10588"/>
                  <a:pt x="0" y="10588"/>
                </a:cubicBezTo>
                <a:cubicBezTo>
                  <a:pt x="5400" y="10588"/>
                  <a:pt x="10800" y="11488"/>
                  <a:pt x="10800" y="123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3B8-5C50-40A4-83C5-D2E5CEE72513}" type="slidenum">
              <a:t>50</a:t>
            </a:fld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26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dentifica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 las </a:t>
            </a:r>
            <a:r>
              <a:rPr b="1" lang="es-ES_tradnl" sz="2600" spc="-1" strike="noStrike">
                <a:solidFill>
                  <a:srgbClr val="ffff00"/>
                </a:solidFill>
                <a:latin typeface="Arial"/>
              </a:rPr>
              <a:t>necesidades del usuario general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stablece los </a:t>
            </a:r>
            <a:r>
              <a:rPr b="1" lang="es-ES_tradnl" sz="2600" spc="-1" strike="noStrike">
                <a:solidFill>
                  <a:srgbClr val="ffff00"/>
                </a:solidFill>
                <a:latin typeface="Arial"/>
              </a:rPr>
              <a:t>objetivos de la información financiera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 así como, las características y limitaciones de los estados financieros de las entidades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CONTENIDO DE LA NIF A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588000" y="2708280"/>
            <a:ext cx="1538280" cy="252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EEC-C2B4-4F3C-BE0A-242B35C7AF18}" type="slidenum">
              <a:t>51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5329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stablece las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características cualitativas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que debe reunir la información financiera para satisfacer  las necesidades de los usuarios de la misma y con ello asegurar el cumplimiento de los objetivos de la información financiera.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CONTENIDO DE LA NIF A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462400" cy="25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A96-B4E0-4314-A15A-9921BB74CB58}" type="slidenum">
              <a:t>52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042920" y="4797360"/>
            <a:ext cx="187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79640" y="4076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916360" y="3428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104292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61080" y="2276640"/>
            <a:ext cx="1224000" cy="28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leva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411280" y="1119240"/>
            <a:ext cx="4753080" cy="50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NFORMACIÓN FINANCIERA UTIL PARA LA TOMA DE DECI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8" name=""/>
          <p:cNvCxnSpPr/>
          <p:nvPr/>
        </p:nvCxnSpPr>
        <p:spPr>
          <a:xfrm>
            <a:off x="5036760" y="1915920"/>
            <a:ext cx="2414880" cy="3610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29" name=""/>
          <p:cNvCxnSpPr/>
          <p:nvPr/>
        </p:nvCxnSpPr>
        <p:spPr>
          <a:xfrm rot="5400000">
            <a:off x="3101400" y="361800"/>
            <a:ext cx="653400" cy="3186720"/>
          </a:xfrm>
          <a:prstGeom prst="bentConnector3">
            <a:avLst>
              <a:gd name="adj1" fmla="val 49834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530" name=""/>
          <p:cNvSpPr/>
          <p:nvPr/>
        </p:nvSpPr>
        <p:spPr>
          <a:xfrm>
            <a:off x="1547640" y="6021360"/>
            <a:ext cx="6769440" cy="620640"/>
          </a:xfrm>
          <a:prstGeom prst="leftRightArrow">
            <a:avLst>
              <a:gd name="adj1" fmla="val 63065"/>
              <a:gd name="adj2" fmla="val 182342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quilibrio de las características cualit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32" idx="3"/>
            <a:endCxn id="533" idx="0"/>
          </p:cNvCxnSpPr>
          <p:nvPr/>
        </p:nvCxnSpPr>
        <p:spPr>
          <a:xfrm>
            <a:off x="2916000" y="2420640"/>
            <a:ext cx="3564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34" name=""/>
          <p:cNvCxnSpPr>
            <a:stCxn id="532" idx="1"/>
            <a:endCxn id="535" idx="0"/>
          </p:cNvCxnSpPr>
          <p:nvPr/>
        </p:nvCxnSpPr>
        <p:spPr>
          <a:xfrm flipV="1" rot="10800000">
            <a:off x="936000" y="2419920"/>
            <a:ext cx="54036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36" name=""/>
          <p:cNvCxnSpPr>
            <a:endCxn id="537" idx="0"/>
          </p:cNvCxnSpPr>
          <p:nvPr/>
        </p:nvCxnSpPr>
        <p:spPr>
          <a:xfrm flipV="1" rot="10800000">
            <a:off x="6120720" y="2348280"/>
            <a:ext cx="516600" cy="35964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38" name=""/>
          <p:cNvCxnSpPr>
            <a:stCxn id="526" idx="3"/>
            <a:endCxn id="539" idx="0"/>
          </p:cNvCxnSpPr>
          <p:nvPr/>
        </p:nvCxnSpPr>
        <p:spPr>
          <a:xfrm>
            <a:off x="7884720" y="2421000"/>
            <a:ext cx="199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7954920" y="2637000"/>
            <a:ext cx="0" cy="56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5229360"/>
            <a:ext cx="388764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 E S T R I C C I O N E 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ortunidad, Relación entre costo y benefi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2" name=""/>
          <p:cNvCxnSpPr>
            <a:endCxn id="541" idx="1"/>
          </p:cNvCxnSpPr>
          <p:nvPr/>
        </p:nvCxnSpPr>
        <p:spPr>
          <a:xfrm flipH="1" rot="16200000">
            <a:off x="2484360" y="4797000"/>
            <a:ext cx="361080" cy="12247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43" name=""/>
          <p:cNvCxnSpPr>
            <a:stCxn id="537" idx="2"/>
            <a:endCxn id="544" idx="1"/>
          </p:cNvCxnSpPr>
          <p:nvPr/>
        </p:nvCxnSpPr>
        <p:spPr>
          <a:xfrm flipH="1" rot="16200000">
            <a:off x="5472000" y="3789000"/>
            <a:ext cx="1478880" cy="1800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45" name=""/>
          <p:cNvCxnSpPr>
            <a:stCxn id="539" idx="2"/>
            <a:endCxn id="544" idx="3"/>
          </p:cNvCxnSpPr>
          <p:nvPr/>
        </p:nvCxnSpPr>
        <p:spPr>
          <a:xfrm rot="5400000">
            <a:off x="7209720" y="3744360"/>
            <a:ext cx="1405440" cy="3420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46" name=""/>
          <p:cNvCxnSpPr/>
          <p:nvPr/>
        </p:nvCxnSpPr>
        <p:spPr>
          <a:xfrm rot="5400000">
            <a:off x="7091640" y="4580640"/>
            <a:ext cx="1081800" cy="93744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7" name=""/>
          <p:cNvSpPr/>
          <p:nvPr/>
        </p:nvSpPr>
        <p:spPr>
          <a:xfrm flipV="1">
            <a:off x="2050920" y="2565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042920" y="335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5280" y="3068640"/>
            <a:ext cx="1081080" cy="360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eraci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9640" y="3789360"/>
            <a:ext cx="1440000" cy="576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Arial"/>
              </a:rPr>
              <a:t>Verificabili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24000" y="3789360"/>
            <a:ext cx="1727280" cy="576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presentativi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76360" y="2276640"/>
            <a:ext cx="1440000" cy="28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11280" y="306864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bjetivi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21440" y="2708280"/>
            <a:ext cx="1800000" cy="431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mprensibili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08720" y="2708280"/>
            <a:ext cx="154800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mparabili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00720" y="4149720"/>
            <a:ext cx="1441440" cy="93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ibilidad de predicción y confirma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1" name=""/>
          <p:cNvCxnSpPr>
            <a:stCxn id="533" idx="1"/>
            <a:endCxn id="535" idx="3"/>
          </p:cNvCxnSpPr>
          <p:nvPr/>
        </p:nvCxnSpPr>
        <p:spPr>
          <a:xfrm flipV="1" rot="10800000">
            <a:off x="1475640" y="3212640"/>
            <a:ext cx="935640" cy="37440"/>
          </a:xfrm>
          <a:prstGeom prst="bentConnector3">
            <a:avLst>
              <a:gd name="adj1" fmla="val 49884"/>
            </a:avLst>
          </a:prstGeom>
          <a:ln w="0">
            <a:noFill/>
          </a:ln>
        </p:spPr>
      </p:cxnSp>
      <p:cxnSp>
        <p:nvCxnSpPr>
          <p:cNvPr id="552" name=""/>
          <p:cNvCxnSpPr/>
          <p:nvPr/>
        </p:nvCxnSpPr>
        <p:spPr>
          <a:xfrm flipV="1" rot="10800000">
            <a:off x="6732000" y="2385000"/>
            <a:ext cx="288000" cy="972360"/>
          </a:xfrm>
          <a:prstGeom prst="bentConnector3">
            <a:avLst>
              <a:gd name="adj1" fmla="val 179474"/>
            </a:avLst>
          </a:prstGeom>
          <a:ln w="0">
            <a:noFill/>
          </a:ln>
        </p:spPr>
      </p:cxnSp>
      <p:cxnSp>
        <p:nvCxnSpPr>
          <p:cNvPr id="553" name=""/>
          <p:cNvCxnSpPr/>
          <p:nvPr/>
        </p:nvCxnSpPr>
        <p:spPr>
          <a:xfrm flipV="1" rot="10800000">
            <a:off x="6732000" y="2385000"/>
            <a:ext cx="288000" cy="972360"/>
          </a:xfrm>
          <a:prstGeom prst="bentConnector3">
            <a:avLst>
              <a:gd name="adj1" fmla="val 179474"/>
            </a:avLst>
          </a:prstGeom>
          <a:ln w="0">
            <a:noFill/>
          </a:ln>
        </p:spPr>
      </p:cxnSp>
      <p:cxnSp>
        <p:nvCxnSpPr>
          <p:cNvPr id="554" name=""/>
          <p:cNvCxnSpPr/>
          <p:nvPr/>
        </p:nvCxnSpPr>
        <p:spPr>
          <a:xfrm flipV="1" rot="10800000">
            <a:off x="6732000" y="2385000"/>
            <a:ext cx="288000" cy="972360"/>
          </a:xfrm>
          <a:prstGeom prst="bentConnector3">
            <a:avLst>
              <a:gd name="adj1" fmla="val 179474"/>
            </a:avLst>
          </a:prstGeom>
          <a:ln w="0">
            <a:noFill/>
          </a:ln>
        </p:spPr>
      </p:cxnSp>
      <p:cxnSp>
        <p:nvCxnSpPr>
          <p:cNvPr id="555" name=""/>
          <p:cNvCxnSpPr>
            <a:stCxn id="533" idx="3"/>
            <a:endCxn id="550" idx="3"/>
          </p:cNvCxnSpPr>
          <p:nvPr/>
        </p:nvCxnSpPr>
        <p:spPr>
          <a:xfrm>
            <a:off x="3490560" y="3213000"/>
            <a:ext cx="361080" cy="866160"/>
          </a:xfrm>
          <a:prstGeom prst="bentConnector3">
            <a:avLst>
              <a:gd name="adj1" fmla="val 163373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556" name=""/>
          <p:cNvSpPr/>
          <p:nvPr/>
        </p:nvSpPr>
        <p:spPr>
          <a:xfrm>
            <a:off x="1476360" y="328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CARACTERISTICAS CUALIT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219640" y="3429000"/>
            <a:ext cx="1225440" cy="576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ffffff"/>
                </a:solidFill>
                <a:latin typeface="Arial"/>
              </a:rPr>
              <a:t>Importancia relati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559640" y="3429000"/>
            <a:ext cx="1297080" cy="576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ffffff"/>
                </a:solidFill>
                <a:latin typeface="Arial"/>
              </a:rPr>
              <a:t>Revelación suficien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EF6-4888-41DD-BD7D-E7B565A5A3A5}" type="slidenum">
              <a:t>53</a:t>
            </a:fld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34560" y="1844640"/>
            <a:ext cx="5545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fin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ementos básicos que conforman los estados financier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para lograr uniformidad de criterios en su elaboración, análisis e interpretación, por parte de los usuarios generales de la información financie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CONTENIDO DE LA NIF A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156360" y="2205000"/>
            <a:ext cx="2376360" cy="2808000"/>
            <a:chOff x="6156360" y="2205000"/>
            <a:chExt cx="2376360" cy="2808000"/>
          </a:xfrm>
        </p:grpSpPr>
        <p:sp>
          <p:nvSpPr>
            <p:cNvPr id="563" name="Puzzle3"/>
            <p:cNvSpPr/>
            <p:nvPr/>
          </p:nvSpPr>
          <p:spPr>
            <a:xfrm>
              <a:off x="7313400" y="2205000"/>
              <a:ext cx="933840" cy="14922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Puzzle2"/>
            <p:cNvSpPr/>
            <p:nvPr/>
          </p:nvSpPr>
          <p:spPr>
            <a:xfrm>
              <a:off x="7041960" y="3292200"/>
              <a:ext cx="1490760" cy="1359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Puzzle4"/>
            <p:cNvSpPr/>
            <p:nvPr/>
          </p:nvSpPr>
          <p:spPr>
            <a:xfrm>
              <a:off x="6464880" y="3275280"/>
              <a:ext cx="898920" cy="17377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Puzzle1"/>
            <p:cNvSpPr/>
            <p:nvPr/>
          </p:nvSpPr>
          <p:spPr>
            <a:xfrm>
              <a:off x="6156360" y="2656440"/>
              <a:ext cx="1509480" cy="10360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37E-66DD-4273-8F7E-E6A14925E6D6}" type="slidenum">
              <a:t>54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blece lo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riterios generales, conceptos y atributos de valuació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n el reconocimiento, inicial y pos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e alguno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valores económicos relevant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que forman parte de las normas particulares de valuac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scribe y estandariz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los aspectos relacionados con lo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riterios generales de valuació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y sus métodos de cuantific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CONTENIDO DE LA NIF A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6300720" y="2820960"/>
            <a:ext cx="2343240" cy="202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C62-54A9-4A8F-A795-CD3F67380AB6}" type="slidenum">
              <a:t>55</a:t>
            </a:fld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179280" y="202896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ablece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normas generales aplicables a la presentación y revelación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de la información financiera los estados financieros y sus not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CONTENIDO DE LA NIF A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867280" y="2603520"/>
            <a:ext cx="2184480" cy="194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4A4-4FA8-48AD-9529-CD2E7DF28880}" type="slidenum">
              <a:t>56</a:t>
            </a:fld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78920" y="2133360"/>
            <a:ext cx="5256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ablece las bases para aplicar  la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upletoriedad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 las NIF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, considerando que al hacerlo, se está preparando información financiera con base a ellas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33336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CONTENIDO DE LA NIF A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6156360" y="2276640"/>
            <a:ext cx="1976400" cy="248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ECB-C69B-46A5-8A9B-F4FEBE6EF91C}" type="slidenum">
              <a:t>57</a:t>
            </a:fld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PERIODO CONCLUYÓ EL 31 DE OCTUBR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-18828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NIF A-1: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“Estructura de los Principios de Contabilidad Generalmente  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         Aceptados” </a:t>
            </a: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ahora llamada,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 “Estructura de las Normas de 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         Información Financier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-18828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NIF A-9: 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“Supletoriedad” </a:t>
            </a: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ahora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NIF A-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PERIODO CONCLUYÓ EL 15 DE DICIEMBR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-18828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NIF A-2: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“Necesidades de los usuarios y objetivos de la información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         financiera”, </a:t>
            </a: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ahora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 NIF A-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-18828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NIF A-4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“Características cualitativas de la información financier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-18828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NIF A-5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“Elementos básicos de los estados financier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PERIODO CONCLUYÓ EL 31 DE MARZO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-18828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NIF B-1: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ffff00"/>
                </a:solidFill>
                <a:latin typeface="Arial"/>
              </a:rPr>
              <a:t>“Cambios contable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4360" y="260280"/>
            <a:ext cx="75596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NIF AUSCUL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8CD-4568-48DE-954F-745382B4410A}" type="slidenum">
              <a:t>58</a:t>
            </a:fld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11280" y="333360"/>
            <a:ext cx="784836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DIFUS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6920" y="1415880"/>
            <a:ext cx="720108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Bef>
                <a:spcPts val="1687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00"/>
                </a:solidFill>
                <a:latin typeface="Arial"/>
              </a:rPr>
              <a:t>Boletines Informativos</a:t>
            </a:r>
            <a:r>
              <a:rPr b="0" lang="es-MX" sz="2700" spc="-1" strike="noStrike">
                <a:solidFill>
                  <a:srgbClr val="ffffff"/>
                </a:solidFill>
                <a:latin typeface="Arial"/>
              </a:rPr>
              <a:t> del CINI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spcBef>
                <a:spcPts val="1687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00"/>
                </a:solidFill>
                <a:latin typeface="Arial"/>
              </a:rPr>
              <a:t>Reportes Técnicos</a:t>
            </a:r>
            <a:r>
              <a:rPr b="0" lang="es-MX" sz="2700" spc="-1" strike="noStrike">
                <a:solidFill>
                  <a:srgbClr val="ffffff"/>
                </a:solidFill>
                <a:latin typeface="Arial"/>
              </a:rPr>
              <a:t> del CI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spcBef>
                <a:spcPts val="1687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Arial"/>
              </a:rPr>
              <a:t>Publicación de artículos en revistas especializadas, como son </a:t>
            </a:r>
            <a:r>
              <a:rPr b="0" lang="es-MX" sz="2700" spc="-1" strike="noStrike">
                <a:solidFill>
                  <a:srgbClr val="ffff00"/>
                </a:solidFill>
                <a:latin typeface="Arial"/>
              </a:rPr>
              <a:t>Contaduría Pública </a:t>
            </a:r>
            <a:r>
              <a:rPr b="0" lang="es-MX" sz="27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s-MX" sz="2700" spc="-1" strike="noStrike">
                <a:solidFill>
                  <a:srgbClr val="ffff00"/>
                </a:solidFill>
                <a:latin typeface="Arial"/>
              </a:rPr>
              <a:t> Verit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spcBef>
                <a:spcPts val="1687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Arial"/>
              </a:rPr>
              <a:t>Impartición de </a:t>
            </a:r>
            <a:r>
              <a:rPr b="0" lang="es-MX" sz="2700" spc="-1" strike="noStrike">
                <a:solidFill>
                  <a:srgbClr val="ffff00"/>
                </a:solidFill>
                <a:latin typeface="Arial"/>
              </a:rPr>
              <a:t>conferencias y pláticas</a:t>
            </a:r>
            <a:r>
              <a:rPr b="0" lang="es-MX" sz="2700" spc="-1" strike="noStrike">
                <a:solidFill>
                  <a:srgbClr val="ffffff"/>
                </a:solidFill>
                <a:latin typeface="Arial"/>
              </a:rPr>
              <a:t> en diversos luga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spcBef>
                <a:spcPts val="1687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700" spc="-1" strike="noStrike">
                <a:solidFill>
                  <a:srgbClr val="ffff00"/>
                </a:solidFill>
                <a:latin typeface="Arial"/>
              </a:rPr>
              <a:t>Foros de auscultació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spcBef>
                <a:spcPts val="1687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700" spc="-1" strike="noStrike">
                <a:solidFill>
                  <a:srgbClr val="ffffff"/>
                </a:solidFill>
                <a:latin typeface="Arial"/>
              </a:rPr>
              <a:t>Página web: </a:t>
            </a:r>
            <a:r>
              <a:rPr b="0" lang="es-MX" sz="2700" spc="-1" strike="noStrike">
                <a:solidFill>
                  <a:srgbClr val="ff9900"/>
                </a:solidFill>
                <a:latin typeface="Arial"/>
              </a:rPr>
              <a:t>www.cinif.org.m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1687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6227640" y="4640400"/>
            <a:ext cx="2266920" cy="22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C14A2-4F74-4160-950A-17EE2F4518D9}" type="slidenum">
              <a:t>59</a:t>
            </a:fld>
          </a:p>
        </p:txBody>
      </p:sp>
    </p:spTree>
  </p:cSld>
  <p:transition>
    <p:strips dir="lu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508360" y="2133720"/>
            <a:ext cx="34923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ciso contar con su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poy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inculació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l CID con sus centros de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elebración d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convenios de colabor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ara el desarrollo de proyectos de investigación conju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333360"/>
            <a:ext cx="7559640" cy="155628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BENEFICIOS PARA LAS INSTITUCIONES DE EDUCACIÓN SUP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2028960"/>
            <a:ext cx="3168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58480" indent="-258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cremento en el nivel de </a:t>
            </a: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conocimiento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en el área contable y financie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reparar a las nuevas generaciones de </a:t>
            </a: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estudiantes de la contaduría pública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ante los retos del mundo cambiante que actualmente vivimos.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5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422100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4005360"/>
            <a:ext cx="2376720" cy="1182600"/>
          </a:xfrm>
          <a:custGeom>
            <a:avLst/>
            <a:gdLst>
              <a:gd name="textAreaLeft" fmla="*/ 371160 w 2376720"/>
              <a:gd name="textAreaRight" fmla="*/ 2079720 w 2376720"/>
              <a:gd name="textAreaTop" fmla="*/ 295560 h 1182600"/>
              <a:gd name="textAreaBottom" fmla="*/ 887040 h 1182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2200" y="2565360"/>
            <a:ext cx="1657440" cy="750960"/>
          </a:xfrm>
          <a:custGeom>
            <a:avLst/>
            <a:gdLst>
              <a:gd name="textAreaLeft" fmla="*/ 258840 w 1657440"/>
              <a:gd name="textAreaRight" fmla="*/ 1450440 w 1657440"/>
              <a:gd name="textAreaTop" fmla="*/ 187560 h 750960"/>
              <a:gd name="textAreaBottom" fmla="*/ 563400 h 75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5516640"/>
            <a:ext cx="1728720" cy="792000"/>
          </a:xfrm>
          <a:custGeom>
            <a:avLst/>
            <a:gdLst>
              <a:gd name="textAreaLeft" fmla="*/ 270000 w 1728720"/>
              <a:gd name="textAreaRight" fmla="*/ 1512720 w 17287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4076640"/>
            <a:ext cx="1584360" cy="8254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06280 h 825480"/>
              <a:gd name="textAreaBottom" fmla="*/ 619200 h 82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D98-B309-4B77-85AB-EFE2FB0390D9}" type="slidenum">
              <a:t>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11280" y="333360"/>
            <a:ext cx="784836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NÚMERO DE VISITAS A LA PÁGINA WEB DEL CIN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8360" y="2913120"/>
            <a:ext cx="572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bril (1a. semana)               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2,2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arzo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8,3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ebrero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10,5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nero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6,9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6804000" y="3213000"/>
            <a:ext cx="1820880" cy="18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F19BA-E0BE-4A3E-B531-E89FF3AA9327}" type="slidenum">
              <a:t>60</a:t>
            </a:fld>
          </a:p>
        </p:txBody>
      </p:sp>
    </p:spTree>
  </p:cSld>
  <p:transition>
    <p:strips dir="l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84360" y="3573360"/>
            <a:ext cx="7848360" cy="173988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Página web CIN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www.cinif.org.m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277992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BCCC7-272E-41F8-A380-2A34BD38BD34}" type="slidenum">
              <a:t>61</a:t>
            </a:fld>
          </a:p>
        </p:txBody>
      </p:sp>
    </p:spTree>
  </p:cSld>
  <p:transition>
    <p:strips dir="lu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6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87280" y="333360"/>
            <a:ext cx="669780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ESTRUCTURA DEL CIN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558972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Verdana"/>
              </a:rPr>
              <a:t>Universidades, instituciones públicas y privadas, profesión con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6453360"/>
            <a:ext cx="173160" cy="404640"/>
          </a:xfrm>
          <a:custGeom>
            <a:avLst/>
            <a:gdLst>
              <a:gd name="textAreaLeft" fmla="*/ 23040 w 173160"/>
              <a:gd name="textAreaRight" fmla="*/ 150120 w 17316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6021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587700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Verdana"/>
              </a:rPr>
              <a:t>Inform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614844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Verdana"/>
              </a:rPr>
              <a:t>Enlace, comunicación y recomend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1640" y="643716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Verdana"/>
              </a:rPr>
              <a:t>Asigna prioridades y proyec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38360" y="3301920"/>
            <a:ext cx="2163960" cy="109224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2600" y="4962600"/>
            <a:ext cx="1023840" cy="4539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0000"/>
                </a:solidFill>
                <a:latin typeface="Arial"/>
              </a:rPr>
              <a:t>Subgrupo de Investig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17960" y="4968720"/>
            <a:ext cx="974880" cy="4557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0000"/>
                </a:solidFill>
                <a:latin typeface="Arial"/>
              </a:rPr>
              <a:t>Subgrupo de Investig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19560" y="4968720"/>
            <a:ext cx="984240" cy="4762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0000"/>
                </a:solidFill>
                <a:latin typeface="Arial"/>
              </a:rPr>
              <a:t>Subgrupo de Investig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67160" y="2421000"/>
            <a:ext cx="2043000" cy="5731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ONSEJO DIREC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71720" y="1341360"/>
            <a:ext cx="3247920" cy="4557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ASAMBLEA DE ASOCI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2520" y="4695840"/>
            <a:ext cx="2171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1370160"/>
            <a:ext cx="1577880" cy="4046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COMITÉ DE VIGILA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18440" y="1370160"/>
            <a:ext cx="1585800" cy="474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COMITÉ DE NOMINACIO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195640" y="3911760"/>
            <a:ext cx="1252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3500280"/>
            <a:ext cx="1420920" cy="6699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800000"/>
                </a:solidFill>
                <a:latin typeface="Arial"/>
              </a:rPr>
              <a:t>CENTRO DE INVESTIGACIÓN Y DESARROLL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800000"/>
                </a:solidFill>
                <a:latin typeface="Arial"/>
              </a:rPr>
              <a:t>(CID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31920" y="2930400"/>
            <a:ext cx="1712880" cy="5320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COMITÉ TÉCNICO CONSUL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65720" y="2917800"/>
            <a:ext cx="1789200" cy="5666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Director Ejecutiv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(administración, operación y servicio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465800" y="1817640"/>
            <a:ext cx="0" cy="58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73720" y="2959200"/>
            <a:ext cx="0" cy="365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67400" y="1852560"/>
            <a:ext cx="399960" cy="546120"/>
          </a:xfrm>
          <a:custGeom>
            <a:avLst/>
            <a:gdLst>
              <a:gd name="textAreaLeft" fmla="*/ 53280 w 399960"/>
              <a:gd name="textAreaRight" fmla="*/ 346680 w 399960"/>
              <a:gd name="textAreaTop" fmla="*/ 95400 h 546120"/>
              <a:gd name="textAreaBottom" fmla="*/ 39600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52840" y="3533760"/>
            <a:ext cx="423720" cy="587520"/>
          </a:xfrm>
          <a:custGeom>
            <a:avLst/>
            <a:gdLst>
              <a:gd name="textAreaLeft" fmla="*/ 56520 w 423720"/>
              <a:gd name="textAreaRight" fmla="*/ 367200 w 423720"/>
              <a:gd name="textAreaTop" fmla="*/ 102600 h 587520"/>
              <a:gd name="textAreaBottom" fmla="*/ 42588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95640" y="2575080"/>
            <a:ext cx="0" cy="35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6760" y="2567160"/>
            <a:ext cx="0" cy="350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16760" y="3511440"/>
            <a:ext cx="0" cy="39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195640" y="3456000"/>
            <a:ext cx="0" cy="455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8920" y="441432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8920" y="4710240"/>
            <a:ext cx="0" cy="24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0000" y="4702320"/>
            <a:ext cx="0" cy="2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19640" y="4702320"/>
            <a:ext cx="0" cy="23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497560" y="2575080"/>
            <a:ext cx="15112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549400" y="3911760"/>
            <a:ext cx="14828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569680" y="1579680"/>
            <a:ext cx="273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26120" y="1585800"/>
            <a:ext cx="246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537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56000" y="537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537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5589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00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6021360"/>
            <a:ext cx="287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6165720"/>
            <a:ext cx="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95640" y="256536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D9F13-0F63-492D-AC17-8BA1D545D125}" type="slidenum">
              <a:t>7</a:t>
            </a:fld>
          </a:p>
        </p:txBody>
      </p:sp>
    </p:spTree>
  </p:cSld>
  <p:transition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0" algn="just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333360"/>
            <a:ext cx="669780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FUNCIONES DEL CONSEJO DIRE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68360" y="1916280"/>
            <a:ext cx="49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1844640"/>
            <a:ext cx="748836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687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procuración de fondos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para el financiamiento de las operaciones y el logro de los objetivos del CINIF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687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La aprobación del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presupuesto anual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687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designación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del Director del CI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687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La aprobación del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nombramiento de investigadores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687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La evaluación del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desempeño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del CI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687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La vigilancia del </a:t>
            </a: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cumplimiento de los objetivos y estatutos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de la asociación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7596360" y="2708280"/>
            <a:ext cx="124920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D3E-C86E-4F9D-A6C9-E6E3695E832C}" type="slidenum">
              <a:t>8</a:t>
            </a:fld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0" algn="just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333360"/>
            <a:ext cx="6697800" cy="1068840"/>
          </a:xfrm>
          <a:prstGeom prst="rect">
            <a:avLst/>
          </a:prstGeom>
          <a:solidFill>
            <a:srgbClr val="003399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 Unicode MS"/>
              </a:rPr>
              <a:t>DIRECTORIO DEL CONSEJO DIRE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1628640"/>
            <a:ext cx="62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.P. José Manuel Canal Hernando</a:t>
            </a:r>
            <a:br>
              <a:rPr sz="2700"/>
            </a:br>
            <a:r>
              <a:rPr b="1" i="1" lang="es-ES" sz="2700" spc="-1" strike="noStrike">
                <a:solidFill>
                  <a:srgbClr val="ffff00"/>
                </a:solidFill>
                <a:latin typeface="Arial"/>
              </a:rPr>
              <a:t>Presidente</a:t>
            </a: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.P. Alfonso Lebrija Guio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Arial"/>
              </a:rPr>
              <a:t>Vicepresidente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C.P. Roberto Danel Díaz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Lic. Alberto Espinosa Desigau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ic. Carlos Gómez y Gómez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Ing. Alfonso González Migoya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.P. Hugo Lara Silva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.P. Leopoldo Romero Escobar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ffffff"/>
                </a:solidFill>
                <a:latin typeface="Arial"/>
              </a:rPr>
              <a:t>C.P. Othón Ruiz Montemay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77080" y="2708280"/>
            <a:ext cx="190800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663-2A80-42A7-8777-C3CB0BDE23CE}" type="slidenum">
              <a:t>9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8:02:41Z</dcterms:created>
  <dc:creator>Recepcion</dc:creator>
  <dc:description/>
  <dc:language>en-US</dc:language>
  <cp:lastModifiedBy>Denise Gomez</cp:lastModifiedBy>
  <dcterms:modified xsi:type="dcterms:W3CDTF">2005-04-20T18:03:32Z</dcterms:modified>
  <cp:revision>360</cp:revision>
  <dc:subject/>
  <dc:title>Diapositiva 1</dc:title>
</cp:coreProperties>
</file>