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143-6EBD-445D-B06A-F1CA14B7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BFB-54E3-4AF1-874F-6A367A98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DEA-74E6-4D88-A381-6DC363C8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4C0-6066-4867-9C29-F76FACBF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AD6-82FA-4A17-BB04-FED93537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834-BD61-4133-BB60-16DF901C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289-D09A-4D63-97BD-7FC34FDD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CC1-0A1F-443D-BE90-D48CC33A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757-6AF7-446F-A803-95EF99E1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E3D-CD41-484C-821F-E08DC2B2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502-83B0-4152-9AA8-662DE988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434-77D6-4D1D-8C72-ADF1F3AC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51DD-6EC4-4DF5-8388-0EBA0A6B1F3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189000"/>
            <a:ext cx="7962840" cy="212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456240"/>
            <a:ext cx="7962840" cy="212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505320" y="692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35956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LA FISCALIZACIÓN SUPERIOR EN LAS INSTITUCIONES PÚBLICAS DE EDUCACIÓN SUP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59007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.P. EDUARDO GURZA CUR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76520" y="1371600"/>
            <a:ext cx="6095880" cy="4343400"/>
          </a:xfrm>
          <a:prstGeom prst="ellipse">
            <a:avLst/>
          </a:prstGeom>
          <a:solidFill>
            <a:srgbClr val="d9d8a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838080"/>
            <a:ext cx="6705720" cy="30492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914400"/>
            <a:ext cx="74674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1066680"/>
            <a:ext cx="7010280" cy="0"/>
          </a:xfrm>
          <a:prstGeom prst="line">
            <a:avLst/>
          </a:prstGeom>
          <a:ln w="28440">
            <a:solidFill>
              <a:srgbClr val="759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371600"/>
            <a:ext cx="7086600" cy="39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postura de las IPES, unida a la concepción de autonomía universitaria, desarrolló la idea de que la rendición de cuentas lesionaba la autonom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ta idea admitía para la universidad un derecho de impunidad que sí era lesiva a la autonomía universita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se admite que autonomía universitaria y rendición de cuentas guardan una correlación positiv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 mayor autonomía, mayor responsabilidad de inform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791320"/>
            <a:ext cx="74674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76520" y="1371600"/>
            <a:ext cx="6095880" cy="4343400"/>
          </a:xfrm>
          <a:prstGeom prst="ellipse">
            <a:avLst/>
          </a:prstGeom>
          <a:solidFill>
            <a:srgbClr val="d9d8a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838080"/>
            <a:ext cx="6705720" cy="30492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914400"/>
            <a:ext cx="74674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1066680"/>
            <a:ext cx="7010280" cy="0"/>
          </a:xfrm>
          <a:prstGeom prst="line">
            <a:avLst/>
          </a:prstGeom>
          <a:ln w="28440">
            <a:solidFill>
              <a:srgbClr val="759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903320"/>
            <a:ext cx="70866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tendencia de la correlación autonomía y rendición de cuentas se refuerza con las conclusiones expresadas en la 1a. Conferencia Internacional sobre Educación Superior efectuada en Barcelona, España (2004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Este ideal de autonomía y libertad académica, deben ser hoy complementados por la noción de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rendición de cuentas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 y de responsabilidad social..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5791320"/>
            <a:ext cx="74674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5943600"/>
            <a:ext cx="66294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135576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rendición de cuentas la denomina la UNESCO cuando estable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2803680"/>
            <a:ext cx="65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el derecho al autogobierno institucional obliga a la universidad a ajustarse plena y formalmente a las condiciones, las leyes y los procedimientos correspondientes. Al exigírsele a las universidades una mayor transparencia y una demostración más precisa de sus logros, la cuestión de la rendición de cuentas y la evaluación de la calidad se ha convertido en un aspecto fundamental de la política en materia de educación superior ... 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838080"/>
            <a:ext cx="6705720" cy="30492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914400"/>
            <a:ext cx="74674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066680"/>
            <a:ext cx="7010280" cy="0"/>
          </a:xfrm>
          <a:prstGeom prst="line">
            <a:avLst/>
          </a:prstGeom>
          <a:ln w="28440">
            <a:solidFill>
              <a:srgbClr val="759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666880"/>
            <a:ext cx="0" cy="33530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3124080"/>
            <a:ext cx="0" cy="251460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791320"/>
            <a:ext cx="693396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438280"/>
            <a:ext cx="38862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1268280"/>
            <a:ext cx="7391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buen gobierno de una organización pública o privada supone el rendir cuentas ante la misma organización y la sociedad en general. Ello implica la transparencia en las informaciones sobre la consecución de los objetivos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tablec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y sobre el cómo se ha conseguido ese cumplimiento. Las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PE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como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stituciones públic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eben trabaja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también para establecer mecanismos adecuados que les permita ejecutar la rendición de cuen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5932440"/>
            <a:ext cx="6705720" cy="30492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747720"/>
            <a:ext cx="6705720" cy="30492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271520"/>
            <a:ext cx="0" cy="51818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828800"/>
            <a:ext cx="0" cy="42670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41400" y="4508640"/>
            <a:ext cx="736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preocupación por la eficiencia y eficacia de las instituciones ha llevado a las administraciones de educación superior a considerar la rendición de cuentas  como un proceso normal, rutinario y benéf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838080"/>
            <a:ext cx="74674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990720"/>
            <a:ext cx="7010280" cy="0"/>
          </a:xfrm>
          <a:prstGeom prst="line">
            <a:avLst/>
          </a:prstGeom>
          <a:ln w="28440">
            <a:solidFill>
              <a:srgbClr val="759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00200" y="609480"/>
            <a:ext cx="74674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6019920"/>
            <a:ext cx="746748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880"/>
            <a:ext cx="533520" cy="54864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5486400"/>
              <a:gd name="textAreaBottom" fmla="*/ 5460480 h 5486400"/>
            </a:gdLst>
            <a:ahLst/>
            <a:rect l="textAreaLeft" t="textAreaTop" r="textAreaRight" b="textAreaBottom"/>
            <a:pathLst>
              <a:path w="21600" h="221986">
                <a:moveTo>
                  <a:pt x="3600" y="0"/>
                </a:moveTo>
                <a:arcTo wR="3600" hR="3600" stAng="16200000" swAng="-5400000"/>
                <a:lnTo>
                  <a:pt x="0" y="218386"/>
                </a:lnTo>
                <a:arcTo wR="3600" hR="3600" stAng="10800000" swAng="-5400000"/>
                <a:lnTo>
                  <a:pt x="18000" y="2219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1066680"/>
            <a:ext cx="533520" cy="54864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5486400"/>
              <a:gd name="textAreaBottom" fmla="*/ 5460480 h 5486400"/>
            </a:gdLst>
            <a:ahLst/>
            <a:rect l="textAreaLeft" t="textAreaTop" r="textAreaRight" b="textAreaBottom"/>
            <a:pathLst>
              <a:path w="21600" h="221986">
                <a:moveTo>
                  <a:pt x="3600" y="0"/>
                </a:moveTo>
                <a:arcTo wR="3600" hR="3600" stAng="16200000" swAng="-5400000"/>
                <a:lnTo>
                  <a:pt x="0" y="218386"/>
                </a:lnTo>
                <a:arcTo wR="3600" hR="3600" stAng="10800000" swAng="-5400000"/>
                <a:lnTo>
                  <a:pt x="18000" y="2219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1370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LA FISCALIZACIÓN SUP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4038480"/>
            <a:ext cx="41911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743200"/>
            <a:ext cx="66294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280" y="5562720"/>
            <a:ext cx="6705720" cy="30456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609480"/>
            <a:ext cx="6705720" cy="30492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77320" y="1371600"/>
            <a:ext cx="0" cy="342900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9600" y="2057400"/>
            <a:ext cx="0" cy="24382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1981080"/>
            <a:ext cx="784872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3623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287440"/>
            <a:ext cx="7086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3300"/>
                </a:solidFill>
                <a:latin typeface="Arial"/>
                <a:ea typeface="Times New Roman"/>
              </a:rPr>
              <a:t>L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fiscalización superior consiste en el examen que realiza la Auditoría Superior de la Federación a la Cuenta Pública, con objeto de conocer los resultados de la gestión financiera; comprobar si se ha ajustado a los criterios señalados por el presupuesto y verificar el cumplimiento de los objetivos contenidos en los program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19320" y="115920"/>
            <a:ext cx="7467480" cy="152280"/>
          </a:xfrm>
          <a:prstGeom prst="roundRect">
            <a:avLst>
              <a:gd name="adj" fmla="val 16667"/>
            </a:avLst>
          </a:pr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344520"/>
            <a:ext cx="7467840" cy="152280"/>
          </a:xfrm>
          <a:prstGeom prst="roundRect">
            <a:avLst>
              <a:gd name="adj" fmla="val 16667"/>
            </a:avLst>
          </a:pr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765000"/>
            <a:ext cx="7467840" cy="42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spcBef>
                <a:spcPts val="1312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ujetos de fiscalización superior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os Poderes de la Unión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os entes públicos federales (organismos públicos constitucionalmente autónomos, personas de derecho público de carácter federal autónomas y órganos jurisdiccionales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entidades federativas y los municipio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os mandatos, fiduciarios o cualquier otra figura análoga, pública o privada, que haya recibido recursos federales; y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Cualquier entidad, persona física o moral, pública o privada, que haya recaudado, administrado, manejado o ejercido recursos públicos federa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620640"/>
            <a:ext cx="5715000" cy="0"/>
          </a:xfrm>
          <a:prstGeom prst="line">
            <a:avLst/>
          </a:prstGeom>
          <a:ln w="28440">
            <a:solidFill>
              <a:srgbClr val="759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6524640"/>
            <a:ext cx="5715000" cy="0"/>
          </a:xfrm>
          <a:prstGeom prst="line">
            <a:avLst/>
          </a:prstGeom>
          <a:ln w="28440">
            <a:solidFill>
              <a:srgbClr val="759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03280" y="557856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95480" y="5321160"/>
            <a:ext cx="41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5084640"/>
            <a:ext cx="7561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IPES se encuentran incluidas en las entidades fiscalizadas que han ejercido recursos públicos conforme a lo establecido en la fracción VI del artículo 2 de la Ley de Fiscalización Superior de la Federació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76520" y="1596960"/>
            <a:ext cx="4876560" cy="3200400"/>
          </a:xfrm>
          <a:prstGeom prst="ellipse">
            <a:avLst/>
          </a:prstGeom>
          <a:solidFill>
            <a:srgbClr val="d9d8a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5562720"/>
            <a:ext cx="6705720" cy="30456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457200"/>
            <a:ext cx="6705720" cy="30492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066680"/>
            <a:ext cx="0" cy="51818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752480"/>
            <a:ext cx="0" cy="42674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838080"/>
            <a:ext cx="7467480" cy="152640"/>
          </a:xfrm>
          <a:prstGeom prst="roundRect">
            <a:avLst>
              <a:gd name="adj" fmla="val 16667"/>
            </a:avLst>
          </a:pr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1873080"/>
            <a:ext cx="3352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BU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P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T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AA “Antonio Narr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AB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A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AE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A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5334120"/>
            <a:ext cx="7467840" cy="152280"/>
          </a:xfrm>
          <a:prstGeom prst="roundRect">
            <a:avLst>
              <a:gd name="adj" fmla="val 16667"/>
            </a:avLst>
          </a:pr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1844640"/>
            <a:ext cx="3352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9. U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10. UAN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A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 de 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 de G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N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825560"/>
            <a:ext cx="533376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1825560"/>
            <a:ext cx="0" cy="297180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1130400"/>
            <a:ext cx="41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e 67 IPES se han fiscaliza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71600" y="2438280"/>
            <a:ext cx="1752480" cy="1067040"/>
          </a:xfrm>
          <a:prstGeom prst="donut">
            <a:avLst>
              <a:gd name="adj" fmla="val 12773"/>
            </a:avLst>
          </a:prstGeom>
          <a:solidFill>
            <a:srgbClr val="cac99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2438280"/>
            <a:ext cx="1752480" cy="1067040"/>
          </a:xfrm>
          <a:prstGeom prst="donut">
            <a:avLst>
              <a:gd name="adj" fmla="val 12773"/>
            </a:avLst>
          </a:prstGeom>
          <a:solidFill>
            <a:srgbClr val="cac99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2438280"/>
            <a:ext cx="1752840" cy="1067040"/>
          </a:xfrm>
          <a:prstGeom prst="donut">
            <a:avLst>
              <a:gd name="adj" fmla="val 12773"/>
            </a:avLst>
          </a:prstGeom>
          <a:solidFill>
            <a:srgbClr val="cac99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2438280"/>
            <a:ext cx="1752480" cy="1067040"/>
          </a:xfrm>
          <a:prstGeom prst="donut">
            <a:avLst>
              <a:gd name="adj" fmla="val 12773"/>
            </a:avLst>
          </a:prstGeom>
          <a:solidFill>
            <a:srgbClr val="cac99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2438280"/>
            <a:ext cx="1752480" cy="1067040"/>
          </a:xfrm>
          <a:prstGeom prst="donut">
            <a:avLst>
              <a:gd name="adj" fmla="val 12773"/>
            </a:avLst>
          </a:prstGeom>
          <a:solidFill>
            <a:srgbClr val="cac99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77320" y="533520"/>
            <a:ext cx="152280" cy="54864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5486400"/>
              <a:gd name="textAreaBottom" fmla="*/ 5479200 h 5486400"/>
            </a:gdLst>
            <a:ahLst/>
            <a:rect l="textAreaLeft" t="textAreaTop" r="textAreaRight" b="textAreaBottom"/>
            <a:pathLst>
              <a:path w="21600" h="776428">
                <a:moveTo>
                  <a:pt x="3600" y="0"/>
                </a:moveTo>
                <a:arcTo wR="3600" hR="3600" stAng="16200000" swAng="-5400000"/>
                <a:lnTo>
                  <a:pt x="0" y="772828"/>
                </a:lnTo>
                <a:arcTo wR="3600" hR="3600" stAng="10800000" swAng="-5400000"/>
                <a:lnTo>
                  <a:pt x="18000" y="7764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2400" y="914400"/>
            <a:ext cx="152280" cy="54864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5486400"/>
              <a:gd name="textAreaBottom" fmla="*/ 5479200 h 5486400"/>
            </a:gdLst>
            <a:ahLst/>
            <a:rect l="textAreaLeft" t="textAreaTop" r="textAreaRight" b="textAreaBottom"/>
            <a:pathLst>
              <a:path w="21600" h="776428">
                <a:moveTo>
                  <a:pt x="3600" y="0"/>
                </a:moveTo>
                <a:arcTo wR="3600" hR="3600" stAng="16200000" swAng="-5400000"/>
                <a:lnTo>
                  <a:pt x="0" y="772828"/>
                </a:lnTo>
                <a:arcTo wR="3600" hR="3600" stAng="10800000" swAng="-5400000"/>
                <a:lnTo>
                  <a:pt x="18000" y="7764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1295280"/>
            <a:ext cx="7467480" cy="152640"/>
          </a:xfrm>
          <a:prstGeom prst="roundRect">
            <a:avLst>
              <a:gd name="adj" fmla="val 16667"/>
            </a:avLst>
          </a:pr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2286000"/>
            <a:ext cx="655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l 18 de julio de 2004 la Asociación Mexicana de Órganos de Control y Vigilancia en las IES, A.C. (AMOCVIES), y la Auditoría Superior de la Federación, celebraron un convenio de colabor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495680"/>
            <a:ext cx="70102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648320"/>
            <a:ext cx="59436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2057400"/>
            <a:ext cx="0" cy="297180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7621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NVENIO DE COLABOR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76520" y="2514600"/>
            <a:ext cx="1752480" cy="1066680"/>
          </a:xfrm>
          <a:prstGeom prst="donut">
            <a:avLst>
              <a:gd name="adj" fmla="val 12773"/>
            </a:avLst>
          </a:prstGeom>
          <a:solidFill>
            <a:srgbClr val="cac99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514600"/>
            <a:ext cx="1752840" cy="1066680"/>
          </a:xfrm>
          <a:prstGeom prst="donut">
            <a:avLst>
              <a:gd name="adj" fmla="val 12773"/>
            </a:avLst>
          </a:prstGeom>
          <a:solidFill>
            <a:srgbClr val="cac99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2514600"/>
            <a:ext cx="1752480" cy="1066680"/>
          </a:xfrm>
          <a:prstGeom prst="donut">
            <a:avLst>
              <a:gd name="adj" fmla="val 12773"/>
            </a:avLst>
          </a:prstGeom>
          <a:solidFill>
            <a:srgbClr val="cac99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2514600"/>
            <a:ext cx="1752840" cy="1066680"/>
          </a:xfrm>
          <a:prstGeom prst="donut">
            <a:avLst>
              <a:gd name="adj" fmla="val 12773"/>
            </a:avLst>
          </a:prstGeom>
          <a:solidFill>
            <a:srgbClr val="cac99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2514600"/>
            <a:ext cx="1752480" cy="1066680"/>
          </a:xfrm>
          <a:prstGeom prst="donut">
            <a:avLst>
              <a:gd name="adj" fmla="val 12773"/>
            </a:avLst>
          </a:prstGeom>
          <a:solidFill>
            <a:srgbClr val="cac99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1828800"/>
            <a:ext cx="6705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tablecer y desarrollar mecanismos de coordinación y colaboración técnica entre la AMOCVIES y la ASF, a través de políticas y criterios para el adecuado cumplimiento de sus atribuciones en materia de fiscalización; de tal forma que estas acciones representen oportunidades para sumar a las IPES en los procesos de transparencia y rendición de cuen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1752480"/>
            <a:ext cx="411480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1600200"/>
            <a:ext cx="36576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4724280"/>
            <a:ext cx="411480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876920"/>
            <a:ext cx="36576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1143000"/>
            <a:ext cx="27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Objeto del conve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85800"/>
            <a:ext cx="533520" cy="54864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5486400"/>
              <a:gd name="textAreaBottom" fmla="*/ 5460480 h 5486400"/>
            </a:gdLst>
            <a:ahLst/>
            <a:rect l="textAreaLeft" t="textAreaTop" r="textAreaRight" b="textAreaBottom"/>
            <a:pathLst>
              <a:path w="21600" h="221986">
                <a:moveTo>
                  <a:pt x="3600" y="0"/>
                </a:moveTo>
                <a:arcTo wR="3600" hR="3600" stAng="16200000" swAng="-5400000"/>
                <a:lnTo>
                  <a:pt x="0" y="218386"/>
                </a:lnTo>
                <a:arcTo wR="3600" hR="3600" stAng="10800000" swAng="-5400000"/>
                <a:lnTo>
                  <a:pt x="18000" y="2219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09480"/>
            <a:ext cx="74674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019920"/>
            <a:ext cx="746748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80880"/>
            <a:ext cx="533520" cy="54864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5486400"/>
              <a:gd name="textAreaBottom" fmla="*/ 5460480 h 5486400"/>
            </a:gdLst>
            <a:ahLst/>
            <a:rect l="textAreaLeft" t="textAreaTop" r="textAreaRight" b="textAreaBottom"/>
            <a:pathLst>
              <a:path w="21600" h="221986">
                <a:moveTo>
                  <a:pt x="3600" y="0"/>
                </a:moveTo>
                <a:arcTo wR="3600" hR="3600" stAng="16200000" swAng="-5400000"/>
                <a:lnTo>
                  <a:pt x="0" y="218386"/>
                </a:lnTo>
                <a:arcTo wR="3600" hR="3600" stAng="10800000" swAng="-5400000"/>
                <a:lnTo>
                  <a:pt x="18000" y="2219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29600" y="1066680"/>
            <a:ext cx="533520" cy="54864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5486400"/>
              <a:gd name="textAreaBottom" fmla="*/ 5460480 h 5486400"/>
            </a:gdLst>
            <a:ahLst/>
            <a:rect l="textAreaLeft" t="textAreaTop" r="textAreaRight" b="textAreaBottom"/>
            <a:pathLst>
              <a:path w="21600" h="221986">
                <a:moveTo>
                  <a:pt x="3600" y="0"/>
                </a:moveTo>
                <a:arcTo wR="3600" hR="3600" stAng="16200000" swAng="-5400000"/>
                <a:lnTo>
                  <a:pt x="0" y="218386"/>
                </a:lnTo>
                <a:arcTo wR="3600" hR="3600" stAng="10800000" swAng="-5400000"/>
                <a:lnTo>
                  <a:pt x="18000" y="2219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8954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LA RENDICIÓN DE CU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581280"/>
            <a:ext cx="41911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743200"/>
            <a:ext cx="66294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828800" y="3457440"/>
            <a:ext cx="5562720" cy="1266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0">
                  <a:noFill/>
                </a:ln>
                <a:solidFill>
                  <a:srgbClr val="e0d9c6">
                    <a:alpha val="50000"/>
                  </a:srgbClr>
                </a:solidFill>
                <a:latin typeface="Arial Black"/>
              </a:rPr>
              <a:t>AMOCVIES</a:t>
            </a:r>
            <a:endParaRPr b="0" i="1" lang="en-US" sz="7200" spc="1" strike="noStrike">
              <a:ln w="0">
                <a:noFill/>
              </a:ln>
              <a:solidFill>
                <a:srgbClr val="e0d9c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505320" y="1857240"/>
            <a:ext cx="1981080" cy="1266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0">
                  <a:noFill/>
                </a:ln>
                <a:solidFill>
                  <a:srgbClr val="dbd3bd">
                    <a:alpha val="50000"/>
                  </a:srgbClr>
                </a:solidFill>
                <a:latin typeface="Arial Black"/>
              </a:rPr>
              <a:t>ASF</a:t>
            </a:r>
            <a:endParaRPr b="0" i="1" lang="en-US" sz="7200" spc="1" strike="noStrike">
              <a:ln w="0">
                <a:noFill/>
              </a:ln>
              <a:solidFill>
                <a:srgbClr val="dbd3bd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828800"/>
            <a:ext cx="670572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l amparo del convenio de colaboración con la AMOCVIES, en la revisión de la Cuenta Pública 2003 se fiscalizó a la Universidad Autónoma del Estado de Baja Californ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ara la Cuenta Pública 2004 serán fiscalizad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niversidad Autónoma de Yucat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niversidad de Sono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762120"/>
            <a:ext cx="746748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685800"/>
            <a:ext cx="152640" cy="548640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5486400"/>
              <a:gd name="textAreaBottom" fmla="*/ 5479200 h 5486400"/>
            </a:gdLst>
            <a:ahLst/>
            <a:rect l="textAreaLeft" t="textAreaTop" r="textAreaRight" b="textAreaBottom"/>
            <a:pathLst>
              <a:path w="21600" h="774601">
                <a:moveTo>
                  <a:pt x="3600" y="0"/>
                </a:moveTo>
                <a:arcTo wR="3600" hR="3600" stAng="16200000" swAng="-5400000"/>
                <a:lnTo>
                  <a:pt x="0" y="771001"/>
                </a:lnTo>
                <a:arcTo wR="3600" hR="3600" stAng="10800000" swAng="-5400000"/>
                <a:lnTo>
                  <a:pt x="18000" y="7746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990720"/>
            <a:ext cx="152280" cy="54864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5486400"/>
              <a:gd name="textAreaBottom" fmla="*/ 5479200 h 5486400"/>
            </a:gdLst>
            <a:ahLst/>
            <a:rect l="textAreaLeft" t="textAreaTop" r="textAreaRight" b="textAreaBottom"/>
            <a:pathLst>
              <a:path w="21600" h="776428">
                <a:moveTo>
                  <a:pt x="3600" y="0"/>
                </a:moveTo>
                <a:arcTo wR="3600" hR="3600" stAng="16200000" swAng="-5400000"/>
                <a:lnTo>
                  <a:pt x="0" y="772828"/>
                </a:lnTo>
                <a:arcTo wR="3600" hR="3600" stAng="10800000" swAng="-5400000"/>
                <a:lnTo>
                  <a:pt x="18000" y="7764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676160" y="1600200"/>
            <a:ext cx="5562360" cy="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1752480"/>
            <a:ext cx="70102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5029200"/>
            <a:ext cx="7010280" cy="0"/>
          </a:xfrm>
          <a:prstGeom prst="line">
            <a:avLst/>
          </a:prstGeom>
          <a:ln w="28440">
            <a:solidFill>
              <a:srgbClr val="759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280" y="5562720"/>
            <a:ext cx="6705720" cy="30456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838080"/>
            <a:ext cx="6705720" cy="30492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914400"/>
            <a:ext cx="74674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1066680"/>
            <a:ext cx="7010280" cy="0"/>
          </a:xfrm>
          <a:prstGeom prst="line">
            <a:avLst/>
          </a:prstGeom>
          <a:ln w="28440">
            <a:solidFill>
              <a:srgbClr val="759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80880"/>
            <a:ext cx="640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MPACTOS DE LA FISCALIZACIÓN EN LA I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1720800"/>
            <a:ext cx="723888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Mayor transparencia y rendición de cuen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Mejoramiento de los sistemas de control inter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Observancia de la normativa y legislación en materia de adquisiciones, arrendamientos, servicios y obras públ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decuado control y registro de las oper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Mejoramiento de los sistemas de supervis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523880"/>
            <a:ext cx="0" cy="34290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1828800"/>
            <a:ext cx="0" cy="34290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600200" y="609480"/>
            <a:ext cx="74674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6019920"/>
            <a:ext cx="746748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380880"/>
            <a:ext cx="533520" cy="54864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5486400"/>
              <a:gd name="textAreaBottom" fmla="*/ 5460480 h 5486400"/>
            </a:gdLst>
            <a:ahLst/>
            <a:rect l="textAreaLeft" t="textAreaTop" r="textAreaRight" b="textAreaBottom"/>
            <a:pathLst>
              <a:path w="21600" h="221986">
                <a:moveTo>
                  <a:pt x="3600" y="0"/>
                </a:moveTo>
                <a:arcTo wR="3600" hR="3600" stAng="16200000" swAng="-5400000"/>
                <a:lnTo>
                  <a:pt x="0" y="218386"/>
                </a:lnTo>
                <a:arcTo wR="3600" hR="3600" stAng="10800000" swAng="-5400000"/>
                <a:lnTo>
                  <a:pt x="18000" y="2219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29600" y="1066680"/>
            <a:ext cx="533520" cy="54864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5486400"/>
              <a:gd name="textAreaBottom" fmla="*/ 5460480 h 5486400"/>
            </a:gdLst>
            <a:ahLst/>
            <a:rect l="textAreaLeft" t="textAreaTop" r="textAreaRight" b="textAreaBottom"/>
            <a:pathLst>
              <a:path w="21600" h="221986">
                <a:moveTo>
                  <a:pt x="3600" y="0"/>
                </a:moveTo>
                <a:arcTo wR="3600" hR="3600" stAng="16200000" swAng="-5400000"/>
                <a:lnTo>
                  <a:pt x="0" y="218386"/>
                </a:lnTo>
                <a:arcTo wR="3600" hR="3600" stAng="10800000" swAng="-5400000"/>
                <a:lnTo>
                  <a:pt x="18000" y="2219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8954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LOS INDICADORES DE DESEMP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4038480"/>
            <a:ext cx="41911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95280" y="2743200"/>
            <a:ext cx="66294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14400" y="609480"/>
            <a:ext cx="7315200" cy="17089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  <a:effectLst>
            <a:outerShdw dist="153753" dir="2700000" blurRad="0" rotWithShape="0">
              <a:srgbClr val="79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3300"/>
                </a:solidFill>
                <a:latin typeface="Arial"/>
              </a:rPr>
              <a:t>P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ra evaluar el desempeño de un ente público es necesario disponer de indicadores, cuyos valores o características permitan medir los rendimientos o los resultados de las 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3570120"/>
            <a:ext cx="2743200" cy="143460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indicadores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e desempeño deben cumplir los fines siguie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2649600"/>
            <a:ext cx="4419360" cy="100872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alizar el desempeño de las instituciones con el cumplimiento de sus 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4005360"/>
            <a:ext cx="4419360" cy="7038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r sistemáticamente el costo de los servi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91120" y="5076720"/>
            <a:ext cx="4419360" cy="100872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erificar que los recursos públicos se utilicen con honestidad, eficiencia y efica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2835360"/>
            <a:ext cx="762120" cy="2895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3300"/>
              </a:gs>
              <a:gs pos="50000">
                <a:srgbClr val="bd7c5b"/>
              </a:gs>
              <a:gs pos="100000">
                <a:srgbClr val="99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04920" y="609480"/>
            <a:ext cx="74674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380880"/>
            <a:ext cx="533520" cy="54864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5486400"/>
              <a:gd name="textAreaBottom" fmla="*/ 5460480 h 5486400"/>
            </a:gdLst>
            <a:ahLst/>
            <a:rect l="textAreaLeft" t="textAreaTop" r="textAreaRight" b="textAreaBottom"/>
            <a:pathLst>
              <a:path w="21600" h="221986">
                <a:moveTo>
                  <a:pt x="3600" y="0"/>
                </a:moveTo>
                <a:arcTo wR="3600" hR="3600" stAng="16200000" swAng="-5400000"/>
                <a:lnTo>
                  <a:pt x="0" y="218386"/>
                </a:lnTo>
                <a:arcTo wR="3600" hR="3600" stAng="10800000" swAng="-5400000"/>
                <a:lnTo>
                  <a:pt x="18000" y="2219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1197000"/>
            <a:ext cx="64771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xiste una relación directa entre indicadores de desempeño y los objetivos de las instituciones, ya que algunos están definidos y cuantificados, de manera que es posible su seguimiento y medición de forma directa (sin indicadores). Por el contrario, existen otros que no están claramente definidos y su consecución obliga a marcar datos de referencia (indicadores) para poder medir el grado de cumplimi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 que no se mide no se puede controlar, y lo que no se controla no se puede gestion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5445000"/>
            <a:ext cx="69343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153280" y="1927080"/>
            <a:ext cx="0" cy="3733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gradFill rotWithShape="0">
            <a:gsLst>
              <a:gs pos="0">
                <a:srgbClr val="a7ae96"/>
              </a:gs>
              <a:gs pos="50000">
                <a:srgbClr val="e0e0de"/>
              </a:gs>
              <a:gs pos="100000">
                <a:srgbClr val="a7ae96"/>
              </a:gs>
            </a:gsLst>
            <a:lin ang="13500000"/>
          </a:gradFill>
          <a:ln w="28440">
            <a:solidFill>
              <a:srgbClr val="666633"/>
            </a:solidFill>
            <a:miter/>
          </a:ln>
          <a:effectLst>
            <a:outerShdw dist="17819" dir="2700000" blurRad="0" rotWithShape="0">
              <a:srgbClr val="3c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857160"/>
            <a:ext cx="7543800" cy="764280"/>
          </a:xfrm>
          <a:prstGeom prst="rect">
            <a:avLst/>
          </a:prstGeom>
          <a:noFill/>
          <a:ln w="9360">
            <a:solidFill>
              <a:srgbClr val="d1d5c7"/>
            </a:solidFill>
            <a:miter/>
          </a:ln>
          <a:effectLst>
            <a:outerShdw dist="153753" dir="2700000" blurRad="0" rotWithShape="0">
              <a:srgbClr val="7c7f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Dependiendo de lo que se quiera medir, algunos indicadores de desempeño son los sigui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2209680"/>
            <a:ext cx="7543800" cy="3599280"/>
          </a:xfrm>
          <a:prstGeom prst="rect">
            <a:avLst/>
          </a:prstGeom>
          <a:noFill/>
          <a:ln w="9360">
            <a:solidFill>
              <a:srgbClr val="d1d5c7"/>
            </a:solidFill>
            <a:miter/>
          </a:ln>
          <a:effectLst>
            <a:outerShdw dist="17819" dir="2700000" blurRad="0" rotWithShape="0">
              <a:srgbClr val="7c7f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ndicadores Estratégic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- Son parámetros de medición del cumplimiento de los objetivos de las instituciones, los programas y/o políticas gubernamentales, en función de las prioridades de los e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ndicadores de Gestión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.- Proporcionan información sobre las funciones y procesos clave con los que operan las institu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0000"/>
                </a:solidFill>
                <a:uFillTx/>
                <a:latin typeface="Arial"/>
              </a:rPr>
              <a:t>Indicadores de Servicio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.- Miden el cumplimiento de los estándares definidos para los servic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38088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534520" y="38088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534520" y="617220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617220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gradFill rotWithShape="0">
            <a:gsLst>
              <a:gs pos="0">
                <a:srgbClr val="a7ae96"/>
              </a:gs>
              <a:gs pos="50000">
                <a:srgbClr val="e0e0de"/>
              </a:gs>
              <a:gs pos="100000">
                <a:srgbClr val="a7ae96"/>
              </a:gs>
            </a:gsLst>
            <a:lin ang="13500000"/>
          </a:gradFill>
          <a:ln w="28440">
            <a:solidFill>
              <a:srgbClr val="666633"/>
            </a:solidFill>
            <a:miter/>
          </a:ln>
          <a:effectLst>
            <a:outerShdw dist="17819" dir="2700000" blurRad="0" rotWithShape="0">
              <a:srgbClr val="3c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1041480"/>
            <a:ext cx="7543800" cy="4849200"/>
          </a:xfrm>
          <a:prstGeom prst="rect">
            <a:avLst/>
          </a:prstGeom>
          <a:noFill/>
          <a:ln w="9360">
            <a:solidFill>
              <a:srgbClr val="d1d5c7"/>
            </a:solidFill>
            <a:miter/>
          </a:ln>
          <a:effectLst>
            <a:outerShdw dist="17819" dir="2700000" blurRad="0" rotWithShape="0">
              <a:srgbClr val="7c7f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ndicadores de Impacto o de Result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- Cuantifican el logro del objetivo estratégico sobre la población, identificando el producto o servicio y sus efectos sobre el universo objetiv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ndicadores de Cobertura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.- Miden el alcance del fin estratégico sobre la población o universo objetiv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0000"/>
                </a:solidFill>
                <a:uFillTx/>
                <a:latin typeface="Arial"/>
              </a:rPr>
              <a:t>Indicadores de Calidad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.- Miden las características o atributos de los productos o servicios prestados por las institu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0000"/>
                </a:solidFill>
                <a:uFillTx/>
                <a:latin typeface="Arial"/>
              </a:rPr>
              <a:t>Indicadores de Eficiencia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.- Miden la productividad entre los servicios generados, respecto de los recursos utiliz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38088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34520" y="38088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34520" y="617220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617220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gradFill rotWithShape="0">
            <a:gsLst>
              <a:gs pos="0">
                <a:srgbClr val="a7ae96"/>
              </a:gs>
              <a:gs pos="50000">
                <a:srgbClr val="e0e0de"/>
              </a:gs>
              <a:gs pos="100000">
                <a:srgbClr val="a7ae96"/>
              </a:gs>
            </a:gsLst>
            <a:lin ang="13500000"/>
          </a:gradFill>
          <a:ln w="28440">
            <a:solidFill>
              <a:srgbClr val="666633"/>
            </a:solidFill>
            <a:miter/>
          </a:ln>
          <a:effectLst>
            <a:outerShdw dist="17819" dir="2700000" blurRad="0" rotWithShape="0">
              <a:srgbClr val="3c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765000"/>
            <a:ext cx="7543800" cy="3264120"/>
          </a:xfrm>
          <a:prstGeom prst="rect">
            <a:avLst/>
          </a:prstGeom>
          <a:noFill/>
          <a:ln w="9360">
            <a:solidFill>
              <a:srgbClr val="d1d5c7"/>
            </a:solidFill>
            <a:miter/>
          </a:ln>
          <a:effectLst>
            <a:outerShdw dist="17819" dir="2700000" blurRad="0" rotWithShape="0">
              <a:srgbClr val="7c7f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ndicadores de Eficacia.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- Miden la capacidad o acierto en la consecución de una tarea o trabaj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ndicadores de Cumplimient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- Indican el grado de consecución de una tarea, tienen que ver con la conclusión de la mis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ndicadores de Evaluación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.- Miden el rendimiento de una tarea y nos ayudan a identificar las fortalezas, debilidades y oportunidades de mej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38088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534520" y="38088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34520" y="617220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617220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6920" y="4444920"/>
            <a:ext cx="749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indicadores de desempeño son clave para el monitoreo de los procesos. Permiten ver su situación en todo momento, y administrar los recursos para prevenir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y cumplir con la tarea asign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371600"/>
            <a:ext cx="7619760" cy="3962520"/>
          </a:xfrm>
          <a:custGeom>
            <a:avLst/>
            <a:gdLst>
              <a:gd name="textAreaLeft" fmla="*/ 466920 w 7619760"/>
              <a:gd name="textAreaRight" fmla="*/ 7152840 w 7619760"/>
              <a:gd name="textAreaTop" fmla="*/ 466920 h 3962520"/>
              <a:gd name="textAreaBottom" fmla="*/ 3495600 h 3962520"/>
            </a:gdLst>
            <a:ahLst/>
            <a:rect l="textAreaLeft" t="textAreaTop" r="textAreaRight" b="textAreaBottom"/>
            <a:pathLst>
              <a:path w="415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7934" y="21600"/>
                </a:lnTo>
                <a:arcTo wR="3600" hR="3600" stAng="10800000" swAng="5400000"/>
                <a:lnTo>
                  <a:pt x="41534" y="3600"/>
                </a:lnTo>
                <a:arcTo wR="3600" hR="3600" stAng="5400000" swAng="5400000"/>
                <a:close/>
              </a:path>
            </a:pathLst>
          </a:custGeom>
          <a:solidFill>
            <a:srgbClr val="d9d8a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1714680"/>
            <a:ext cx="761976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Los indicadores son los instrumentos de carácter cuantitativo y cualitativo que ayudan al seguimiento de los objetivos fijados por las institu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Son herramientas ofrecen información sobre los distintos aspectos de los objetivos establecidos, así como de su grado de cumplimient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Su finalidad es conocer la actuación de la institución mediante la medición de su gestión, las actividades que realiza y los efectos provocados con su actu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1143000"/>
            <a:ext cx="8153280" cy="4952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204920"/>
            <a:ext cx="190512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204920"/>
            <a:ext cx="0" cy="17524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34520" y="3886200"/>
            <a:ext cx="0" cy="17524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29400" y="5638680"/>
            <a:ext cx="190512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534520" y="1219320"/>
            <a:ext cx="0" cy="17524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1219320"/>
            <a:ext cx="190512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3886200"/>
            <a:ext cx="0" cy="17524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5638680"/>
            <a:ext cx="190512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533520"/>
            <a:ext cx="6705360" cy="30456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914400"/>
            <a:ext cx="7467840" cy="152280"/>
          </a:xfrm>
          <a:prstGeom prst="roundRect">
            <a:avLst>
              <a:gd name="adj" fmla="val 16667"/>
            </a:avLst>
          </a:pr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2120" y="1557360"/>
            <a:ext cx="7619760" cy="4800240"/>
          </a:xfrm>
          <a:prstGeom prst="rect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educación superior reclama un sistema de indicadores que permita a las instituciones evaluarse y a la sociedad conocer el resultado de su gest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Un adecuado sistema de indicadores orientará a las IPES en la toma de decisiones que conduzcan a un uso más eficiente de los recursos que le son autorizados, impulsa las mejores prácticas institucionales, coadyuva al logro de objetivos y fomenta la rendición de cuentas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indicadores de desempeño en las IPES son herramientas para el control y evaluación de políticas, objetivos y metas, y constituyen instrumentos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ministrativos de gran utilidad para el mejoramiento institucional y del sector en su conjunto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38280" y="3366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INDICADORES EN LAS 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1152360"/>
            <a:ext cx="4572000" cy="0"/>
          </a:xfrm>
          <a:prstGeom prst="line">
            <a:avLst/>
          </a:prstGeom>
          <a:ln w="9360">
            <a:solidFill>
              <a:srgbClr val="628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0" y="260280"/>
            <a:ext cx="0" cy="914400"/>
          </a:xfrm>
          <a:prstGeom prst="line">
            <a:avLst/>
          </a:prstGeom>
          <a:ln w="9360">
            <a:solidFill>
              <a:srgbClr val="628a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602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26028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990720"/>
            <a:ext cx="7467480" cy="152280"/>
          </a:xfrm>
          <a:prstGeom prst="roundRect">
            <a:avLst>
              <a:gd name="adj" fmla="val 16667"/>
            </a:avLst>
          </a:pr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219320"/>
            <a:ext cx="7467840" cy="152280"/>
          </a:xfrm>
          <a:prstGeom prst="roundRect">
            <a:avLst>
              <a:gd name="adj" fmla="val 16667"/>
            </a:avLst>
          </a:pr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5257800"/>
            <a:ext cx="7467840" cy="152280"/>
          </a:xfrm>
          <a:prstGeom prst="roundRect">
            <a:avLst>
              <a:gd name="adj" fmla="val 16667"/>
            </a:avLst>
          </a:pr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413000"/>
            <a:ext cx="746784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3300"/>
                </a:solidFill>
                <a:latin typeface="Arial"/>
              </a:rPr>
              <a:t>L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 rendición de cuentas y la evaluación del desempeño de las instituciones públicas en México se han convertido en aspectos fundamentales para transparentar el quehacer institucion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ntar con instrumentos que permitan medir, en ese contexto, los niveles de corrupción o transparencia contribuye a fortalecer los mecanismos institucionales de rendición de cuentas y evaluación de las políticas públ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838080"/>
            <a:ext cx="8153280" cy="50292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762120" y="380880"/>
            <a:ext cx="7543800" cy="1434600"/>
          </a:xfrm>
          <a:prstGeom prst="rect">
            <a:avLst/>
          </a:prstGeom>
          <a:gradFill rotWithShape="0">
            <a:gsLst>
              <a:gs pos="0">
                <a:srgbClr val="99b3a2"/>
              </a:gs>
              <a:gs pos="50000">
                <a:srgbClr val="e6eee7"/>
              </a:gs>
              <a:gs pos="100000">
                <a:srgbClr val="99b3a2"/>
              </a:gs>
            </a:gsLst>
            <a:lin ang="13500000"/>
          </a:gra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759d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En el marco de la política pública en materia de educación superior, los indicadores adquieren un papel relevante para la evaluación del desempeño de las IPES en tres aspectos fundamenta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3200400"/>
            <a:ext cx="2895840" cy="1600200"/>
          </a:xfrm>
          <a:prstGeom prst="ellipse">
            <a:avLst/>
          </a:prstGeom>
          <a:gradFill rotWithShape="0">
            <a:gsLst>
              <a:gs pos="0">
                <a:srgbClr val="a7ae96"/>
              </a:gs>
              <a:gs pos="50000">
                <a:srgbClr val="e0e0de"/>
              </a:gs>
              <a:gs pos="100000">
                <a:srgbClr val="a7ae96"/>
              </a:gs>
            </a:gsLst>
            <a:lin ang="13500000"/>
          </a:gradFill>
          <a:ln w="9360">
            <a:solidFill>
              <a:srgbClr val="993300"/>
            </a:solidFill>
            <a:miter/>
          </a:ln>
          <a:effectLst>
            <a:outerShdw dist="17819" dir="2700000" blurRad="0" rotWithShape="0">
              <a:srgbClr val="5b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ber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duca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8120" y="4648320"/>
            <a:ext cx="2895480" cy="1600200"/>
          </a:xfrm>
          <a:prstGeom prst="ellipse">
            <a:avLst/>
          </a:prstGeom>
          <a:gradFill rotWithShape="0">
            <a:gsLst>
              <a:gs pos="0">
                <a:srgbClr val="a7ae96"/>
              </a:gs>
              <a:gs pos="50000">
                <a:srgbClr val="e0e0de"/>
              </a:gs>
              <a:gs pos="100000">
                <a:srgbClr val="a7ae96"/>
              </a:gs>
            </a:gsLst>
            <a:lin ang="13500000"/>
          </a:gradFill>
          <a:ln w="9360">
            <a:solidFill>
              <a:srgbClr val="993300"/>
            </a:solidFill>
            <a:miter/>
          </a:ln>
          <a:effectLst>
            <a:outerShdw dist="17819" dir="2700000" blurRad="0" rotWithShape="0">
              <a:srgbClr val="5b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alidad de 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86400" y="3200400"/>
            <a:ext cx="2895480" cy="1600200"/>
          </a:xfrm>
          <a:prstGeom prst="ellipse">
            <a:avLst/>
          </a:prstGeom>
          <a:gradFill rotWithShape="0">
            <a:gsLst>
              <a:gs pos="0">
                <a:srgbClr val="a7ae96"/>
              </a:gs>
              <a:gs pos="50000">
                <a:srgbClr val="e0e0de"/>
              </a:gs>
              <a:gs pos="100000">
                <a:srgbClr val="a7ae96"/>
              </a:gs>
            </a:gsLst>
            <a:lin ang="13500000"/>
          </a:gradFill>
          <a:ln w="9360">
            <a:solidFill>
              <a:srgbClr val="993300"/>
            </a:solidFill>
            <a:miter/>
          </a:ln>
          <a:effectLst>
            <a:outerShdw dist="17819" dir="2700000" blurRad="0" rotWithShape="0">
              <a:srgbClr val="5b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ficiencia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I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2286000"/>
            <a:ext cx="167652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b973"/>
          </a:solidFill>
          <a:ln w="0">
            <a:noFill/>
          </a:ln>
          <a:effectLst>
            <a:outerShdw dist="107932" dir="13500000" blurRad="0" rotWithShape="0">
              <a:srgbClr val="92a6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2286000"/>
            <a:ext cx="167616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b973"/>
          </a:solidFill>
          <a:ln w="0">
            <a:noFill/>
          </a:ln>
          <a:effectLst>
            <a:outerShdw dist="107932" dir="13500000" blurRad="0" rotWithShape="0">
              <a:srgbClr val="92a6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9880" y="2362320"/>
            <a:ext cx="1524240" cy="2133360"/>
          </a:xfrm>
          <a:prstGeom prst="downArrow">
            <a:avLst>
              <a:gd name="adj1" fmla="val 50000"/>
              <a:gd name="adj2" fmla="val 34991"/>
            </a:avLst>
          </a:prstGeom>
          <a:solidFill>
            <a:srgbClr val="bbb973"/>
          </a:solidFill>
          <a:ln w="0">
            <a:noFill/>
          </a:ln>
          <a:effectLst>
            <a:outerShdw dist="107932" dir="18900000" blurRad="0" rotWithShape="0">
              <a:srgbClr val="92a6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3720" y="12384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LGUNOS INDICADORES Y SU APLICACIÓN EN LAS I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1295280"/>
            <a:ext cx="251460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/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Indicador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ober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12193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/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Indicador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Equ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1219320"/>
            <a:ext cx="34290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/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1295280"/>
            <a:ext cx="609480" cy="15242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6600"/>
              </a:gs>
              <a:gs pos="50000">
                <a:srgbClr val="e2ac75"/>
              </a:gs>
              <a:gs pos="100000">
                <a:srgbClr val="cc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15000" y="137160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edición del grado de acceso a las IPES de ciertos grupos sociales (emigrantes, grupos de edad, marginales, familias por nivel soci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3124080"/>
            <a:ext cx="251460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/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Indicador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umplimi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312408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/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Indicador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alc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 obje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3124080"/>
            <a:ext cx="34290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/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5000" y="3165480"/>
            <a:ext cx="3124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edición de variables internas de las IPES (número de titulados); repercusión de los objetivos alcanzados (número de titulados que encuentran trabajo al termina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4952880"/>
            <a:ext cx="251460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/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Indicador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Efica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495288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/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Indicador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 control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952880"/>
            <a:ext cx="34290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/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508644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edición de la actuación de los responsables de adquisiciones en cuanto a precio, calidad, tiempos, cantidad y forma de pa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62320" y="838080"/>
            <a:ext cx="441936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1680" y="228600"/>
            <a:ext cx="0" cy="762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3124080"/>
            <a:ext cx="609480" cy="15242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6600"/>
              </a:gs>
              <a:gs pos="50000">
                <a:srgbClr val="e2ac75"/>
              </a:gs>
              <a:gs pos="100000">
                <a:srgbClr val="cc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4952880"/>
            <a:ext cx="609480" cy="15242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6600"/>
              </a:gs>
              <a:gs pos="50000">
                <a:srgbClr val="e2ac75"/>
              </a:gs>
              <a:gs pos="100000">
                <a:srgbClr val="cc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228600"/>
            <a:ext cx="0" cy="7621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990720"/>
            <a:ext cx="83059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09480" y="1522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APEL DE LOS INDICADORES EN LA IP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48320" y="762120"/>
            <a:ext cx="380988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/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Instrumentos de evalu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y seguimiento de la gest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institucion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2633760"/>
            <a:ext cx="236196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/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Mecanism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auto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3929040"/>
            <a:ext cx="236196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/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Instrumentos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regul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224320"/>
            <a:ext cx="236196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6241"/>
              </a:gs>
              <a:gs pos="100000">
                <a:srgbClr val="709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Parámetros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rendimi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838080"/>
            <a:ext cx="2743200" cy="533520"/>
          </a:xfrm>
          <a:prstGeom prst="rect">
            <a:avLst/>
          </a:prstGeom>
          <a:solidFill>
            <a:srgbClr val="acc6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Órganos de Control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gil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1523880"/>
            <a:ext cx="2743200" cy="533520"/>
          </a:xfrm>
          <a:prstGeom prst="rect">
            <a:avLst/>
          </a:prstGeom>
          <a:solidFill>
            <a:srgbClr val="acc6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05320" y="83808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gradFill rotWithShape="0">
            <a:gsLst>
              <a:gs pos="0">
                <a:srgbClr val="547659"/>
              </a:gs>
              <a:gs pos="50000">
                <a:srgbClr val="c4cfc6"/>
              </a:gs>
              <a:gs pos="100000">
                <a:srgbClr val="54765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2133720"/>
            <a:ext cx="76176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47659"/>
              </a:gs>
              <a:gs pos="50000">
                <a:srgbClr val="c4cfc6"/>
              </a:gs>
              <a:gs pos="100000">
                <a:srgbClr val="54765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3400" y="2481120"/>
            <a:ext cx="4572000" cy="4148280"/>
          </a:xfrm>
          <a:prstGeom prst="roundRect">
            <a:avLst>
              <a:gd name="adj" fmla="val 16667"/>
            </a:avLst>
          </a:prstGeom>
          <a:solidFill>
            <a:srgbClr val="acc6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1800" y="2862360"/>
            <a:ext cx="1295280" cy="33526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47659"/>
              </a:gs>
              <a:gs pos="50000">
                <a:srgbClr val="c4cfc6"/>
              </a:gs>
              <a:gs pos="100000">
                <a:srgbClr val="54765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f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48520" y="2057400"/>
            <a:ext cx="76176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47659"/>
              </a:gs>
              <a:gs pos="50000">
                <a:srgbClr val="c4cfc6"/>
              </a:gs>
              <a:gs pos="100000">
                <a:srgbClr val="54765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95680" y="2612880"/>
            <a:ext cx="4343400" cy="39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adyuvan al mejoramiento de la calidad de la educación sup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curan las mejores prácticas instituc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miten evaluar en forma cuantitativa y cualitativa la gestión opera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eneran una cultura de control y monitor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blecen rumbos de calidad, eficiencia y efica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miten medir cómo se utilizan los recursos públicos y la calidad de los proce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558720"/>
            <a:ext cx="845820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635040"/>
            <a:ext cx="8458200" cy="0"/>
          </a:xfrm>
          <a:prstGeom prst="line">
            <a:avLst/>
          </a:prstGeom>
          <a:ln w="3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28600" y="380880"/>
            <a:ext cx="8534520" cy="61722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828720"/>
            <a:ext cx="7543800" cy="1099440"/>
          </a:xfrm>
          <a:prstGeom prst="rect">
            <a:avLst/>
          </a:prstGeom>
          <a:noFill/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utilidad de la información captada a través de los indicadores de desempeño radica en la capacidad de autocrít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2398680"/>
            <a:ext cx="5029200" cy="794880"/>
          </a:xfrm>
          <a:prstGeom prst="rect">
            <a:avLst/>
          </a:prstGeom>
          <a:noFill/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dentificar y abatir los aspectos vulnerables y potenciar las fortalezas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3313080"/>
            <a:ext cx="5029200" cy="764280"/>
          </a:xfrm>
          <a:prstGeom prst="rect">
            <a:avLst/>
          </a:prstGeom>
          <a:noFill/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Realizar los cambios pertinentes o necesarios a los proces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29000" y="4191120"/>
            <a:ext cx="5029200" cy="764280"/>
          </a:xfrm>
          <a:prstGeom prst="rect">
            <a:avLst/>
          </a:prstGeom>
          <a:noFill/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vitar estados de inconformidad al interior de las institucion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29000" y="5065560"/>
            <a:ext cx="5029200" cy="764280"/>
          </a:xfrm>
          <a:prstGeom prst="rect">
            <a:avLst/>
          </a:prstGeom>
          <a:noFill/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Que las instituciones perciban si lo están haciendo debidamen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2514600"/>
            <a:ext cx="1143000" cy="3352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b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2895480"/>
            <a:ext cx="1600200" cy="289584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2895840"/>
              <a:gd name="textAreaBottom" fmla="*/ 2817720 h 2895840"/>
            </a:gdLst>
            <a:ahLst/>
            <a:rect l="textAreaLeft" t="textAreaTop" r="textAreaRight" b="textAreaBottom"/>
            <a:pathLst>
              <a:path w="21600" h="39085">
                <a:moveTo>
                  <a:pt x="3600" y="0"/>
                </a:moveTo>
                <a:arcTo wR="3600" hR="3600" stAng="16200000" swAng="-5400000"/>
                <a:lnTo>
                  <a:pt x="0" y="35485"/>
                </a:lnTo>
                <a:arcTo wR="3600" hR="3600" stAng="10800000" swAng="-5400000"/>
                <a:lnTo>
                  <a:pt x="18000" y="390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3a375"/>
              </a:gs>
              <a:gs pos="50000">
                <a:srgbClr val="e4dfcf"/>
              </a:gs>
              <a:gs pos="100000">
                <a:srgbClr val="b3a3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1523880"/>
            <a:ext cx="424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lgunas ventaja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indicadores de desempe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09680" y="838080"/>
            <a:ext cx="6705720" cy="30492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914400"/>
            <a:ext cx="74674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8800" y="1066680"/>
            <a:ext cx="7010280" cy="0"/>
          </a:xfrm>
          <a:prstGeom prst="line">
            <a:avLst/>
          </a:prstGeom>
          <a:ln w="28440">
            <a:solidFill>
              <a:srgbClr val="759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8800" y="2666880"/>
            <a:ext cx="0" cy="33530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3124080"/>
            <a:ext cx="0" cy="251460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76520" y="5791320"/>
            <a:ext cx="693396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2438280"/>
            <a:ext cx="38862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925720"/>
            <a:ext cx="4876920" cy="426960"/>
          </a:xfrm>
          <a:prstGeom prst="rect">
            <a:avLst/>
          </a:prstGeom>
          <a:gradFill rotWithShape="0">
            <a:gsLst>
              <a:gs pos="0">
                <a:srgbClr val="bbb973"/>
              </a:gs>
              <a:gs pos="50000">
                <a:srgbClr val="d2d1a4"/>
              </a:gs>
              <a:gs pos="100000">
                <a:srgbClr val="bbb97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6f6e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yudan a tomar decisiones oportu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4292640"/>
            <a:ext cx="6246720" cy="515880"/>
          </a:xfrm>
          <a:prstGeom prst="rect">
            <a:avLst/>
          </a:prstGeom>
          <a:gradFill rotWithShape="0">
            <a:gsLst>
              <a:gs pos="0">
                <a:srgbClr val="bbb973"/>
              </a:gs>
              <a:gs pos="50000">
                <a:srgbClr val="d2d1a4"/>
              </a:gs>
              <a:gs pos="100000">
                <a:srgbClr val="bbb97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6f6e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on instrumentos de evaluación y seguimi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5135400"/>
            <a:ext cx="5029200" cy="427320"/>
          </a:xfrm>
          <a:prstGeom prst="rect">
            <a:avLst/>
          </a:prstGeom>
          <a:gradFill rotWithShape="0">
            <a:gsLst>
              <a:gs pos="0">
                <a:srgbClr val="bbb973"/>
              </a:gs>
              <a:gs pos="50000">
                <a:srgbClr val="d2d1a4"/>
              </a:gs>
              <a:gs pos="100000">
                <a:srgbClr val="bbb97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6f6e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portan elementos para la plane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0" y="3535200"/>
            <a:ext cx="5562720" cy="427320"/>
          </a:xfrm>
          <a:prstGeom prst="rect">
            <a:avLst/>
          </a:prstGeom>
          <a:gradFill rotWithShape="0">
            <a:gsLst>
              <a:gs pos="0">
                <a:srgbClr val="bbb973"/>
              </a:gs>
              <a:gs pos="50000">
                <a:srgbClr val="d2d1a4"/>
              </a:gs>
              <a:gs pos="100000">
                <a:srgbClr val="bbb97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6f6e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ermiten saber si se está en la trayec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 rot="10800000">
            <a:off x="1676520" y="3352680"/>
            <a:ext cx="5333760" cy="1981440"/>
          </a:xfrm>
          <a:custGeom>
            <a:avLst/>
            <a:gdLst>
              <a:gd name="textAreaLeft" fmla="*/ 833400 w 5333760"/>
              <a:gd name="textAreaRight" fmla="*/ 4667040 w 5333760"/>
              <a:gd name="textAreaTop" fmla="*/ 495360 h 1981440"/>
              <a:gd name="textAreaBottom" fmla="*/ 1486080 h 1981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9d8a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00200" y="1523880"/>
            <a:ext cx="5334120" cy="1981440"/>
          </a:xfrm>
          <a:custGeom>
            <a:avLst/>
            <a:gdLst>
              <a:gd name="textAreaLeft" fmla="*/ 833400 w 5334120"/>
              <a:gd name="textAreaRight" fmla="*/ 4667400 w 5334120"/>
              <a:gd name="textAreaTop" fmla="*/ 495360 h 1981440"/>
              <a:gd name="textAreaBottom" fmla="*/ 1486080 h 1981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9d8a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2120" y="1219320"/>
            <a:ext cx="7467480" cy="447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b5d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 muy cierto que los indicadores de desempeño no lo son todo en materia de gestión de la calida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Tampoco podemos estar desprevenidos ante el conjunto de sus potenciales y limitaciones ni ante el posible mal uso y abuso que se pueda hacer de ell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ero se trata de un buen instrumento metodológico para conectar la calidad y su mejoramiento, la responsabilidad institucional y social, y sobre todo, la 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ndición de cuentas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05120" y="1447920"/>
            <a:ext cx="6858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5181480"/>
            <a:ext cx="6858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534520" y="990720"/>
            <a:ext cx="0" cy="44956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1143000"/>
            <a:ext cx="0" cy="44956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7400" y="1523880"/>
            <a:ext cx="6858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5257800"/>
            <a:ext cx="6858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6148440"/>
            <a:ext cx="6705720" cy="30492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49360"/>
            <a:ext cx="6705720" cy="30456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907920"/>
            <a:ext cx="0" cy="51818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29600" y="1593720"/>
            <a:ext cx="0" cy="42674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517760"/>
            <a:ext cx="784872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220356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192400"/>
            <a:ext cx="708660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e puede decir que la connotación tradicional de la rendición de cuentas aludía, preferentemente, al informe contable que debían presentar los administrado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ese sentido, el administrador era quien cuidaba los recursos públicos, por eso debía informar periódica y detalladamente del manejo del din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95280" y="685800"/>
            <a:ext cx="7467840" cy="152280"/>
          </a:xfrm>
          <a:prstGeom prst="roundRect">
            <a:avLst>
              <a:gd name="adj" fmla="val 16667"/>
            </a:avLst>
          </a:pr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914400"/>
            <a:ext cx="7467480" cy="152280"/>
          </a:xfrm>
          <a:prstGeom prst="roundRect">
            <a:avLst>
              <a:gd name="adj" fmla="val 16667"/>
            </a:avLst>
          </a:pr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943600"/>
            <a:ext cx="7467840" cy="152280"/>
          </a:xfrm>
          <a:prstGeom prst="roundRect">
            <a:avLst>
              <a:gd name="adj" fmla="val 16667"/>
            </a:avLst>
          </a:pr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715000"/>
            <a:ext cx="7467480" cy="152280"/>
          </a:xfrm>
          <a:prstGeom prst="roundRect">
            <a:avLst>
              <a:gd name="adj" fmla="val 16667"/>
            </a:avLst>
          </a:pr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838080"/>
            <a:ext cx="152640" cy="548640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5486400"/>
              <a:gd name="textAreaBottom" fmla="*/ 5479200 h 5486400"/>
            </a:gdLst>
            <a:ahLst/>
            <a:rect l="textAreaLeft" t="textAreaTop" r="textAreaRight" b="textAreaBottom"/>
            <a:pathLst>
              <a:path w="21600" h="774601">
                <a:moveTo>
                  <a:pt x="3600" y="0"/>
                </a:moveTo>
                <a:arcTo wR="3600" hR="3600" stAng="16200000" swAng="-5400000"/>
                <a:lnTo>
                  <a:pt x="0" y="771001"/>
                </a:lnTo>
                <a:arcTo wR="3600" hR="3600" stAng="10800000" swAng="-5400000"/>
                <a:lnTo>
                  <a:pt x="18000" y="7746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197000"/>
            <a:ext cx="6782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l término “rendición de cuentas” tiene su origen en el vocablo “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accountability”,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que significa “el estado de ser sujeto a la obligación de responder, explicar o justificar algo; ser responsable de algo; y ser sujeto y responsable para dar cuentas y responder pregunta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284640"/>
            <a:ext cx="716292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001000" y="1379520"/>
            <a:ext cx="0" cy="190512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3573360"/>
            <a:ext cx="586764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or tanto, rendición de cuentas significa “la obligación de todos los servidores públicos de dar cuentas, y explicar y justificar sus actos al público, que es el depositario de la soberanía de una democracia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3500280"/>
            <a:ext cx="59436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3500280"/>
            <a:ext cx="0" cy="190512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990720"/>
            <a:ext cx="152640" cy="548640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5486400"/>
              <a:gd name="textAreaBottom" fmla="*/ 5479200 h 5486400"/>
            </a:gdLst>
            <a:ahLst/>
            <a:rect l="textAreaLeft" t="textAreaTop" r="textAreaRight" b="textAreaBottom"/>
            <a:pathLst>
              <a:path w="21600" h="774601">
                <a:moveTo>
                  <a:pt x="3600" y="0"/>
                </a:moveTo>
                <a:arcTo wR="3600" hR="3600" stAng="16200000" swAng="-5400000"/>
                <a:lnTo>
                  <a:pt x="0" y="771001"/>
                </a:lnTo>
                <a:arcTo wR="3600" hR="3600" stAng="10800000" swAng="-5400000"/>
                <a:lnTo>
                  <a:pt x="18000" y="7746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440" y="685800"/>
            <a:ext cx="152280" cy="54864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5486400"/>
              <a:gd name="textAreaBottom" fmla="*/ 5479200 h 5486400"/>
            </a:gdLst>
            <a:ahLst/>
            <a:rect l="textAreaLeft" t="textAreaTop" r="textAreaRight" b="textAreaBottom"/>
            <a:pathLst>
              <a:path w="21600" h="776428">
                <a:moveTo>
                  <a:pt x="3600" y="0"/>
                </a:moveTo>
                <a:arcTo wR="3600" hR="3600" stAng="16200000" swAng="-5400000"/>
                <a:lnTo>
                  <a:pt x="0" y="772828"/>
                </a:lnTo>
                <a:arcTo wR="3600" hR="3600" stAng="10800000" swAng="-5400000"/>
                <a:lnTo>
                  <a:pt x="18000" y="7764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5520" y="990720"/>
            <a:ext cx="152640" cy="548640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5486400"/>
              <a:gd name="textAreaBottom" fmla="*/ 5479200 h 5486400"/>
            </a:gdLst>
            <a:ahLst/>
            <a:rect l="textAreaLeft" t="textAreaTop" r="textAreaRight" b="textAreaBottom"/>
            <a:pathLst>
              <a:path w="21600" h="774601">
                <a:moveTo>
                  <a:pt x="3600" y="0"/>
                </a:moveTo>
                <a:arcTo wR="3600" hR="3600" stAng="16200000" swAng="-5400000"/>
                <a:lnTo>
                  <a:pt x="0" y="771001"/>
                </a:lnTo>
                <a:arcTo wR="3600" hR="3600" stAng="10800000" swAng="-5400000"/>
                <a:lnTo>
                  <a:pt x="18000" y="7746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80880"/>
            <a:ext cx="8534520" cy="61722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09480"/>
            <a:ext cx="7467480" cy="152640"/>
          </a:xfrm>
          <a:prstGeom prst="roundRect">
            <a:avLst>
              <a:gd name="adj" fmla="val 16667"/>
            </a:avLst>
          </a:pr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885960"/>
            <a:ext cx="6703920" cy="42912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nceptos relacionados con la rendición de cuen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1442880"/>
            <a:ext cx="472428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b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2362320"/>
            <a:ext cx="2362320" cy="83808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bligator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3352680"/>
            <a:ext cx="2362320" cy="83844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Justific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y ex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4343400"/>
            <a:ext cx="2362320" cy="83808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spons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5334120"/>
            <a:ext cx="2362320" cy="83808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14960" y="2362320"/>
            <a:ext cx="3352680" cy="838080"/>
          </a:xfrm>
          <a:prstGeom prst="rect">
            <a:avLst/>
          </a:prstGeom>
          <a:noFill/>
          <a:ln w="9360">
            <a:solidFill>
              <a:srgbClr val="6e81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r parte de las autoridade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rvidores 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14960" y="3352680"/>
            <a:ext cx="3352680" cy="838440"/>
          </a:xfrm>
          <a:prstGeom prst="rect">
            <a:avLst/>
          </a:prstGeom>
          <a:noFill/>
          <a:ln w="9360">
            <a:solidFill>
              <a:srgbClr val="6e81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l desempeño de sus a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14960" y="4343400"/>
            <a:ext cx="3352680" cy="838080"/>
          </a:xfrm>
          <a:prstGeom prst="rect">
            <a:avLst/>
          </a:prstGeom>
          <a:noFill/>
          <a:ln w="9360">
            <a:solidFill>
              <a:srgbClr val="6e81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rente a la institución y ant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5334120"/>
            <a:ext cx="3352680" cy="838080"/>
          </a:xfrm>
          <a:prstGeom prst="rect">
            <a:avLst/>
          </a:prstGeom>
          <a:noFill/>
          <a:ln w="9360">
            <a:solidFill>
              <a:srgbClr val="6e81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locar la información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vitrina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22600" y="350532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6e815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22600" y="4495680"/>
            <a:ext cx="762120" cy="533520"/>
          </a:xfrm>
          <a:prstGeom prst="rightArrow">
            <a:avLst>
              <a:gd name="adj1" fmla="val 50000"/>
              <a:gd name="adj2" fmla="val 35712"/>
            </a:avLst>
          </a:prstGeom>
          <a:solidFill>
            <a:srgbClr val="6e815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22600" y="5486400"/>
            <a:ext cx="762120" cy="533520"/>
          </a:xfrm>
          <a:prstGeom prst="rightArrow">
            <a:avLst>
              <a:gd name="adj1" fmla="val 50000"/>
              <a:gd name="adj2" fmla="val 35712"/>
            </a:avLst>
          </a:prstGeom>
          <a:solidFill>
            <a:srgbClr val="6e815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22600" y="2514600"/>
            <a:ext cx="762120" cy="533520"/>
          </a:xfrm>
          <a:prstGeom prst="rightArrow">
            <a:avLst>
              <a:gd name="adj1" fmla="val 50000"/>
              <a:gd name="adj2" fmla="val 35712"/>
            </a:avLst>
          </a:prstGeom>
          <a:solidFill>
            <a:srgbClr val="6e815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187280"/>
            <a:ext cx="2057400" cy="4876920"/>
          </a:xfrm>
          <a:prstGeom prst="rect">
            <a:avLst/>
          </a:prstGeom>
          <a:gradFill rotWithShape="0">
            <a:gsLst>
              <a:gs pos="0">
                <a:srgbClr val="bbb973"/>
              </a:gs>
              <a:gs pos="50000">
                <a:srgbClr val="d2d1a4"/>
              </a:gs>
              <a:gs pos="100000">
                <a:srgbClr val="bbb97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6f6e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635200"/>
            <a:ext cx="198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incipales mecanismos y procedimientos de rendición de cu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178000"/>
            <a:ext cx="1905120" cy="914400"/>
          </a:xfrm>
          <a:prstGeom prst="rect">
            <a:avLst/>
          </a:prstGeom>
          <a:solidFill>
            <a:srgbClr val="acaa56"/>
          </a:solidFill>
          <a:ln w="0">
            <a:noFill/>
          </a:ln>
          <a:effectLst>
            <a:outerShdw dist="17819" dir="2700000" blurRad="0" rotWithShape="0">
              <a:srgbClr val="6665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2421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fo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2178000"/>
            <a:ext cx="3047760" cy="914400"/>
          </a:xfrm>
          <a:prstGeom prst="rect">
            <a:avLst/>
          </a:prstGeom>
          <a:solidFill>
            <a:srgbClr val="acaa56"/>
          </a:solidFill>
          <a:ln w="0">
            <a:noFill/>
          </a:ln>
          <a:effectLst>
            <a:outerShdw dist="17819" dir="2700000" blurRad="0" rotWithShape="0">
              <a:srgbClr val="6665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2178000"/>
            <a:ext cx="3200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just">
              <a:lnSpc>
                <a:spcPct val="80000"/>
              </a:lnSpc>
              <a:spcBef>
                <a:spcPts val="34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Gobi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80000"/>
              </a:lnSpc>
              <a:spcBef>
                <a:spcPts val="34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ejecución y de 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80000"/>
              </a:lnSpc>
              <a:spcBef>
                <a:spcPts val="34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l O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80000"/>
              </a:lnSpc>
              <a:spcBef>
                <a:spcPts val="34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auto evaluación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3168720"/>
            <a:ext cx="1905120" cy="914400"/>
          </a:xfrm>
          <a:prstGeom prst="rect">
            <a:avLst/>
          </a:prstGeom>
          <a:solidFill>
            <a:srgbClr val="acaa56"/>
          </a:solidFill>
          <a:ln w="0">
            <a:noFill/>
          </a:ln>
          <a:effectLst>
            <a:outerShdw dist="17819" dir="2700000" blurRad="0" rotWithShape="0">
              <a:srgbClr val="6665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397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ec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168720"/>
            <a:ext cx="3047760" cy="914400"/>
          </a:xfrm>
          <a:prstGeom prst="rect">
            <a:avLst/>
          </a:prstGeom>
          <a:solidFill>
            <a:srgbClr val="acaa56"/>
          </a:solidFill>
          <a:ln w="0">
            <a:noFill/>
          </a:ln>
          <a:effectLst>
            <a:outerShdw dist="17819" dir="2700000" blurRad="0" rotWithShape="0">
              <a:srgbClr val="6665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336840"/>
            <a:ext cx="29718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los servidores públicos 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os congres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1187280"/>
            <a:ext cx="1905120" cy="914400"/>
          </a:xfrm>
          <a:prstGeom prst="rect">
            <a:avLst/>
          </a:prstGeom>
          <a:solidFill>
            <a:srgbClr val="acaa56"/>
          </a:solidFill>
          <a:ln w="0">
            <a:noFill/>
          </a:ln>
          <a:effectLst>
            <a:outerShdw dist="17819" dir="2700000" blurRad="0" rotWithShape="0">
              <a:srgbClr val="6665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1268280"/>
            <a:ext cx="198108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enta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aci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ública Fed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1187280"/>
            <a:ext cx="1981080" cy="914400"/>
          </a:xfrm>
          <a:prstGeom prst="rect">
            <a:avLst/>
          </a:prstGeom>
          <a:solidFill>
            <a:srgbClr val="acaa56"/>
          </a:solidFill>
          <a:ln w="0">
            <a:noFill/>
          </a:ln>
          <a:effectLst>
            <a:outerShdw dist="17819" dir="2700000" blurRad="0" rotWithShape="0">
              <a:srgbClr val="6665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1303200"/>
            <a:ext cx="20574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osición norm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unto de partida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iscaliz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4159080"/>
            <a:ext cx="1905120" cy="914400"/>
          </a:xfrm>
          <a:prstGeom prst="rect">
            <a:avLst/>
          </a:prstGeom>
          <a:solidFill>
            <a:srgbClr val="acaa56"/>
          </a:solidFill>
          <a:ln w="0">
            <a:noFill/>
          </a:ln>
          <a:effectLst>
            <a:outerShdw dist="17819" dir="2700000" blurRad="0" rotWithShape="0">
              <a:srgbClr val="6665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4280040"/>
            <a:ext cx="198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lación mando obed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4159080"/>
            <a:ext cx="3047760" cy="914400"/>
          </a:xfrm>
          <a:prstGeom prst="rect">
            <a:avLst/>
          </a:prstGeom>
          <a:solidFill>
            <a:srgbClr val="acaa56"/>
          </a:solidFill>
          <a:ln w="0">
            <a:noFill/>
          </a:ln>
          <a:effectLst>
            <a:outerShdw dist="17819" dir="2700000" blurRad="0" rotWithShape="0">
              <a:srgbClr val="6665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4262400"/>
            <a:ext cx="2895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ción de cuentas cotidian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ubalterno-jefe inmediato-sup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jerárquico-órgano de gobier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5149800"/>
            <a:ext cx="1905120" cy="914400"/>
          </a:xfrm>
          <a:prstGeom prst="rect">
            <a:avLst/>
          </a:prstGeom>
          <a:solidFill>
            <a:srgbClr val="acaa56"/>
          </a:solidFill>
          <a:ln w="0">
            <a:noFill/>
          </a:ln>
          <a:effectLst>
            <a:outerShdw dist="17819" dir="2700000" blurRad="0" rotWithShape="0">
              <a:srgbClr val="6665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5226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claración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5149800"/>
            <a:ext cx="3047760" cy="914400"/>
          </a:xfrm>
          <a:prstGeom prst="rect">
            <a:avLst/>
          </a:prstGeom>
          <a:solidFill>
            <a:srgbClr val="acaa56"/>
          </a:solidFill>
          <a:ln w="0">
            <a:noFill/>
          </a:ln>
          <a:effectLst>
            <a:outerShdw dist="17819" dir="2700000" blurRad="0" rotWithShape="0">
              <a:srgbClr val="6665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00640" y="5221440"/>
            <a:ext cx="31240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bligación de los servidores públicos de presentar anualmente el estado de su patrimon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1187280"/>
            <a:ext cx="990360" cy="914400"/>
          </a:xfrm>
          <a:prstGeom prst="rect">
            <a:avLst/>
          </a:prstGeom>
          <a:solidFill>
            <a:srgbClr val="acaa56"/>
          </a:solidFill>
          <a:ln w="0">
            <a:noFill/>
          </a:ln>
          <a:effectLst>
            <a:outerShdw dist="17819" dir="2700000" blurRad="0" rotWithShape="0">
              <a:srgbClr val="6665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1187280"/>
            <a:ext cx="609480" cy="4876920"/>
          </a:xfrm>
          <a:prstGeom prst="rect">
            <a:avLst/>
          </a:prstGeom>
          <a:gradFill rotWithShape="0">
            <a:gsLst>
              <a:gs pos="0">
                <a:srgbClr val="bbb973"/>
              </a:gs>
              <a:gs pos="50000">
                <a:srgbClr val="d2d1a4"/>
              </a:gs>
              <a:gs pos="100000">
                <a:srgbClr val="bbb973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6f6e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2486160"/>
            <a:ext cx="4572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76280"/>
            <a:ext cx="8534160" cy="436680"/>
          </a:xfrm>
          <a:prstGeom prst="rect">
            <a:avLst/>
          </a:prstGeom>
          <a:solidFill>
            <a:srgbClr val="bbb973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strumentos de rendición de cuen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29600" y="1187280"/>
            <a:ext cx="609480" cy="4876920"/>
          </a:xfrm>
          <a:prstGeom prst="rect">
            <a:avLst/>
          </a:prstGeom>
          <a:gradFill rotWithShape="0">
            <a:gsLst>
              <a:gs pos="0">
                <a:srgbClr val="bbb973"/>
              </a:gs>
              <a:gs pos="50000">
                <a:srgbClr val="d2d1a4"/>
              </a:gs>
              <a:gs pos="100000">
                <a:srgbClr val="bbb973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6f6e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1263600"/>
            <a:ext cx="4572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808200"/>
            <a:ext cx="70866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Todos los instrumentos de rendición de cuentas sólo son eficaces si existe el compromiso de las instituciones para desarrollarlos y, a su vez, si existe un proceso de liderazgo que los impulse y consol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bases de toda rendición de cuentas están en el desarrollo de una serie de principios básic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581280"/>
            <a:ext cx="3505320" cy="427320"/>
          </a:xfrm>
          <a:prstGeom prst="rect">
            <a:avLst/>
          </a:prstGeom>
          <a:gradFill rotWithShape="0">
            <a:gsLst>
              <a:gs pos="0">
                <a:srgbClr val="bbb973"/>
              </a:gs>
              <a:gs pos="50000">
                <a:srgbClr val="d2d1a4"/>
              </a:gs>
              <a:gs pos="100000">
                <a:srgbClr val="bbb97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6f6e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) Conducta é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228600"/>
            <a:ext cx="0" cy="286560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990720"/>
            <a:ext cx="0" cy="193500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808200"/>
            <a:ext cx="0" cy="228600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3322800"/>
            <a:ext cx="4038840" cy="833760"/>
          </a:xfrm>
          <a:prstGeom prst="rect">
            <a:avLst/>
          </a:prstGeom>
          <a:solidFill>
            <a:srgbClr val="e1dbc9"/>
          </a:solidFill>
          <a:ln w="9360">
            <a:solidFill>
              <a:srgbClr val="acaa56"/>
            </a:solidFill>
            <a:miter/>
          </a:ln>
          <a:effectLst>
            <a:outerShdw dist="17819" dir="2700000" blurRad="0" rotWithShape="0">
              <a:srgbClr val="6665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ortamiento adecuado a través del establecimiento de principios éticos y reglas de conduc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4602240"/>
            <a:ext cx="3581640" cy="426960"/>
          </a:xfrm>
          <a:prstGeom prst="rect">
            <a:avLst/>
          </a:prstGeom>
          <a:gradFill rotWithShape="0">
            <a:gsLst>
              <a:gs pos="0">
                <a:srgbClr val="bbb973"/>
              </a:gs>
              <a:gs pos="50000">
                <a:srgbClr val="d2d1a4"/>
              </a:gs>
              <a:gs pos="100000">
                <a:srgbClr val="bbb97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6f6e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b) Sistemas de 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419720"/>
            <a:ext cx="4038840" cy="833760"/>
          </a:xfrm>
          <a:prstGeom prst="rect">
            <a:avLst/>
          </a:prstGeom>
          <a:solidFill>
            <a:srgbClr val="e1dbc9"/>
          </a:solidFill>
          <a:ln w="9360">
            <a:solidFill>
              <a:srgbClr val="908e46"/>
            </a:solidFill>
            <a:miter/>
          </a:ln>
          <a:effectLst>
            <a:outerShdw dist="17819" dir="2700000" blurRad="0" rotWithShape="0">
              <a:srgbClr val="5654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ministro de datos entendibles, asequibles y transparentes que permitan identificar benefi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668920"/>
            <a:ext cx="3581640" cy="426960"/>
          </a:xfrm>
          <a:prstGeom prst="rect">
            <a:avLst/>
          </a:prstGeom>
          <a:gradFill rotWithShape="0">
            <a:gsLst>
              <a:gs pos="0">
                <a:srgbClr val="bbb973"/>
              </a:gs>
              <a:gs pos="50000">
                <a:srgbClr val="d2d1a4"/>
              </a:gs>
              <a:gs pos="100000">
                <a:srgbClr val="bbb97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6f6e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) Voluntad polí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5486400"/>
            <a:ext cx="4038840" cy="833760"/>
          </a:xfrm>
          <a:prstGeom prst="rect">
            <a:avLst/>
          </a:prstGeom>
          <a:solidFill>
            <a:srgbClr val="e1dbc9"/>
          </a:solidFill>
          <a:ln w="9360">
            <a:solidFill>
              <a:srgbClr val="908e46"/>
            </a:solidFill>
            <a:miter/>
          </a:ln>
          <a:effectLst>
            <a:outerShdw dist="17819" dir="2700000" blurRad="0" rotWithShape="0">
              <a:srgbClr val="5654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llevar a cabo estos principios, liderar un cambio en la gestión pública y favorecer la innov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9600" y="990720"/>
            <a:ext cx="0" cy="193500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685800"/>
            <a:ext cx="32004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09680" y="838080"/>
            <a:ext cx="6705720" cy="304920"/>
          </a:xfrm>
          <a:prstGeom prst="roundRect">
            <a:avLst>
              <a:gd name="adj" fmla="val 16667"/>
            </a:avLst>
          </a:prstGeom>
          <a:solidFill>
            <a:srgbClr val="b3a3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914400"/>
            <a:ext cx="74674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066680"/>
            <a:ext cx="7010280" cy="0"/>
          </a:xfrm>
          <a:prstGeom prst="line">
            <a:avLst/>
          </a:prstGeom>
          <a:ln w="28440">
            <a:solidFill>
              <a:srgbClr val="759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773360"/>
            <a:ext cx="7086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urante mucho tiempo la universidad pública  consideró que la rendición de cuentas no sólo era ajena a su naturaleza académica y, por ende, no contaminada con preocupaciones administrativas y economistas, sino que también le era ofensiva porque se pretendía exigirle cuentas a una institución que, por la probidad y el nivel intelectual de sus miembros, garantizaba el manejo más pulcro y honesto de los recursos públic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990720"/>
            <a:ext cx="152280" cy="54864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5486400"/>
              <a:gd name="textAreaBottom" fmla="*/ 5479200 h 5486400"/>
            </a:gdLst>
            <a:ahLst/>
            <a:rect l="textAreaLeft" t="textAreaTop" r="textAreaRight" b="textAreaBottom"/>
            <a:pathLst>
              <a:path w="21600" h="776428">
                <a:moveTo>
                  <a:pt x="3600" y="0"/>
                </a:moveTo>
                <a:arcTo wR="3600" hR="3600" stAng="16200000" swAng="-5400000"/>
                <a:lnTo>
                  <a:pt x="0" y="772828"/>
                </a:lnTo>
                <a:arcTo wR="3600" hR="3600" stAng="10800000" swAng="-5400000"/>
                <a:lnTo>
                  <a:pt x="18000" y="7764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295280"/>
            <a:ext cx="152280" cy="48769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4876920"/>
              <a:gd name="textAreaBottom" fmla="*/ 4869720 h 4876920"/>
            </a:gdLst>
            <a:ahLst/>
            <a:rect l="textAreaLeft" t="textAreaTop" r="textAreaRight" b="textAreaBottom"/>
            <a:pathLst>
              <a:path w="21600" h="690181">
                <a:moveTo>
                  <a:pt x="3600" y="0"/>
                </a:moveTo>
                <a:arcTo wR="3600" hR="3600" stAng="16200000" swAng="-5400000"/>
                <a:lnTo>
                  <a:pt x="0" y="686581"/>
                </a:lnTo>
                <a:arcTo wR="3600" hR="3600" stAng="10800000" swAng="-5400000"/>
                <a:lnTo>
                  <a:pt x="18000" y="6901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b9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05920" y="1700280"/>
            <a:ext cx="0" cy="33526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58200" y="1600200"/>
            <a:ext cx="0" cy="42670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5410080"/>
            <a:ext cx="769644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23:56:44Z</dcterms:created>
  <dc:creator>jjlopez</dc:creator>
  <dc:description/>
  <dc:language>en-US</dc:language>
  <cp:lastModifiedBy>jjlopez</cp:lastModifiedBy>
  <dcterms:modified xsi:type="dcterms:W3CDTF">2005-04-20T02:33:17Z</dcterms:modified>
  <cp:revision>400</cp:revision>
  <dc:subject/>
  <dc:title>Presentación de PowerPoint</dc:title>
</cp:coreProperties>
</file>