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B8A-30AE-4067-867C-67F6C6C7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396648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DCC-F27F-40EB-A524-D9242D7E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8816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EA8-2C4B-4A2F-8B8B-1ED0F678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300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4916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85300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24916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FDD-6D0B-433F-AB5E-549F76C0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6EEC-C042-43B7-A8F2-35A44893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6CCD-6491-40EF-AA57-9085453D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841-1A0D-49EC-9435-9A81892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D33-AA07-42B6-B139-1E22CF4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3A51-859F-4B95-A7F7-AD71373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152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0E33-631B-4EA4-A514-65543DE2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0D32-5CC1-4B92-B994-4A1ED60D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6FC-0805-4198-9C96-6F2E4BB2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8816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1685-5229-4FBB-B94E-B88680C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545D-748C-456F-83B8-CAD17CBE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6840" y="396648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AADB-1C6B-4219-A574-CEA30E3F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08816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06A2-D86E-43EE-98ED-1F8695D4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85300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49160" y="159984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684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85300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249160" y="3966480"/>
            <a:ext cx="2281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B96D-46A9-48BF-882E-B22D4316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9A5-3F67-4875-AE2F-1B1F01D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53A-9A5C-45C8-98D9-9E16CA6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C45-DF58-4E98-A72C-93EC2EC0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152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FAE-0DAC-452B-A60F-8E9C219E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C49-D723-4C4A-A81D-B1A8D60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88160" y="396648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F78-99A7-4C78-BF1B-A7BD89DE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88160" y="1599840"/>
            <a:ext cx="3458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3966480"/>
            <a:ext cx="7086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8EEB-B4E0-4B45-B9E3-61871CC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e4b900"/>
                </a:gs>
                <a:gs pos="100000">
                  <a:srgbClr val="d5a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e4b900"/>
                </a:gs>
                <a:gs pos="100000">
                  <a:srgbClr val="d5a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e4b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e4b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15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57150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680-3EEB-42CF-80F8-EDA4EE9DC3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9966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b900"/>
                  </a:gs>
                  <a:gs pos="100000">
                    <a:srgbClr val="977a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27600"/>
                </a:gs>
                <a:gs pos="100000">
                  <a:srgbClr val="58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e4b900"/>
                </a:gs>
                <a:gs pos="100000">
                  <a:srgbClr val="d5a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e4b900"/>
                </a:gs>
                <a:gs pos="100000">
                  <a:srgbClr val="d5a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e4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e4b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e4b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e4b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2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33B-F88F-45F6-A64C-9DE880275C1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198108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“</a:t>
            </a:r>
            <a:r>
              <a:rPr b="1" lang="es-ES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EL PAPEL DE LA</a:t>
            </a:r>
            <a:r>
              <a:rPr b="1" lang="en-US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S</a:t>
            </a:r>
            <a:r>
              <a:rPr b="1" lang="es-ES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 UNIVERSIDADES P</a:t>
            </a:r>
            <a:r>
              <a:rPr b="1" lang="es-MX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Ú</a:t>
            </a:r>
            <a:r>
              <a:rPr b="1" lang="es-ES" sz="4400" spc="-1" strike="noStrike">
                <a:solidFill>
                  <a:srgbClr val="996633"/>
                </a:solidFill>
                <a:latin typeface="Arial"/>
                <a:ea typeface="Times New Roman"/>
              </a:rPr>
              <a:t>BLICAS ANTE LA RENDICIÓN DE CUENTAS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666880"/>
            <a:ext cx="449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533520"/>
            <a:ext cx="883944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la revisión bajo las reglas de operación ASF - AMOCVIES propiciaron un cambio de actitud de los actores generando en el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9376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 visión más amplia de la Institución por parte de la A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9376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compromiso del personal de las áreas revisadas de continuar mejorando sus proc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9376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cialización y aceptación de las ventajas que se obtienen al llevar a cabo revisiones de esta índ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9376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yor comunicación tanto interna como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93760" algn="just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rogramas de revisión integral que permitan evaluar ampliamente las operaciones realizadas en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4560" y="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in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4320" y="1600200"/>
            <a:ext cx="3598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uditorías integrales</a:t>
            </a:r>
            <a:r>
              <a:rPr b="1" lang="es-MX" sz="2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0480" y="2209680"/>
            <a:ext cx="581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eguimiento a informes  de audito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8280" y="2819520"/>
            <a:ext cx="6044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rograma de autocorrección del IMSS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0920" y="3429000"/>
            <a:ext cx="4528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uditoría externa para I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0360" y="4114800"/>
            <a:ext cx="562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uditoría Superior de la Fed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94080" y="4724280"/>
            <a:ext cx="4932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uditoría Congreso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5334120"/>
            <a:ext cx="6873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4040" indent="-284040" algn="just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ción de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Sistema de Gestión de Calidad del Patronato en la norma ISO 9001: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0000" y="290520"/>
            <a:ext cx="887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RESUMEN DE ACCIONES IMPLEMENTADAS </a:t>
            </a:r>
            <a:r>
              <a:rPr b="1" lang="es-MX" sz="2400" spc="-1" strike="noStrike">
                <a:solidFill>
                  <a:srgbClr val="996633"/>
                </a:solidFill>
                <a:latin typeface="Arial"/>
              </a:rPr>
              <a:t>EN LA IN</a:t>
            </a: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STITUCIÓN EN TORNO A LA TRANSPARENCIA Y RENDICIÓN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6633"/>
                </a:solidFill>
                <a:latin typeface="Arial"/>
              </a:rPr>
              <a:t>CONCLUSIÓN</a:t>
            </a:r>
            <a:r>
              <a:rPr b="1" lang="es-ES" sz="3600" spc="-1" strike="noStrike">
                <a:solidFill>
                  <a:srgbClr val="996633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666880"/>
            <a:ext cx="449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981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530360"/>
            <a:ext cx="8686800" cy="50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urante los últimos quince años, las IPES h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pliado y complementado su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mpromis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on la rendición de cuentas, dado el carácter público de los recursos que recib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ciendo pública la información relev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do la normatividad aplicable a sus proces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ticipando en procedimientos de auditoría, interna y externa,  por parte de las entidades faculta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reditando y certificando sus procesos tanto académicos como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rendición de cuentas de las universidades no se refiere exclusivamente al aspecto económico; incluye también el informar a la sociedad y a la comunidad universitaria misma, del resultado integral del quehacer de la institución, lo que permite mejorar su im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1523880"/>
            <a:ext cx="7238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e4b9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Palatino Linotype"/>
              </a:rPr>
              <a:t>GRACIAS</a:t>
            </a:r>
            <a:endParaRPr b="1" lang="en-US" sz="1800" spc="1" strike="noStrike">
              <a:ln w="19080">
                <a:solidFill>
                  <a:srgbClr val="e4b9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e4b9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Palatino Linotype"/>
              </a:rPr>
              <a:t>POR SU ATENCION</a:t>
            </a:r>
            <a:endParaRPr b="1" lang="en-US" sz="1800" spc="1" strike="noStrike">
              <a:ln w="19080">
                <a:solidFill>
                  <a:srgbClr val="e4b9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Palatino Linotype"/>
              <a:ea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4480" y="914400"/>
            <a:ext cx="708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Calidad, evaluación, acreditación y cert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1440" y="1371600"/>
            <a:ext cx="385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Posgrados de excel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4680" y="1782720"/>
            <a:ext cx="354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Mejoramiento sala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57400" y="2239920"/>
            <a:ext cx="447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Fuentes de recursos alter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69440" y="2666880"/>
            <a:ext cx="5288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Eficiencia y eficacia administr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9680" y="3124080"/>
            <a:ext cx="4345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Modernización institu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2960" y="358128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97000" indent="-297000">
              <a:lnSpc>
                <a:spcPct val="10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Reorientación hacia las necesidades del                               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3840" y="4343400"/>
            <a:ext cx="733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Vinculación con el entorno produ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00" y="182520"/>
            <a:ext cx="88804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Arial"/>
              </a:rPr>
              <a:t>TRANSFORMACIÓN DEL DISCURSO UNIVERS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22440" y="4800600"/>
            <a:ext cx="733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5288040"/>
            <a:ext cx="733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Nuevas modalidades educ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55960" y="5791320"/>
            <a:ext cx="733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Cooperación inter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84560" y="6278400"/>
            <a:ext cx="733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Sistemas</a:t>
            </a: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abier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3520" y="304920"/>
            <a:ext cx="888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Arial"/>
              </a:rPr>
              <a:t>TRANSFORMACIÓN DEL DISCURSO UNIVERS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828800"/>
            <a:ext cx="6912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Pertinencia con las demandas del entor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666880"/>
            <a:ext cx="576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Cobertura y 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4648320"/>
            <a:ext cx="446256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Imagen universi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5486400"/>
            <a:ext cx="3864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2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Posicionamient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3505320"/>
            <a:ext cx="38102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marL="239760" indent="-239760">
              <a:lnSpc>
                <a:spcPct val="100000"/>
              </a:lnSpc>
              <a:buSzPct val="102909"/>
              <a:buBlip>
                <a:blip r:embed="rId5"/>
              </a:buBlip>
              <a:tabLst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ahoma"/>
              </a:rPr>
              <a:t>Transparencia y Rendición de cu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U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grama Nacional de Educación, plantea una mayor exigencia en el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nejo de la transparencia y la rendición de cuentas ante sus comun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ercamientos entre ANUIES y Cámara de Diput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Resolución de la Suprema Corte de Justi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304920"/>
            <a:ext cx="7238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6633"/>
                </a:solidFill>
                <a:latin typeface="Arial"/>
              </a:rPr>
              <a:t>TRANSPARENCIA Y RENDICIÓ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ESFUERZOS DE TRANSPARENCIA Y</a:t>
            </a:r>
            <a:br>
              <a:rPr sz="2400"/>
            </a:br>
            <a:r>
              <a:rPr b="1" lang="es-ES" sz="2400" spc="-1" strike="noStrike">
                <a:solidFill>
                  <a:srgbClr val="996633"/>
                </a:solidFill>
                <a:latin typeface="Arial"/>
              </a:rPr>
              <a:t>RENDICIÓN DE CUENTAS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89154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ntrada en vigo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Ley Federal de Transparencia y Acceso a la Información Pública Gubernamental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a en sus artículos 1 y 3 fracción XIV, que por el momento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ólo estaban obligadas a esta ley las  universidades públicas de carácter federal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Ley de Acceso a la Información Pública para el Estado de Baja California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eron consideradas como obligadas la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niversidades de carácter esta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dar cumplimiento en los términos de</a:t>
            </a:r>
            <a:r>
              <a:rPr b="0" lang="es-ES" sz="2400" spc="-1" strike="noStrike">
                <a:solidFill>
                  <a:srgbClr val="09090d"/>
                </a:solidFill>
                <a:latin typeface="Arial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 Ley</a:t>
            </a:r>
            <a:r>
              <a:rPr b="0" lang="es-ES" sz="2400" spc="-1" strike="noStrike">
                <a:solidFill>
                  <a:srgbClr val="09090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9090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523880"/>
            <a:ext cx="87631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apuesta generalizada por el reconocimiento y el desarrollo de la autonomía universitaria y la nueva sensibilidad social frente al crecimiento constante de sus dotaciones desde el erario público, ha conducido a la necesidad de que se exploren nuevas fórmulas de control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 I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 en este contexto donde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hace necesari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iciar un cambio en la cultura organizativa de la universidad y a proceder en ese nuevo marco a implantar la evaluación institucional como fórmula de autorregulación por un lado y de rendición de cuentas por o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4560" y="27288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in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523880"/>
            <a:ext cx="8763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tro de una tendencia de políticas públicas en que todas las instituciones deben tener un manejo transparente y rendir cuentas a las sociedades dentro de las cuales actúan, y que toca a todas las entidades gubernamentales, la universidad no puede ser la  excep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especto a este punto se concluye que debe respetarse la libertad académica y la autonomía institucional; sin embargo, los principios de libertad de cátedra y autonomía no deben ser utilizados para encubrir la negligencia profesional o la incompetencia organizativa, esto es, se requiere presentar una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ndición de cuentas con calid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4560" y="27288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tin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COMPROMISO DE LAS IPES QUE RECIBEN</a:t>
            </a:r>
            <a:br>
              <a:rPr sz="2800"/>
            </a:br>
            <a:r>
              <a:rPr b="1" lang="es-ES" sz="2800" spc="-1" strike="noStrike">
                <a:solidFill>
                  <a:srgbClr val="996633"/>
                </a:solidFill>
                <a:latin typeface="Arial"/>
                <a:ea typeface="Times New Roman"/>
              </a:rPr>
              <a:t>RECURSOS EXTRAORDINARIOS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2860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compromiso que tienen las IPES al obtener los recursos extraordinarios otorgados por la SESIC a través de los PIFIS, es ejercerlos en apego a los lineamientos de las asignaciones establecidos en el propio Convenio, comprometiéndose a cumplir con las metas y programas en cada proyecto autorizado,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í como co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evaluaciones y calendariz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programática establecida en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ismos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egurando que no exista una duplicidad en la asignación de estos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900"/>
            </a:gs>
            <a:gs pos="100000">
              <a:srgbClr val="594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2666880"/>
            <a:ext cx="4495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37160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996633"/>
                </a:solidFill>
                <a:latin typeface="Arial"/>
                <a:ea typeface="Times New Roman"/>
              </a:rPr>
              <a:t>ACUERDO OPERATIVO CON AMOCVIES MEDIANTE EL CUAL SE FORTALECE LA TRANSPARENCIA Y RENDICIÓN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e mecanismos de coordinación c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IP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levar a cabo la auditoría bajo el convenio firmado con Auditoría Superior de la Federación y la AMOCV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23:28:57Z</dcterms:created>
  <dc:creator>Gabriel Estrella Valenzuela</dc:creator>
  <dc:description/>
  <dc:language>en-US</dc:language>
  <cp:lastModifiedBy>Cecilia</cp:lastModifiedBy>
  <dcterms:modified xsi:type="dcterms:W3CDTF">2006-06-12T20:02:35Z</dcterms:modified>
  <cp:revision>163</cp:revision>
  <dc:subject/>
  <dc:title> UAB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