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4D8F-DB3A-4AA4-A180-B09553CADE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5CD-2A19-449D-969F-CCEFC799F4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2BE-6665-4CED-B92F-D0BDBC4843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BD5-7B5E-4136-B623-B37F9304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EE2-3150-4455-A1F6-80496B8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1AD-F63A-4AAB-9725-36915941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CD8-8DB1-40E4-91DD-1A087C7E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94DF-840E-4A04-9E4B-470B5694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4C05-4EF2-4101-B838-BA5068C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6D63-7A5A-4D61-843D-F588BE62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83CE-3458-431B-B80A-B5AA86C1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E9BE-CC05-45D0-B44A-B054EEFA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26C-FB67-43AD-B3FB-ED62A193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F0D-7349-430B-AFD3-CCE35DFD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511-9436-4D03-A735-5AD24FF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9A6-1353-47FC-A25F-ADD89FC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0286-2CAB-4EE7-8679-D90CD34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074B-DACD-4A60-A6B2-02BB3954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6E3-C640-46C9-A651-11B224A7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44E7-6A8A-4A21-B1D1-45A8C491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528-8C37-474D-97B1-095587CA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CFB-60E1-4015-AB4D-301D958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2F9-7F4C-4866-B88E-29847D9D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C55-06B4-4461-80A9-A6481D1A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6B0-F1B2-4F26-8270-F4D15F6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8D3-725D-4F10-90EB-E1AB1D1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C71-853F-442C-B8D7-C6BF043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121B-9AA6-4EBE-AF0B-B02595EF4D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62ED-B768-4F3F-B502-FDC64EE732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653000"/>
            <a:ext cx="89647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"COMISIÓN DE PRÁCTICAS CONTABLES DE LAS INSTITUCIONES PÚBLICAS DE EDUCACIÓN SUPERIOR</a:t>
            </a:r>
            <a:r>
              <a:rPr b="0" lang="es-ES" sz="1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s-ES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 ”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0"/>
            <a:ext cx="67755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ASOCIACIÓN MEXICANA DE ÓRGANOS DE CONTROL Y VIGILANCIA EN INSTITUCIONES DE EDUCACIÓN SUPERIOR</a:t>
            </a:r>
            <a:r>
              <a:rPr b="1" lang="es-ES" sz="18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038320" cy="223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20000" y="638172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3366ff"/>
                </a:solidFill>
                <a:latin typeface="Arial"/>
                <a:ea typeface="Times New Roman"/>
              </a:rPr>
              <a:t>15 de junio de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101600"/>
            <a:ext cx="8820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1.- Analizar y definir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naturaleza jurídica, económica y social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de las IPES, identificando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identidad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concepto del patrimonio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características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de la información financiera,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propósito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de la información financiera, definición de los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usuarios y necesidades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de los usuarios de la información emitida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2.-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Analizar y definir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aplicabilidad del marco conceptual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y de normas particulares de las Normas de Información Financiera</a:t>
            </a:r>
            <a:r>
              <a:rPr b="0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NIF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a las IP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3.- Revisar el marco internacional de la materia y en especifico las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GASB 34 y 35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 del Gubernamental Accounting Standards Board de EEUU y analizar los posibles aspectos aplicables a las IP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4.- Revisar los criterios y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postulados teóricos contables nacionales e internacionales</a:t>
            </a:r>
            <a:r>
              <a:rPr b="0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, para que, en su caso, sustentemos su aplicación en las IP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60280"/>
            <a:ext cx="8064360" cy="580680"/>
          </a:xfrm>
          <a:prstGeom prst="rect">
            <a:avLst/>
          </a:prstGeom>
          <a:solidFill>
            <a:srgbClr val="ff990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4"/>
                </a:solidFill>
                <a:latin typeface="Arial Unicode MS"/>
              </a:rPr>
              <a:t>CONTENIDO DE LAS ACTIVIDADES A DESARROLLAR PARA LA ELABORACIÓN DEL DOCUMENTO INTEGRAL A PRESENTAR AL CIN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101600"/>
            <a:ext cx="8820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5.- Analizar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ácticas contables específicas de las IP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. (Se recomienda como documento base “Prácticas Contables de las IPES”</a:t>
            </a:r>
            <a:r>
              <a:rPr b="1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6.-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vestigar las prácticas específicas en las IP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con la finalidad de conocer los criterios utilizados en materia de valuación, presentación y revelación de la información financiera que emite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7.-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laborar una propuesta integral de valuación, presentación y revelación de la información financiera de la IP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tomando en consideración el resultado de la investigación del punto 6, </a:t>
            </a:r>
            <a:r>
              <a:rPr b="0" lang="es-E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y comentarlo en un foro para lograr un consenso general de su aplicación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donde necesariamente deben de intervenir los responsables de emitir la información financier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8.- Elaborar la propuesta sobre las prácticas contables de las IPES en las IP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9.-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ega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la propuesta al CINIF a través del Consejo Directivo de AMOCVIES.</a:t>
            </a:r>
            <a:r>
              <a:rPr b="1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60280"/>
            <a:ext cx="8064360" cy="580680"/>
          </a:xfrm>
          <a:prstGeom prst="rect">
            <a:avLst/>
          </a:prstGeom>
          <a:solidFill>
            <a:srgbClr val="ff990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4"/>
                </a:solidFill>
                <a:latin typeface="Arial Unicode MS"/>
              </a:rPr>
              <a:t>CONTENIDO DE LAS ACTIVIDADES A DESARROLLAR PARA LA ELABORACIÓN DEL DOCUMENTO INTEGRAL A PRESENTAR AL CIN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96436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"COMISIÓN DE PRÁCTICAS CONTABLES DE LAS INSTITUCIONES PÚBLICAS DE EDUCACIÓN SUPERIOR</a:t>
            </a:r>
            <a:r>
              <a:rPr b="0" lang="es-ES" sz="1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s-ES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 ”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557360"/>
            <a:ext cx="6248160" cy="1143000"/>
          </a:xfrm>
          <a:prstGeom prst="rect">
            <a:avLst/>
          </a:prstGeom>
          <a:gradFill rotWithShape="0">
            <a:gsLst>
              <a:gs pos="0">
                <a:srgbClr val="727272"/>
              </a:gs>
              <a:gs pos="50000">
                <a:srgbClr val="f8f8f8"/>
              </a:gs>
              <a:gs pos="100000">
                <a:srgbClr val="7272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iembros de la Comisión de Prácticas Contables</a:t>
            </a:r>
            <a:r>
              <a:rPr b="1" lang="es-ES_tradnl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920520" cy="1008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2854440"/>
            <a:ext cx="777564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Jorge A. Huerta V.      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esponsable de la Comisión (U.V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AE y C.P. Asunción Torres M.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U. de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 Silvia Ampudia R.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A.C.J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Jorge Muñoz E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A.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Bertha G. Escobar G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Ignacio Flores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U.A.N.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Rodrigo González G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A.B.C.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Guillermo Jiménez H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N.A.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.C. Miguel Arroyo M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Q.R.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.P. Rafael Moreno Luce.-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.V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588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unión de la comisión de prácticas contables de la IPES y el CINI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ción de la propuesta de trabajo de la comisión  de prácticas contables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ción de la propuesta del programa de trabajo AMOCVIES - CINI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entarios fi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8132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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Reunión con el CINI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1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Fecha 24 de abril de 200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11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Se comentaron los antecedentes de los resultados presentados en el mes de septiembre de 2005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11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Se retomaron los trabajos ante el CINIF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11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  <a:ea typeface="Arial"/>
              </a:rPr>
              <a:t>Participación del grupo de investigadores de la UNAM y del ICPUV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7120" y="5257800"/>
            <a:ext cx="22971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26560" y="1962000"/>
            <a:ext cx="741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Definir las actividades que llevará a cabo la Comisión de Prácticas Contables para analizar, evaluar y definir, conjuntamente con el CINIF, los criterios de valuación, presentación y revelación de la Información Financiera que emiten las Universidades Públicas de Educación Superior, I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01760"/>
            <a:ext cx="6697800" cy="7038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OBJETIVO DEL PROYECTO D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COMISIÓN DE PRÁCTICAS CONTABLES DE LAS I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01600"/>
            <a:ext cx="88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1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Elaborar una propuesta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 del “Programa de Trabajo AMOCVIES – CINIF”,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en donde se definan las actividades a realizar por los integrantes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misión y grupo de investigadores unidos a esta activ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33"/>
                </a:solidFill>
                <a:latin typeface="Arial"/>
                <a:ea typeface="Times New Roman"/>
              </a:rPr>
              <a:t>(Actividad ya realiz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2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Envia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a los miembros de la comisión de prácticas contables, 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rograma de Trabajo AMOCVIES – CINIF”, para sus comentari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33"/>
                </a:solidFill>
                <a:latin typeface="Arial"/>
                <a:ea typeface="Times New Roman"/>
              </a:rPr>
              <a:t>(Actividad ya realiz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3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Somete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 a la Comisión de Prácticas Contables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para su aprobación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comentaros,  el  “Programa de Trabajo AMOCVIES – CINIF”, con la finalid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de enviarlo al grupo de investigadores y al propio CINIF. </a:t>
            </a:r>
            <a:r>
              <a:rPr b="0" lang="es-ES" sz="2000" spc="-1" strike="noStrike">
                <a:solidFill>
                  <a:srgbClr val="66ff33"/>
                </a:solidFill>
                <a:latin typeface="Arial"/>
                <a:ea typeface="Times New Roman"/>
              </a:rPr>
              <a:t>(Actividad y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33"/>
                </a:solidFill>
                <a:latin typeface="Arial"/>
                <a:ea typeface="Times New Roman"/>
              </a:rPr>
              <a:t>realiza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4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Envia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el “Programa de Trabajo AMOCVIES – CINIF” al grupo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investigadores de la UNA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5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Envia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el “Programa de Trabajo AMOCVIES – CINIF”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al director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CINI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260280"/>
            <a:ext cx="8064360" cy="580680"/>
          </a:xfrm>
          <a:prstGeom prst="rect">
            <a:avLst/>
          </a:prstGeom>
          <a:solidFill>
            <a:srgbClr val="ff990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4"/>
                </a:solidFill>
                <a:latin typeface="Arial Unicode MS"/>
              </a:rPr>
              <a:t>CONTENIDO DE LAS ACTIVIDADES A DESARROLLAR POR PARTE DE LA COMSIÓN DE PRÁCTICAS CONTABLES  DE LAS I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101600"/>
            <a:ext cx="8820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6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Desarrollar las actividad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contenidas en el “Programa de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AMOCVIES – CINIF”</a:t>
            </a:r>
            <a:r>
              <a:rPr b="1" lang="es-ES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7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Elaborar una propuesta integral de valuación, presentación y reve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de la información financiera de la IP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tomando en consideración 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esultado de la investigación resultante de las actividades presentadas 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“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rograma de Trabajo AMOCVIES – CINIF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8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Difundir a los miembros de la AMOCVI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la propuesta integra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resultado de los trabajos de investigación elaborado por la Comisión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prácticas con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9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Comunicar a los responsabl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de emitir la información financiera en l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Universidades Públicas, la propuesta integral, con la finalidad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informarles los criterios descritos en el mism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(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Reunión Informativa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10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Presentar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los resultados obtenidos al Comité Ejecutivo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AMOCVIES.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89000"/>
            <a:ext cx="8064720" cy="580680"/>
          </a:xfrm>
          <a:prstGeom prst="rect">
            <a:avLst/>
          </a:prstGeom>
          <a:solidFill>
            <a:srgbClr val="ff990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4"/>
                </a:solidFill>
                <a:latin typeface="Arial Unicode MS"/>
              </a:rPr>
              <a:t>CONTENIDO DE LAS ACTIVIDADES A DESARROLLAR POR PARTE DE LA COMSIÓN DE PRÁCTICAS CONTABLES  DE LAS IP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700280"/>
            <a:ext cx="882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11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Informar a los miembros de la AMOCVIES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en la próxima Asamble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General Ordinaria, la propuesta integral que será presentada ante el CINIF.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12.- Presentar la propuesta integral de las prácticas contables que realiz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las Universidades Públicas de Educación Superior al Consejo Directivo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AMOCV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13.- </a:t>
            </a:r>
            <a:r>
              <a:rPr b="0" lang="es-ES" sz="2000" spc="-1" strike="noStrike">
                <a:solidFill>
                  <a:srgbClr val="cccc00"/>
                </a:solidFill>
                <a:latin typeface="Arial"/>
                <a:ea typeface="Times New Roman"/>
              </a:rPr>
              <a:t>Presentar ante el CINIF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, la propuesta integral de las prácticas con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que realizan las Universidades Públicas de Educación Superior.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76280"/>
            <a:ext cx="8064360" cy="580680"/>
          </a:xfrm>
          <a:prstGeom prst="rect">
            <a:avLst/>
          </a:prstGeom>
          <a:solidFill>
            <a:srgbClr val="ff990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44"/>
                </a:solidFill>
                <a:latin typeface="Arial Unicode MS"/>
              </a:rPr>
              <a:t>CONTENIDO DE LAS ACTIVIDADES A DESARROLLAR PARA LA ELABORACIÓN DEL DOCUMENTO INTEGRAL A PRESENTAR AL CINI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26560" y="1962000"/>
            <a:ext cx="741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Analizar, evaluar y definir, conjuntamente la AMOCVIES  y el CINIF, los criterios de valuación, presentación y revelación de la Información Financiera que emiten las Universidades Públicas de Educación Superior, IP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1760"/>
            <a:ext cx="6697800" cy="100764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Tahoma"/>
              </a:rPr>
              <a:t>OBJETIVO DEL PROYECTO AMOCVIES - CINIF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05:21:17Z</dcterms:created>
  <dc:creator>Jorge Hernández Loeza</dc:creator>
  <dc:description/>
  <dc:language>en-US</dc:language>
  <cp:lastModifiedBy>Posgrado de Contadurìa y Administracion</cp:lastModifiedBy>
  <dcterms:modified xsi:type="dcterms:W3CDTF">2006-06-16T17:25:40Z</dcterms:modified>
  <cp:revision>93</cp:revision>
  <dc:subject/>
  <dc:title>"Diagnóstico Empresarial a la Empresa Construcciones C.M. S.A. de C.V.”</dc:title>
</cp:coreProperties>
</file>