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009F-37C0-411A-9325-9F725283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CDDD-6977-4555-BF1B-4781A718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D3BC5-342C-425A-8430-8F17BBC4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FEC4-5936-45B7-984E-1D435911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8B1E-36B8-4D19-83F8-7632203A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57B3-6235-4C84-83C7-65F520C4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2672-FE02-4B34-8AC0-766EE1E0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0AB2-A408-4F69-A267-F9E131C5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B75A-C410-43C9-A429-F14136C9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3C08-CF51-4838-8E6B-7EF14F40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1D30-18C0-4C23-950C-EE83489A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512B-9DE2-4CBF-B048-2AB28FD2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B90D-8263-479A-A260-8315ED6B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AA5E-893A-4830-9110-A64A2BA1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7DCD-91F8-4AF3-9CAA-87B080D0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E5D6-3188-4239-993C-FA277708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22C4-2B4A-446E-88BB-741934A5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7EA0-1757-4BCA-B7CA-968CC582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0A80-04BB-4B7B-87B4-AC082549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EAE9-8E5A-43AF-9F3D-4ED96539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8D6E4-E43F-4EAC-8204-382C4CA9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3911-6EE8-4350-B838-5069DD6D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3FED-FC37-4BB8-A3AC-DE234D55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995C-249A-4FB3-9084-50603ADA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F1F9-CDF6-47B8-83A0-5FFDA8D440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D8BD-2B9F-4A9E-8E4D-0B5DF56C2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Arial"/>
              </a:rPr>
              <a:t>Aspectos del Convenio con la Auditoria Superior de la Federació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 fecha 18 de junio de 2004 se firmó convenio con  l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uditoría Superior  de la Feder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con el objeto de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“establecer y desarrollar mecanismos de coordinación y colaboración técnica entre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“LA AMOCVIES”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y 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“LA </a:t>
            </a: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UDITORÍA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a través de políticas, criterios y mecanismos para el adecuado cumplimiento de sus atribuciones, en materia de fiscalización, de tal forma que estas acciones representen oportunidades para sumar a las Instituciones Públicas de Educación Superior en los procesos de transparencia y rendición de cuent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703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diante este convenio la IPES,  de acuerdo a su capacidad y con el apoyo de la AMOCVIES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drá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lizar auditoría a un ejercicio presupuestal a través de su Órgano de Control Inter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cha auditoría estará sujeta a los requisitos que para tal caso establezca  la Auditoría Superior de la Federación y deberá desarrollarse en los tiempos y términos que  se acuerden con la mi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Algunos aspectos que es  importante considerar para auditar mediante este esquema son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8872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El ejercicio presupuestal a auditar es el ejercicio inmediato anterior.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  En el caso de </a:t>
            </a: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PIFI y PROMEP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 por  cuestiones se ligar seguimiento y resultados, se puede extender a ejercicios anteri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2.- La auditoría incluye aspectos </a:t>
            </a: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financieros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1" lang="es-ES" sz="2300" spc="-1" strike="noStrike">
                <a:solidFill>
                  <a:srgbClr val="000000"/>
                </a:solidFill>
                <a:latin typeface="Arial"/>
              </a:rPr>
              <a:t>desempeño.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3.- Los costos en que incurre la Institución se refiere a traslados, hospedaje  y alimentación de la Comisión de Seguimiento, la cual se constituye por alrededor de cinco personas entre personal de la ASF y AMOCVIES.  Dicha comisión visita la institución entre tres y cinco veces, dependiendo del avance en el programa de trabaj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- El programa de trabajo se elabora de común acuerdo entre la Institución, ASF y AMOCV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.- Los tiempos para concluir la auditoría no deben rebasar el mes de octubre y/o novi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.- El informe final deber elaborarse con las características que indica la AS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r consiguiente, la IPES que decida auditarse mediante este esquema, deberá tomar en cuenta el siguiente procedimien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- Solicitar por escrito al Presidente del Consejo Directivo de AMOCVIES la intención de auditarse mediante el esquema del Convenio ASF- AMOCVIES.  Dicho oficio debe ser firmado por el  Rector de la Instit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- La Presidencia de AMOCVIES  pone a consideración de la ASF la solicitud de la Instit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- La ASF dictamina la procedencia o no de la solicit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.- En caso de ser afirmativa, se procede a comunicar a la Instit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- Se elabora convenio de colaboración entre la Institución y la AMOCVIES en  el cual se establece los compromisos de trabajo y económicos respecto a los gastos en  que incurre la Instit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4.- Se integra la Comisión de Seguimiento  en la cual participa personal designado por la AMOCVIES y la AS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5.- La Comisión establece el calendario de visitas de común acuerdo con el Titular del Órgano de Control Interno de la Institu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6.- El borrador del informe final es revisado por personal de la ASF previo a su entrega formal para ser integrado a la cuenta pública del ejercicio 20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5:17:37Z</dcterms:created>
  <dc:creator>atorres</dc:creator>
  <dc:description/>
  <dc:language>en-US</dc:language>
  <cp:lastModifiedBy>atorres</cp:lastModifiedBy>
  <dcterms:modified xsi:type="dcterms:W3CDTF">2006-06-16T15:36:16Z</dcterms:modified>
  <cp:revision>3</cp:revision>
  <dc:subject/>
  <dc:title>Aspectos del Convenio con la Auditoria Superior de la Federación</dc:title>
</cp:coreProperties>
</file>