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E58-A95C-4CC0-8716-093FA3C7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A1A-AE64-49BD-AFDB-60BC0F2E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B4D-5314-4A42-A46E-C3BECF93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B8F-F8A3-4D57-BF44-931C252A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3C92-7570-460B-BF72-F45230C2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C514-266B-401F-93DF-38BD29A6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895C-B16B-43A7-86F6-B4362433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8586-0B7A-4A6C-A3F4-0FDC50CA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CFE8-BEF6-4653-8C8A-1666A827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784F-B311-4AC4-804F-2AB444EB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18FB-C51B-44FB-84EB-EACB9F06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818-3089-44E8-8665-D75EAB8D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A99B-7CE0-4F9A-8855-70E7A075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8FF9-77D3-4ABF-A0C7-AF82F61D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D1A8-5F19-44C3-BA2F-28F9D98A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6892-6D48-44D9-A7CA-116C534A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D572-DD77-433D-B250-7184BC9D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155-996D-4E38-8DAE-64748E41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0E4-76FD-4FBC-8802-080AFA08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BEC-28E9-40F5-BA33-264C0F88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388-606D-4D02-A438-304CB47B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374-59A0-4DC7-BED9-290A2DB4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EAC-AFA9-4272-808D-8D2529C8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F00-B896-401B-A19F-511AD3D2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E3AE-938F-46A4-ADBE-36F8A3AA586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C759-C434-41D2-9005-CEFDDDA1C2D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6760" y="3621240"/>
            <a:ext cx="8640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es-ES" sz="4800" spc="-1" strike="noStrike">
                <a:solidFill>
                  <a:srgbClr val="feec94"/>
                </a:solidFill>
                <a:latin typeface="Times New Roman"/>
              </a:rPr>
              <a:t>PRESENTE Y FUTURO DE LOS ORGANOS INTERNOS DE CONTROL Y VIGILANCIA EN LA IES”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133800" y="276120"/>
            <a:ext cx="27655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eec94"/>
                </a:solidFill>
                <a:latin typeface="Times New Roman"/>
              </a:rPr>
              <a:t>AYER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47640" y="2205000"/>
            <a:ext cx="619308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CTIVIDAD MINIMIZ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3716280"/>
            <a:ext cx="619308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COS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5229360"/>
            <a:ext cx="619308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TILIZ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eec94"/>
                </a:solidFill>
                <a:latin typeface="Times New Roman"/>
              </a:rPr>
              <a:t>HOY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2205000"/>
            <a:ext cx="619308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YOR PRES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716280"/>
            <a:ext cx="619308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ES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5229360"/>
            <a:ext cx="619308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IA EN LA INDEPEND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eec94"/>
                </a:solidFill>
                <a:latin typeface="Times New Roman"/>
              </a:rPr>
              <a:t>MAÑANA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2205000"/>
            <a:ext cx="619308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CTIVIDAD RELEVANTE EN LA 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3716280"/>
            <a:ext cx="619308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ARTICIPACIÓN EN TODAS LAS ÁRE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SUCEPTIBLES A REVIS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5229360"/>
            <a:ext cx="619308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ÓRGANO INDEPENDIENTE C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MAYOR AUTONOMÍ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eec94"/>
                </a:solidFill>
                <a:latin typeface="Times New Roman"/>
              </a:rPr>
              <a:t>AMOCVIE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2133720"/>
            <a:ext cx="6193080" cy="1079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OMO APOYO EN EL TRANSITAR 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ÓRGANOS INTERNOS DE 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3589200"/>
            <a:ext cx="6193080" cy="1079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MÁS EFICIENTES Y EFICA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5086440"/>
            <a:ext cx="6193080" cy="1079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REPRESENTACIÓN EN 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ÁMBITO NACION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87400" y="836640"/>
          <a:ext cx="79236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7400" y="836640"/>
                    <a:ext cx="79236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8:56:27Z</dcterms:created>
  <dc:creator>Auditoria Interna</dc:creator>
  <dc:description/>
  <dc:language>en-US</dc:language>
  <cp:lastModifiedBy>Auditoria Interna</cp:lastModifiedBy>
  <dcterms:modified xsi:type="dcterms:W3CDTF">2006-11-03T20:12:58Z</dcterms:modified>
  <cp:revision>6</cp:revision>
  <dc:subject/>
  <dc:title>“PRESENTE Y FUTURO DE LOS ORGANOS INTERNOS DE CONTROL Y VIGILANCIA EN LA IES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  <property fmtid="{D5CDD505-2E9C-101B-9397-08002B2CF9AE}" pid="3" name="_AdHocReviewCycleID">
    <vt:r8>2106325977</vt:r8>
  </property>
  <property fmtid="{D5CDD505-2E9C-101B-9397-08002B2CF9AE}" pid="4" name="_AuthorEmail">
    <vt:lpwstr>gjimenez@patronato.unam.mx</vt:lpwstr>
  </property>
  <property fmtid="{D5CDD505-2E9C-101B-9397-08002B2CF9AE}" pid="5" name="_AuthorEmailDisplayName">
    <vt:lpwstr>Jimenez, Guillermo</vt:lpwstr>
  </property>
  <property fmtid="{D5CDD505-2E9C-101B-9397-08002B2CF9AE}" pid="6" name="_EmailSubject">
    <vt:lpwstr>INFORMACIÓN </vt:lpwstr>
  </property>
</Properties>
</file>