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76F2F-6107-4DC6-9B38-0AB42136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71DAA-30CB-4DDB-B84C-9EE75235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CB92-ADD4-482C-A2BE-245EE07CC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BB6F4-884A-464B-AFD6-F7F605D40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D86B-7FEC-48A9-8242-36B68EE1D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029A-62DA-408B-8B70-03DAD491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BE2BE-2E72-4336-9D9F-9696D104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7DA47-C33B-46C4-A8C2-D2E562BF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2CA9-C406-42CF-A669-7F86812A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8A34-96C8-477B-82A7-47CC2980F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9DB6-E816-4FFF-B1E6-0AA3787B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469A-8656-43F8-9CD8-297A2E0AD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A1E3-32A3-4694-A229-1DC681DD3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8200" y="620640"/>
            <a:ext cx="7921440" cy="3240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LAS RECIENTES REFORMAS FISCALES Y SU IMPACTO EN LAS UNIVERSIDADES</a:t>
            </a:r>
            <a:endParaRPr b="0" lang="en-US" sz="4800" spc="-1" strike="noStrike">
              <a:solidFill>
                <a:srgbClr val="000000"/>
              </a:solidFill>
              <a:latin typeface="Arial"/>
            </a:endParaRPr>
          </a:p>
        </p:txBody>
      </p:sp>
      <p:sp>
        <p:nvSpPr>
          <p:cNvPr id="42" name=""/>
          <p:cNvSpPr/>
          <p:nvPr/>
        </p:nvSpPr>
        <p:spPr>
          <a:xfrm>
            <a:off x="2392920" y="4402080"/>
            <a:ext cx="6636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positor: L.C. Marco Antonio Barriguete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lonso Concha y Cia., S.C.</a:t>
            </a:r>
            <a:endParaRPr b="0" lang="en-US" sz="2400" spc="-1" strike="noStrike">
              <a:solidFill>
                <a:srgbClr val="000000"/>
              </a:solidFill>
              <a:latin typeface="Arial"/>
            </a:endParaRPr>
          </a:p>
        </p:txBody>
      </p:sp>
      <p:sp>
        <p:nvSpPr>
          <p:cNvPr id="43" name=""/>
          <p:cNvSpPr/>
          <p:nvPr/>
        </p:nvSpPr>
        <p:spPr>
          <a:xfrm>
            <a:off x="5507640" y="5981760"/>
            <a:ext cx="305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 de noviembre de 2006</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61C985B-E658-4CA8-8544-D4B35F59E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62" name=""/>
          <p:cNvSpPr/>
          <p:nvPr/>
        </p:nvSpPr>
        <p:spPr>
          <a:xfrm>
            <a:off x="179280" y="1484280"/>
            <a:ext cx="8785440" cy="453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la 5ta RM, se reforman las reglas 5.1.21 y 5.1.22, efectuando los siguientes cambios (DOF 29/Sep/06):</a:t>
            </a: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elimina cuadro de fechas para la presentación de las declaraciones correspondientes a julio a diciembre de 2006.</a:t>
            </a: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monto de las operaciones que no se relacionan individualmente se aumenta a $50,000.</a:t>
            </a: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deroga el artículo Tercero Transitorio de la 4ta RM, relativo al monto de las operaciones no relacionadas que aplicaría a partir de 2007 (artículo Noveno del Decreto)</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1BA44B5-959E-48CB-A06D-BA0376AA3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64" name=""/>
          <p:cNvSpPr/>
          <p:nvPr/>
        </p:nvSpPr>
        <p:spPr>
          <a:xfrm>
            <a:off x="179280" y="1844640"/>
            <a:ext cx="8785440" cy="1836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4.   Se tendrá por cumplida esta obligación en 2006, si se presenta la información a que se refiere el artículo 101, fracción V de la LISR (pagos al extranjero información de clientes y proveedores) (Artículo 4 Transitorio)</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3A7479DB-7D85-427B-98E7-2B5E116511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66" name=""/>
          <p:cNvSpPr/>
          <p:nvPr/>
        </p:nvSpPr>
        <p:spPr>
          <a:xfrm>
            <a:off x="179280" y="1409760"/>
            <a:ext cx="8785440" cy="514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claraciones informativas a que se refiere el artículo 32-G del CFF:</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Se presentan a partir de enero de 2007.</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 No se precisan los formatos a utilizar (se espera que sea en el mismo formato A-29)</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 Al eliminar la primera redacción de la Regla 2.1.23, se entendería que se tiene esta obligación además de la del IVA; sin embargo, se espera sea aclarado en RM posteriores.</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 Aún no se aclara si la declaración de retenciones de ISR debe incluir las retenciones de salarios (se considera que sólo serían otras retenciones)</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D0651F5-97FA-4E16-995E-A50083C4F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68" name=""/>
          <p:cNvSpPr/>
          <p:nvPr/>
        </p:nvSpPr>
        <p:spPr>
          <a:xfrm>
            <a:off x="179280" y="1413000"/>
            <a:ext cx="8785440" cy="453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claraciones informativas de IVA:</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Se presentan a partir de enero de 2007.</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 Si se presenta la informativa de clientes y proveedores por 2006, se está relevado de presentar estas informativas (en el caso de organismos descentralizados que tributan conforme al Título III de la LISR, observar que sólo tienen las obligaciones a que se refiere el art. 102 de la LISR)</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 El SAT aún no cuenta con el programa electrónico del formato A-29.</a:t>
            </a:r>
            <a:r>
              <a:rPr b="0" lang="es-MX" sz="2200" spc="-1" strike="noStrike">
                <a:solidFill>
                  <a:srgbClr val="000000"/>
                </a:solidFill>
                <a:latin typeface="Arial"/>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5AFC9D2-062E-4005-B21E-57F4021E5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70" name=""/>
          <p:cNvSpPr/>
          <p:nvPr/>
        </p:nvSpPr>
        <p:spPr>
          <a:xfrm>
            <a:off x="179280" y="1560600"/>
            <a:ext cx="8785440" cy="349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claraciones informativas de IVA:</a:t>
            </a: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 Se deberán implementar los controles necesarios que permitan obtener la información relativa a pagos efectuados a proveedores, identificando el IVA pagado, el valor de actos o actividades, y conciliando contra declaraciones y registros contables (apoyo con el área de sistemas)</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74D9806-A9B2-4BF0-8183-B24B7FFAE9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618560" y="2310840"/>
            <a:ext cx="57358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ción de la forma oficial A-29 “Declaración Informativa de Operaciones con Terc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72" name=""/>
          <p:cNvGraphicFramePr/>
          <p:nvPr/>
        </p:nvGraphicFramePr>
        <p:xfrm>
          <a:off x="2050920" y="2556000"/>
          <a:ext cx="4897440" cy="4041720"/>
        </p:xfrm>
        <a:graphic>
          <a:graphicData uri="http://schemas.openxmlformats.org/drawingml/2006/table">
            <a:tbl>
              <a:tblPr/>
              <a:tblGrid>
                <a:gridCol w="489744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NFORMACION DE IDENTIFICACION DEL PROVEEDOR O TERCE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IPO DE TERCE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IPO DE OPERAC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FC</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UMERO DE ID FISCAL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MBRE DEL EXTRANJE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IS DE RESID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ACIONALIDA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NFORMACION DEL IMPUESTO AL VALOR AGREGAD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311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A LA TASA DEL 15%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A LA TASA DEL 15%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O DEL IVA PAGADO NO ACREDITABLE A LA TASA DEL 15%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L IVA PAGADO NO ACREDITABLE A LA TASA DEL 15%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A LA TASA DEL 10%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A LA TASA DEL 10%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O DEL IVA PAGADO NO ACREDITABLE A LA TASA DEL 10%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1170360" y="1381680"/>
            <a:ext cx="7201440" cy="764280"/>
          </a:xfrm>
          <a:prstGeom prst="rect">
            <a:avLst/>
          </a:prstGeom>
          <a:noFill/>
          <a:ln w="0">
            <a:noFill/>
          </a:ln>
        </p:spPr>
        <p:style>
          <a:lnRef idx="0"/>
          <a:fillRef idx="0"/>
          <a:effectRef idx="0"/>
          <a:fontRef idx="minor"/>
        </p:style>
        <p:txBody>
          <a:bodyPr wrap="none" lIns="182520" rIns="155520" tIns="46800" bIns="46800" anchor="ctr">
            <a:spAutoFit/>
          </a:bodyPr>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FORMATO A-29 publicado en el Anexo 1 de la 4ta. RM</a:t>
            </a:r>
            <a:endParaRPr b="0" lang="en-US" sz="2200" spc="-1" strike="noStrike">
              <a:solidFill>
                <a:srgbClr val="000000"/>
              </a:solidFill>
              <a:latin typeface="Arial"/>
            </a:endParaRPr>
          </a:p>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en el DOF del 30 de agosto de 2006</a:t>
            </a:r>
            <a:endParaRPr b="0" lang="en-US" sz="2200" spc="-1" strike="noStrike">
              <a:solidFill>
                <a:srgbClr val="000000"/>
              </a:solidFill>
              <a:latin typeface="Arial"/>
            </a:endParaRPr>
          </a:p>
        </p:txBody>
      </p:sp>
      <p:sp>
        <p:nvSpPr>
          <p:cNvPr id="74"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2" name="PlaceHolder 1"/>
          <p:cNvSpPr>
            <a:spLocks noGrp="1"/>
          </p:cNvSpPr>
          <p:nvPr>
            <p:ph type="sldNum" idx="3"/>
          </p:nvPr>
        </p:nvSpPr>
        <p:spPr/>
        <p:txBody>
          <a:bodyPr/>
          <a:p>
            <a:fld id="{55A1BE11-C47C-49E5-8C6F-736AD5C65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70360" y="1381680"/>
            <a:ext cx="7201440" cy="764280"/>
          </a:xfrm>
          <a:prstGeom prst="rect">
            <a:avLst/>
          </a:prstGeom>
          <a:noFill/>
          <a:ln w="0">
            <a:noFill/>
          </a:ln>
        </p:spPr>
        <p:style>
          <a:lnRef idx="0"/>
          <a:fillRef idx="0"/>
          <a:effectRef idx="0"/>
          <a:fontRef idx="minor"/>
        </p:style>
        <p:txBody>
          <a:bodyPr wrap="none" lIns="182520" rIns="155520" tIns="46800" bIns="46800" anchor="ctr">
            <a:spAutoFit/>
          </a:bodyPr>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FORMATO A-29 publicado en el Anexo 1 de la 4ta. RM</a:t>
            </a:r>
            <a:endParaRPr b="0" lang="en-US" sz="2200" spc="-1" strike="noStrike">
              <a:solidFill>
                <a:srgbClr val="000000"/>
              </a:solidFill>
              <a:latin typeface="Arial"/>
            </a:endParaRPr>
          </a:p>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en el DOF del 30 de agosto de 2006</a:t>
            </a:r>
            <a:endParaRPr b="0" lang="en-US" sz="2200" spc="-1" strike="noStrike">
              <a:solidFill>
                <a:srgbClr val="000000"/>
              </a:solidFill>
              <a:latin typeface="Arial"/>
            </a:endParaRPr>
          </a:p>
        </p:txBody>
      </p:sp>
      <p:sp>
        <p:nvSpPr>
          <p:cNvPr id="76"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graphicFrame>
        <p:nvGraphicFramePr>
          <p:cNvPr id="77" name=""/>
          <p:cNvGraphicFramePr/>
          <p:nvPr/>
        </p:nvGraphicFramePr>
        <p:xfrm>
          <a:off x="2411280" y="2276640"/>
          <a:ext cx="4752720" cy="4324320"/>
        </p:xfrm>
        <a:graphic>
          <a:graphicData uri="http://schemas.openxmlformats.org/drawingml/2006/table">
            <a:tbl>
              <a:tblPr/>
              <a:tblGrid>
                <a:gridCol w="4752720"/>
              </a:tblGrid>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L IVA PAGADO NO ACREDITABLE A LA TASA DEL 10%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EN LA IMPORTACION DE BIENES Y SERVICIOS A LA TASA DEL 15%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EN LA IMPORTACION DE BIENES Y SERVICIOS A LA TASA DEL 15%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O DEL IVA PAGADO NO ACREDITABLE POR LA IMPORTACION A LA TASA DEL 15%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L IVA PAGADO NO ACREDITABLE POR LA IMPORTACION A LA TASA DEL 15%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EN LA IMPORTACION DE BIENES Y SERVICIOS A LA TASA DEL 10%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EN LA IMPORTACION DE BIENES Y SERVICIOS A LA TASA DEL 10% DE IV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O DEL IVA PAGADO NO ACREDITABLE POR LA IMPORTACION A LA TASA DEL 10% (CORRESPONDIENTE EN LA PROPORCION DE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L IVA PAGADO NO ACREDITABLE POR LA IMPORTACION A LA TASA DEL 10% (CORRESPONDIENTES EN LA PROPORCION A LAS DEDUCCIONES AUTORIZAD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D33A12DA-AE9A-40E2-973E-DDEC8EB23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170360" y="1381680"/>
            <a:ext cx="7201440" cy="764280"/>
          </a:xfrm>
          <a:prstGeom prst="rect">
            <a:avLst/>
          </a:prstGeom>
          <a:noFill/>
          <a:ln w="0">
            <a:noFill/>
          </a:ln>
        </p:spPr>
        <p:style>
          <a:lnRef idx="0"/>
          <a:fillRef idx="0"/>
          <a:effectRef idx="0"/>
          <a:fontRef idx="minor"/>
        </p:style>
        <p:txBody>
          <a:bodyPr wrap="none" lIns="182520" rIns="155520" tIns="46800" bIns="46800" anchor="ctr">
            <a:spAutoFit/>
          </a:bodyPr>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FORMATO A-29 publicado en el Anexo 1 de la 4ta. RM</a:t>
            </a:r>
            <a:endParaRPr b="0" lang="en-US" sz="2200" spc="-1" strike="noStrike">
              <a:solidFill>
                <a:srgbClr val="000000"/>
              </a:solidFill>
              <a:latin typeface="Arial"/>
            </a:endParaRPr>
          </a:p>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en el DOF del 30 de agosto de 2006</a:t>
            </a:r>
            <a:endParaRPr b="0" lang="en-US" sz="2200" spc="-1" strike="noStrike">
              <a:solidFill>
                <a:srgbClr val="000000"/>
              </a:solidFill>
              <a:latin typeface="Arial"/>
            </a:endParaRPr>
          </a:p>
        </p:txBody>
      </p:sp>
      <p:sp>
        <p:nvSpPr>
          <p:cNvPr id="79"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graphicFrame>
        <p:nvGraphicFramePr>
          <p:cNvPr id="80" name=""/>
          <p:cNvGraphicFramePr/>
          <p:nvPr/>
        </p:nvGraphicFramePr>
        <p:xfrm>
          <a:off x="2552760" y="2363760"/>
          <a:ext cx="4540320" cy="4089240"/>
        </p:xfrm>
        <a:graphic>
          <a:graphicData uri="http://schemas.openxmlformats.org/drawingml/2006/table">
            <a:tbl>
              <a:tblPr/>
              <a:tblGrid>
                <a:gridCol w="45403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EN LA IMPORTACION DE BIENES Y SERVICIOS POR LOS QUE NO SE PAGARA EL IVA (EXENT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EN LA IMPORTACION DE BIENES Y SERVICIOS POR LOS QUE NO SE PAGARA EL IVA (EXENT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DEMAS ACTOS O ACTIVIDADES PAGADOS A LA TASA DEL 0% DE IV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DEMAS ACTOS O ACTIVIDADES PAGADOS A LA TASA DEL 0% DE IV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LOR DE LOS ACTOS O ACTIVIDADES PAGADOS POR LOS QUE NO SE PAGARA EL IVA (EXENT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LOS ACTOS O ACTIVIDADES PAGADOS POR LOS QUE NO SE PAGARA EL IVA (EXENT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VA RETENIDO POR EL CONTRIBUYENT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IVA RETENIDO POR EL CONTRIBUYENT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IVA TRASLADADO AL CONTRIBUYENTE EXCEPTO IMPORTACIONES DE BIENES Y SERVICIOS (PAGAD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 IVA PAGADO EN LAS IMPORTACIONES DE BIENES Y SERVICI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VA CORRESPONDIENTE A LAS DEVOLUCIONES, DESCUENTOS Y BONIFICACIONES SOBRE COMPR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 DEL IVA CORRESPONDIENTE A LAS DEVOLUCIONES, DESCUENTOS Y BONIFICACIONES SOBRE COMPR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8B0A280-78ED-4EC7-8702-A3E061832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70360" y="1441800"/>
            <a:ext cx="7201440" cy="764280"/>
          </a:xfrm>
          <a:prstGeom prst="rect">
            <a:avLst/>
          </a:prstGeom>
          <a:noFill/>
          <a:ln w="0">
            <a:noFill/>
          </a:ln>
        </p:spPr>
        <p:style>
          <a:lnRef idx="0"/>
          <a:fillRef idx="0"/>
          <a:effectRef idx="0"/>
          <a:fontRef idx="minor"/>
        </p:style>
        <p:txBody>
          <a:bodyPr wrap="none" lIns="182520" rIns="155520" tIns="46800" bIns="46800" anchor="ctr">
            <a:spAutoFit/>
          </a:bodyPr>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FORMATO A-29 publicado en el Anexo 1 de la 4ta. RM</a:t>
            </a:r>
            <a:endParaRPr b="0" lang="en-US" sz="2200" spc="-1" strike="noStrike">
              <a:solidFill>
                <a:srgbClr val="000000"/>
              </a:solidFill>
              <a:latin typeface="Arial"/>
            </a:endParaRPr>
          </a:p>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en el DOF del 30 de agosto de 2006</a:t>
            </a:r>
            <a:endParaRPr b="0" lang="en-US" sz="2200" spc="-1" strike="noStrike">
              <a:solidFill>
                <a:srgbClr val="000000"/>
              </a:solidFill>
              <a:latin typeface="Arial"/>
            </a:endParaRPr>
          </a:p>
        </p:txBody>
      </p:sp>
      <p:sp>
        <p:nvSpPr>
          <p:cNvPr id="82"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83" name=""/>
          <p:cNvSpPr/>
          <p:nvPr/>
        </p:nvSpPr>
        <p:spPr>
          <a:xfrm>
            <a:off x="1759680" y="2598840"/>
            <a:ext cx="52084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álogos de la forma oficial A-29 “Declaración Informativa</a:t>
            </a:r>
            <a:br>
              <a:rPr sz="1400"/>
            </a:br>
            <a:r>
              <a:rPr b="1" lang="en-US" sz="1400" spc="-1" strike="noStrike">
                <a:solidFill>
                  <a:srgbClr val="000000"/>
                </a:solidFill>
                <a:latin typeface="Arial"/>
                <a:ea typeface="Times New Roman"/>
              </a:rPr>
              <a:t>de Operaciones con Tercer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84" name=""/>
          <p:cNvGraphicFramePr/>
          <p:nvPr/>
        </p:nvGraphicFramePr>
        <p:xfrm>
          <a:off x="2411280" y="3500280"/>
          <a:ext cx="4238640" cy="1819440"/>
        </p:xfrm>
        <a:graphic>
          <a:graphicData uri="http://schemas.openxmlformats.org/drawingml/2006/table">
            <a:tbl>
              <a:tblPr/>
              <a:tblGrid>
                <a:gridCol w="423864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po de Tercer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eedor Nacional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eedor Extranjero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cionistas, Socios o Integra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enciones (excepto provee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eedor glob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99E36327-D3D4-4CFE-84A6-1B727B6C1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70360" y="1441800"/>
            <a:ext cx="7201440" cy="764280"/>
          </a:xfrm>
          <a:prstGeom prst="rect">
            <a:avLst/>
          </a:prstGeom>
          <a:noFill/>
          <a:ln w="0">
            <a:noFill/>
          </a:ln>
        </p:spPr>
        <p:style>
          <a:lnRef idx="0"/>
          <a:fillRef idx="0"/>
          <a:effectRef idx="0"/>
          <a:fontRef idx="minor"/>
        </p:style>
        <p:txBody>
          <a:bodyPr wrap="none" lIns="182520" rIns="155520" tIns="46800" bIns="46800" anchor="ctr">
            <a:spAutoFit/>
          </a:bodyPr>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FORMATO A-29 publicado en el Anexo 1 de la 4ta. RM</a:t>
            </a:r>
            <a:endParaRPr b="0" lang="en-US" sz="2200" spc="-1" strike="noStrike">
              <a:solidFill>
                <a:srgbClr val="000000"/>
              </a:solidFill>
              <a:latin typeface="Arial"/>
            </a:endParaRPr>
          </a:p>
          <a:p>
            <a:pPr algn="ctr">
              <a:tabLst>
                <a:tab algn="l" pos="0"/>
                <a:tab algn="ctr" pos="2806560"/>
                <a:tab algn="r" pos="5486400"/>
                <a:tab algn="l" pos="6400800"/>
                <a:tab algn="l" pos="7315200"/>
                <a:tab algn="l" pos="8229600"/>
                <a:tab algn="l" pos="9144000"/>
                <a:tab algn="l" pos="10058400"/>
              </a:tabLst>
            </a:pPr>
            <a:r>
              <a:rPr b="0" lang="en-US" sz="2200" spc="-1" strike="noStrike" u="sng">
                <a:solidFill>
                  <a:srgbClr val="000000"/>
                </a:solidFill>
                <a:uFillTx/>
                <a:latin typeface="Arial"/>
              </a:rPr>
              <a:t>en el DOF del 30 de agosto de 2006</a:t>
            </a:r>
            <a:endParaRPr b="0" lang="en-US" sz="2200" spc="-1" strike="noStrike">
              <a:solidFill>
                <a:srgbClr val="000000"/>
              </a:solidFill>
              <a:latin typeface="Arial"/>
            </a:endParaRPr>
          </a:p>
        </p:txBody>
      </p:sp>
      <p:sp>
        <p:nvSpPr>
          <p:cNvPr id="86"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3 CONSIDERACIONES PARA </a:t>
            </a:r>
            <a:br>
              <a:rPr sz="3400"/>
            </a:br>
            <a:r>
              <a:rPr b="1" lang="es-ES_tradnl" sz="3400" spc="-1" strike="noStrike" u="sng">
                <a:solidFill>
                  <a:srgbClr val="000000"/>
                </a:solidFill>
                <a:uFillTx/>
                <a:latin typeface="Arial"/>
              </a:rPr>
              <a:t>NUEVAS OBLIGACIONES</a:t>
            </a:r>
            <a:endParaRPr b="0" lang="en-US" sz="3400" spc="-1" strike="noStrike">
              <a:solidFill>
                <a:srgbClr val="000000"/>
              </a:solidFill>
              <a:latin typeface="Arial"/>
            </a:endParaRPr>
          </a:p>
        </p:txBody>
      </p:sp>
      <p:sp>
        <p:nvSpPr>
          <p:cNvPr id="87" name=""/>
          <p:cNvSpPr/>
          <p:nvPr/>
        </p:nvSpPr>
        <p:spPr>
          <a:xfrm>
            <a:off x="1759680" y="2347920"/>
            <a:ext cx="52084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álogos de la forma oficial A-29 “Declaración Informativa</a:t>
            </a:r>
            <a:br>
              <a:rPr sz="1400"/>
            </a:br>
            <a:r>
              <a:rPr b="1" lang="en-US" sz="1400" spc="-1" strike="noStrike">
                <a:solidFill>
                  <a:srgbClr val="000000"/>
                </a:solidFill>
                <a:latin typeface="Arial"/>
                <a:ea typeface="Times New Roman"/>
              </a:rPr>
              <a:t>de Operaciones con Tercer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88" name=""/>
          <p:cNvGraphicFramePr/>
          <p:nvPr/>
        </p:nvGraphicFramePr>
        <p:xfrm>
          <a:off x="2556000" y="3052800"/>
          <a:ext cx="4203360" cy="3400560"/>
        </p:xfrm>
        <a:graphic>
          <a:graphicData uri="http://schemas.openxmlformats.org/drawingml/2006/table">
            <a:tbl>
              <a:tblPr/>
              <a:tblGrid>
                <a:gridCol w="420336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Operació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videndos provenientes de CUF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videndos no provenientes de CUF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tilidades por reembolso o reducción de capit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tilidades por liquidación de la persona mor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videndos provenientes de CUFINR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manente distribuido por personas morales no lucrativ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quisición de otros bienes intangibl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mio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stación de Servicios Profesionale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rendamiento de Inmuebl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es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r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EPS retenido a contribuyent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F09695C-F94C-47C0-ACE9-6958E676E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4280"/>
            <a:ext cx="9144000" cy="157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1 REFORMAS AL CÓDIGO FISCAL</a:t>
            </a:r>
            <a:br>
              <a:rPr sz="3400"/>
            </a:br>
            <a:r>
              <a:rPr b="1" lang="es-ES_tradnl" sz="3400" spc="-1" strike="noStrike" u="sng">
                <a:solidFill>
                  <a:srgbClr val="000000"/>
                </a:solidFill>
                <a:uFillTx/>
                <a:latin typeface="Arial"/>
              </a:rPr>
              <a:t>DE LA FEDERACIÓN</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45" name=""/>
          <p:cNvSpPr/>
          <p:nvPr/>
        </p:nvSpPr>
        <p:spPr>
          <a:xfrm>
            <a:off x="125280" y="1744560"/>
            <a:ext cx="8839440" cy="470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ueva obligación para entidades integrantes de la Federación, Entidades Federativas, DF, y organismos descentralizados, de presentar las siguientes declaraciones informativas (Art. 32-G):</a:t>
            </a:r>
            <a:endParaRPr b="0" lang="en-US" sz="2200" spc="-1" strike="noStrike">
              <a:solidFill>
                <a:srgbClr val="000000"/>
              </a:solidFill>
              <a:latin typeface="Arial"/>
            </a:endParaRPr>
          </a:p>
          <a:p>
            <a:pPr marL="457200" indent="-457200" algn="just">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sonas a las que les hubieran efectuado retenciones de ISR, así como a residentes en el extranjero (en principio se entiende todas, incluyendo sueldos).</a:t>
            </a: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veedores a los que les hubieran efectuado pagos, identificando el valor de los actos o actividades, así como el IVA que les fue trasladado.</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619EF6B5-1C04-4676-8632-38F555631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4 MULTAS RELACIONADAS CON NUEVAS OBLIGACIONES</a:t>
            </a:r>
            <a:endParaRPr b="0" lang="en-US" sz="3400" spc="-1" strike="noStrike">
              <a:solidFill>
                <a:srgbClr val="000000"/>
              </a:solidFill>
              <a:latin typeface="Arial"/>
            </a:endParaRPr>
          </a:p>
        </p:txBody>
      </p:sp>
      <p:sp>
        <p:nvSpPr>
          <p:cNvPr id="90" name=""/>
          <p:cNvSpPr/>
          <p:nvPr/>
        </p:nvSpPr>
        <p:spPr>
          <a:xfrm>
            <a:off x="539640" y="1378080"/>
            <a:ext cx="8136000" cy="50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ts. 81 y 82, fraccs. XVI CFF (reformadas en Decreto del 28/Jun/06):</a:t>
            </a:r>
            <a:endParaRPr b="0" lang="en-US" sz="1800" spc="-1" strike="noStrike">
              <a:solidFill>
                <a:srgbClr val="000000"/>
              </a:solidFill>
              <a:latin typeface="Arial"/>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no presentar la información a que se refiere la fracción V del art. 32 de la LIVA, o presentarla incompleta o con errores: de $7,750 a $15,500</a:t>
            </a:r>
            <a:endParaRPr b="0" lang="en-US" sz="1800" spc="-1" strike="noStrike">
              <a:solidFill>
                <a:srgbClr val="000000"/>
              </a:solidFill>
              <a:latin typeface="Arial"/>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ts. 81 y 82, fraccs. XXVI CFF (adicionadas en Decreto del 28/Jun/06):</a:t>
            </a:r>
            <a:endParaRPr b="0" lang="en-US" sz="1800" spc="-1" strike="noStrike">
              <a:solidFill>
                <a:srgbClr val="000000"/>
              </a:solidFill>
              <a:latin typeface="Arial"/>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no presentar la información a que se refiere la fracción VIII del art. 32 de la LIVA, o presentarla incompleta o con errores: de $7,406 a $14,811</a:t>
            </a:r>
            <a:endParaRPr b="0" lang="en-US" sz="1800" spc="-1" strike="noStrike">
              <a:solidFill>
                <a:srgbClr val="000000"/>
              </a:solidFill>
              <a:latin typeface="Arial"/>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ts 81 y 82, fraccs. XXVII CFF (adicionadas en Decreto del 28/Jun/06):</a:t>
            </a:r>
            <a:endParaRPr b="0" lang="en-US" sz="1800" spc="-1" strike="noStrike">
              <a:solidFill>
                <a:srgbClr val="000000"/>
              </a:solidFill>
              <a:latin typeface="Arial"/>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no presentar la información a que se refiere el art. 32-G del CFF, o presentarla incompleta o con errores: de $7,406 a $14,81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D25428-12CA-4E78-B9F5-67BEA658812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4280"/>
            <a:ext cx="9144000" cy="157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1 REFORMAS AL CÓDIGO FISCAL</a:t>
            </a:r>
            <a:br>
              <a:rPr sz="3400"/>
            </a:br>
            <a:r>
              <a:rPr b="1" lang="es-ES_tradnl" sz="3400" spc="-1" strike="noStrike" u="sng">
                <a:solidFill>
                  <a:srgbClr val="000000"/>
                </a:solidFill>
                <a:uFillTx/>
                <a:latin typeface="Arial"/>
              </a:rPr>
              <a:t>DE LA FEDERACIÓN</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47" name=""/>
          <p:cNvSpPr/>
          <p:nvPr/>
        </p:nvSpPr>
        <p:spPr>
          <a:xfrm>
            <a:off x="125280" y="1916280"/>
            <a:ext cx="8839440" cy="4444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echa de presentación: día 17 del mes posterior al que corresponda la información.</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orma de presentación: medios electrónicos.</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isposiciones transitorias no se hizo mención respecto a la entrada en vigor de estas obligaciones, por lo que se entendía se encontraban vigentes a partir del día siguiente a la publicación del Decreto.</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CE83618-8CC1-47FB-B0D7-BCBD12F8ED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44280"/>
            <a:ext cx="9144000" cy="157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1 REFORMAS AL CÓDIGO FISCAL</a:t>
            </a:r>
            <a:br>
              <a:rPr sz="3400"/>
            </a:br>
            <a:r>
              <a:rPr b="1" lang="es-ES_tradnl" sz="3400" spc="-1" strike="noStrike" u="sng">
                <a:solidFill>
                  <a:srgbClr val="000000"/>
                </a:solidFill>
                <a:uFillTx/>
                <a:latin typeface="Arial"/>
              </a:rPr>
              <a:t>DE LA FEDERACIÓN</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49" name=""/>
          <p:cNvSpPr/>
          <p:nvPr/>
        </p:nvSpPr>
        <p:spPr>
          <a:xfrm>
            <a:off x="34920" y="1916280"/>
            <a:ext cx="9036000" cy="4605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la Tercera Resolución de Modificaciones a la RM, se dijo (Regla 2.1.23, DOF 2/Ago/06):</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Arial"/>
              </a:rPr>
              <a:t>“</a:t>
            </a:r>
            <a:r>
              <a:rPr b="0" i="1" lang="es-MX" sz="2200" spc="-1" strike="noStrike">
                <a:solidFill>
                  <a:srgbClr val="000000"/>
                </a:solidFill>
                <a:latin typeface="Arial"/>
              </a:rPr>
              <a:t>Para efectos del artículo 32-G…quedarán relevados de la obligación de presentar la información </a:t>
            </a:r>
            <a:r>
              <a:rPr b="0" i="1" lang="es-MX" sz="2200" spc="-1" strike="noStrike" u="sng">
                <a:solidFill>
                  <a:srgbClr val="000000"/>
                </a:solidFill>
                <a:uFillTx/>
                <a:latin typeface="Arial"/>
              </a:rPr>
              <a:t>de retenciones y proveedores</a:t>
            </a:r>
            <a:r>
              <a:rPr b="0" i="1" lang="es-MX" sz="2200" spc="-1" strike="noStrike">
                <a:solidFill>
                  <a:srgbClr val="000000"/>
                </a:solidFill>
                <a:latin typeface="Arial"/>
              </a:rPr>
              <a:t>….si presentan, en su lugar, la declaración informativa a que se refiere el artículo 32, fracciones V y VIII de la Ley del IVA….”</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A765DCB-074F-41E2-AA5F-5643A238E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44280"/>
            <a:ext cx="9144000" cy="157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1 REFORMAS AL CÓDIGO FISCAL</a:t>
            </a:r>
            <a:br>
              <a:rPr sz="3400"/>
            </a:br>
            <a:r>
              <a:rPr b="1" lang="es-ES_tradnl" sz="3400" spc="-1" strike="noStrike" u="sng">
                <a:solidFill>
                  <a:srgbClr val="000000"/>
                </a:solidFill>
                <a:uFillTx/>
                <a:latin typeface="Arial"/>
              </a:rPr>
              <a:t>DE LA FEDERACIÓN</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51" name=""/>
          <p:cNvSpPr/>
          <p:nvPr/>
        </p:nvSpPr>
        <p:spPr>
          <a:xfrm>
            <a:off x="179280" y="2016000"/>
            <a:ext cx="8785440" cy="457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teriormente, en la Quinta Resolución de Modificaciones a la RM, se reforma la Regla 2.1.23, para quedar como sigue (DOF 28/Ago/06):</a:t>
            </a:r>
            <a:endParaRPr b="0" lang="en-US" sz="2200" spc="-1" strike="noStrike">
              <a:solidFill>
                <a:srgbClr val="000000"/>
              </a:solidFill>
              <a:latin typeface="Arial"/>
            </a:endParaRPr>
          </a:p>
          <a:p>
            <a:pPr marL="457200" indent="-457200" algn="just">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Arial"/>
              </a:rPr>
              <a:t>“</a:t>
            </a:r>
            <a:r>
              <a:rPr b="0" i="1" lang="es-MX" sz="2200" spc="-1" strike="noStrike">
                <a:solidFill>
                  <a:srgbClr val="000000"/>
                </a:solidFill>
                <a:latin typeface="Arial"/>
              </a:rPr>
              <a:t>La obligación de presentar la información a que se refiere el artículo 32-G del CFF, se efectuará a partir de la correspondiente al mes de enero de 2007.”</a:t>
            </a:r>
            <a:endParaRPr b="0" lang="en-US" sz="2200" spc="-1" strike="noStrike">
              <a:solidFill>
                <a:srgbClr val="000000"/>
              </a:solidFill>
              <a:latin typeface="Arial"/>
            </a:endParaRPr>
          </a:p>
          <a:p>
            <a:pPr marL="457200" indent="-457200" algn="just">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elimina, por tanto, la referencia a la presentación de las declaraciones a que se refiere el art. 32 de la LIVA.</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46F450D-108A-4103-BD43-844B1B242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53" name=""/>
          <p:cNvSpPr/>
          <p:nvPr/>
        </p:nvSpPr>
        <p:spPr>
          <a:xfrm>
            <a:off x="179280" y="1628640"/>
            <a:ext cx="8785440" cy="5108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reforma el artículo 32, fracción V, para mencionar que la información relativa a las retenciones de IVA efectuadas se deberá presentar de manera mensual (antes anual, a presentar en febrero de cada año)</a:t>
            </a:r>
            <a:endParaRPr b="0" lang="en-US" sz="2200" spc="-1" strike="noStrike">
              <a:solidFill>
                <a:srgbClr val="000000"/>
              </a:solidFill>
              <a:latin typeface="Arial"/>
            </a:endParaRPr>
          </a:p>
          <a:p>
            <a:pPr marL="457200" indent="-457200" algn="just">
              <a:lnSpc>
                <a:spcPts val="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adiciona la fracción VIII al artículo 32, generándose una nueva obligación consistente en proporcionar mensualmente, a través de medios electrónicos, información relativa al pago, retención, acreditamiento y traslado del IVA en operaciones con proveedores.</a:t>
            </a:r>
            <a:endParaRPr b="0" lang="en-US" sz="2200" spc="-1" strike="noStrike">
              <a:solidFill>
                <a:srgbClr val="000000"/>
              </a:solidFill>
              <a:latin typeface="Arial"/>
            </a:endParaRPr>
          </a:p>
          <a:p>
            <a:pPr marL="457200" indent="-457200" algn="just">
              <a:lnSpc>
                <a:spcPct val="13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echa de presentación: día 17 del mes siguiente por el que se presenta la información.</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F060E3B-6185-49F5-B93D-C94DD18CB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55" name=""/>
          <p:cNvSpPr/>
          <p:nvPr/>
        </p:nvSpPr>
        <p:spPr>
          <a:xfrm>
            <a:off x="179280" y="1628640"/>
            <a:ext cx="8785440" cy="1575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la 4ta Resolución de Modificaciones a la RM se adicionaron las Reglas 5.1.21 y 5.1.22, las cuales aclaraban (DOF 28/Ago/06):</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1. La información se presentaría en los siguientes plazos:</a:t>
            </a:r>
            <a:endParaRPr b="0" lang="en-US" sz="2200" spc="-1" strike="noStrike">
              <a:solidFill>
                <a:srgbClr val="000000"/>
              </a:solidFill>
              <a:latin typeface="Arial"/>
            </a:endParaRPr>
          </a:p>
        </p:txBody>
      </p:sp>
      <p:graphicFrame>
        <p:nvGraphicFramePr>
          <p:cNvPr id="56" name=""/>
          <p:cNvGraphicFramePr/>
          <p:nvPr/>
        </p:nvGraphicFramePr>
        <p:xfrm>
          <a:off x="1835280" y="3500280"/>
          <a:ext cx="5041440" cy="2736720"/>
        </p:xfrm>
        <a:graphic>
          <a:graphicData uri="http://schemas.openxmlformats.org/drawingml/2006/table">
            <a:tbl>
              <a:tblPr/>
              <a:tblGrid>
                <a:gridCol w="2521080"/>
                <a:gridCol w="2520360"/>
              </a:tblGrid>
              <a:tr h="73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ción correspondiente a los meses 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 presentará a más tardar el dí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lio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octubre del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osto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octubre del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iembre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octubre del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ctubre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enero del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viembre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enero del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ciembre d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 de enero del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2675265A-8337-41E5-B891-C36A10155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58" name=""/>
          <p:cNvSpPr/>
          <p:nvPr/>
        </p:nvSpPr>
        <p:spPr>
          <a:xfrm>
            <a:off x="179280" y="1197000"/>
            <a:ext cx="8785440" cy="504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2. Se presentaría por cada uno de los meses mediante el formato A-29 “Declaración Informativa de Operaciones con Terceros (publicado en el Anexo 1 de la 4ta RM)</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3. La información a proporcionar es la relativa a los pagos a proveedores efectivamente realizados, o cuando el interés jurídico quedó satisfecho (art. 1-B y 1-C LIVA), en el mes de que se trate (NO IVA PROVISIONADO).</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7B1B6D3-7D7E-4E25-94DE-523D7F408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44280"/>
            <a:ext cx="914400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u="sng">
                <a:solidFill>
                  <a:srgbClr val="000000"/>
                </a:solidFill>
                <a:uFillTx/>
                <a:latin typeface="Arial"/>
              </a:rPr>
              <a:t>1.2 REFORMAS A LA LEY DEL IVA </a:t>
            </a:r>
            <a:br>
              <a:rPr sz="3400"/>
            </a:br>
            <a:r>
              <a:rPr b="1" lang="es-ES_tradnl" sz="2600" spc="-1" strike="noStrike" u="sng">
                <a:solidFill>
                  <a:srgbClr val="000000"/>
                </a:solidFill>
                <a:uFillTx/>
                <a:latin typeface="Arial"/>
              </a:rPr>
              <a:t>(Decreto publicado en DOF 28/Jun/06)</a:t>
            </a:r>
            <a:endParaRPr b="0" lang="en-US" sz="2600" spc="-1" strike="noStrike">
              <a:solidFill>
                <a:srgbClr val="000000"/>
              </a:solidFill>
              <a:latin typeface="Arial"/>
            </a:endParaRPr>
          </a:p>
        </p:txBody>
      </p:sp>
      <p:sp>
        <p:nvSpPr>
          <p:cNvPr id="60" name=""/>
          <p:cNvSpPr/>
          <p:nvPr/>
        </p:nvSpPr>
        <p:spPr>
          <a:xfrm>
            <a:off x="179280" y="1484280"/>
            <a:ext cx="8785440" cy="4973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4. Se podrá no relacionar individualmente hasta un 10% de los pagos efectuados en el mes, siempre que correspondan a operaciones menores a $5,000 (a partir de enero 2007 este porcentaje sería del 5%, con operaciones menores a $2,500, art. Tercero Transitorio) No se consideran dentro de este porcentaje operaciones por consumos de combustibles.</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 información del IVA no relacionado individualmente se manifestará bajo la clave XXX010101000.</a:t>
            </a: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5. Entrada en vigor: 2 de octubre de 2006.</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3268500-A5D6-4601-B34A-2280FB559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01:40:10Z</dcterms:created>
  <dc:creator> </dc:creator>
  <dc:description/>
  <dc:language>en-US</dc:language>
  <cp:lastModifiedBy> </cp:lastModifiedBy>
  <dcterms:modified xsi:type="dcterms:W3CDTF">2006-11-07T15:57:52Z</dcterms:modified>
  <cp:revision>27</cp:revision>
  <dc:subject/>
  <dc:title>Diapositiva 1</dc:title>
</cp:coreProperties>
</file>