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B2E-A746-4D1F-8A4A-8068BAFC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48B-2437-4113-8D00-6BF5A83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061-D9F1-4438-B15D-27F29793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866-78DA-4125-A8D5-A91F5A5E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F21-0C69-4F2A-BC44-CE9338FA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9EB-63F9-479C-9ED2-E3E5A37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13E-E300-44B4-A332-B2685D8D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379-AFFA-4D46-815C-C14AC226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0EC-DB48-4C68-86CB-B82E63B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40E-F19F-4F80-AFD1-2F17984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CAC-AE4D-4342-BED3-8483EDAB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461-911F-4171-85FC-EB250A7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C96-D7CC-4385-8A37-BAF8D46C32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-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sociación Méxicana de Órganos de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ntrol y Vigilancia en  Instituciones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Educación Superior, A.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590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000000"/>
                </a:solidFill>
                <a:latin typeface="Times New Roman"/>
              </a:rPr>
              <a:t>A M O C V I E 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715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gridad, Servicio y Beneficio en las Instituciones de Educación Super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404640"/>
            <a:ext cx="79930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tre una serie de actividades que han estado enfocadas a apoyar la labor de las órganos de control y vigilancia de las 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s asambleas se han convertido a la fecha en un foro de capacitación  e intercambio de puntos de vista que permite a los titulares de los órganos de control obtener los elementos necesarios que mejoren el desempeño de sus unidades administr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4762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S RE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20500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557360"/>
            <a:ext cx="7632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plementación de las nuev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forma de hacer auditoría y los resultados que se espe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interacción con los usuarios de la información de los resultados de las auditor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765000"/>
            <a:ext cx="770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entorno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entorn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forzar los aspectos de transpa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ética y los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apacitación perman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41280" y="857160"/>
            <a:ext cx="21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33336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70028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necesario redefinir  las actividades propias de los órganos de control con un criterio mas abierto y de crecimiento constante que permita entregar resultados a una sociedad que hoy exige que las universidades como generadores del conocimiento, la preparación de los jóvenes y  la cultura, prediquen con el ejempl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79640" y="620640"/>
            <a:ext cx="66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ociación Mexicana de Órganos de Control y Vigilancia en Instituciones de Educación Superior, A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75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65280" y="404640"/>
            <a:ext cx="1242720" cy="1223640"/>
            <a:chOff x="665280" y="404640"/>
            <a:chExt cx="1242720" cy="1223640"/>
          </a:xfrm>
        </p:grpSpPr>
        <p:pic>
          <p:nvPicPr>
            <p:cNvPr id="85" name="Escudo AMOCVIES" descr=""/>
            <p:cNvPicPr/>
            <p:nvPr/>
          </p:nvPicPr>
          <p:blipFill>
            <a:blip r:embed="rId2"/>
            <a:stretch/>
          </p:blipFill>
          <p:spPr>
            <a:xfrm>
              <a:off x="874800" y="404640"/>
              <a:ext cx="8006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5280" y="1171080"/>
              <a:ext cx="1242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AMOCV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tegridad, Servicio y Beneficio en la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stituciones de Educación 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11280" y="1628640"/>
            <a:ext cx="7920000" cy="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43657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941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www.uqroo.m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57280" y="56102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621648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www.amocvies.org.m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213000"/>
            <a:ext cx="84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Univers"/>
              </a:rPr>
              <a:t>VISIÓN DE LA UNIVERSIDAD DE QUINTANA RO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476280"/>
            <a:ext cx="8130960" cy="6381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84720" y="43657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4941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www.uqroo.m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51664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www.amocvies.org.m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1052640"/>
            <a:ext cx="84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Univers"/>
              </a:rPr>
              <a:t>	</a:t>
            </a:r>
            <a:r>
              <a:rPr b="1" lang="es-MX" sz="4000" spc="-1" strike="noStrike">
                <a:solidFill>
                  <a:srgbClr val="000000"/>
                </a:solidFill>
                <a:latin typeface="Univers"/>
              </a:rPr>
              <a:t>PRESENTE Y FUTURO DE LOS ÓRGANOS DE CONTROL Y VIGILANCIA EN LAS INSTITUCIONES DE EDUCACIÓN SUPERI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3213000"/>
            <a:ext cx="84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Univers"/>
              </a:rPr>
              <a:t>VISIÓN DE LA UNIVERSIDAD DE QUINTANA RO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476280"/>
            <a:ext cx="8130960" cy="638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2360" y="432756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Times New Roman"/>
              </a:rPr>
              <a:t>VISIÓN DEL ÓRGANO INTERNO DE CONTROL DE LA UNIVERSIDAD DE QUINTANA R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052640"/>
            <a:ext cx="844380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>
              <a:lnSpc>
                <a:spcPct val="100000"/>
              </a:lnSpc>
              <a:buClr>
                <a:srgbClr val="000000"/>
              </a:buClr>
              <a:buFont typeface="Univer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Univers"/>
              </a:rPr>
              <a:t>SITUACIÓN DE LOS ÓRGANOS DE CONTROL ANTES DEL AÑO 20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lnSpc>
                <a:spcPct val="100000"/>
              </a:lnSpc>
              <a:buClr>
                <a:srgbClr val="000000"/>
              </a:buClr>
              <a:buFont typeface="Univer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lnSpc>
                <a:spcPct val="100000"/>
              </a:lnSpc>
              <a:buClr>
                <a:srgbClr val="000000"/>
              </a:buClr>
              <a:buFont typeface="Univer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Univers"/>
              </a:rPr>
              <a:t>ESTADO ACT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lnSpc>
                <a:spcPct val="100000"/>
              </a:lnSpc>
              <a:buClr>
                <a:srgbClr val="000000"/>
              </a:buClr>
              <a:buFont typeface="Univer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lnSpc>
                <a:spcPct val="100000"/>
              </a:lnSpc>
              <a:buClr>
                <a:srgbClr val="000000"/>
              </a:buClr>
              <a:buFont typeface="Univer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Univers"/>
              </a:rPr>
              <a:t>LOS RE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71640" y="476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Univers"/>
              </a:rPr>
              <a:t>ANTES DEL AÑO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844640"/>
            <a:ext cx="7416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Órganos de Control que trabajaban de acuerdo a las políticas y criterios establecidos por su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sarrollo de actividades sin tener un marco de referencia o comparativo para determinar si las acciones eran correctas o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1052640"/>
            <a:ext cx="84438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tes aislados de las demá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se contaba con los foros que permitieran intercambiar experiencias y por ende una mayor capa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549360"/>
            <a:ext cx="84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 algn="ctr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413000"/>
            <a:ext cx="8496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1476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raíz de la conformación de la AMOCVIES los órganos de control de las Universidades han cambiado su diná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han diversificado los puntos de contacto para tener un marco de referencia sobre el trabajo que se reali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147680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404640"/>
            <a:ext cx="799308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han desarrollado a lo largo de casi 7 años diversos temas que han impactado  en las actividades de la dinámica de crecimiento de las universidades y de los órganos de control int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han analizado tema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de la Información financiera de las IES con base en la estructura de la Contabilidad de Fon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aspectos de las Declaraciones Patrimoniales en la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83664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404640"/>
            <a:ext cx="7848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aspectos fiscales de la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dictámenes de los Auditores Externos a la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prácticas contables de las 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Ley de Fiscalización Sup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Ley de Transparencia y Acceso a la Información Pública y su aplicación en la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2:12Z</dcterms:created>
  <dc:creator>.</dc:creator>
  <dc:description/>
  <dc:language>en-US</dc:language>
  <cp:lastModifiedBy>MARGARETE</cp:lastModifiedBy>
  <dcterms:modified xsi:type="dcterms:W3CDTF">2006-11-09T22:43:03Z</dcterms:modified>
  <cp:revision>76</cp:revision>
  <dc:subject/>
  <dc:title>Presentación de PowerPoint</dc:title>
</cp:coreProperties>
</file>