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05080" y="1341360"/>
            <a:ext cx="3454560" cy="4680000"/>
          </a:xfrm>
          <a:prstGeom prst="rect">
            <a:avLst/>
          </a:prstGeom>
          <a:ln w="0">
            <a:noFill/>
          </a:ln>
        </p:spPr>
      </p:pic>
      <p:sp>
        <p:nvSpPr>
          <p:cNvPr id="1" name=""/>
          <p:cNvSpPr/>
          <p:nvPr/>
        </p:nvSpPr>
        <p:spPr>
          <a:xfrm>
            <a:off x="380880" y="155520"/>
            <a:ext cx="4478400" cy="4345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09a9"/>
                </a:solidFill>
                <a:latin typeface="AGaramond"/>
              </a:rPr>
              <a:t>UNIVERSIDAD DE GUADALAJARA</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
          <p:cNvSpPr/>
          <p:nvPr/>
        </p:nvSpPr>
        <p:spPr>
          <a:xfrm>
            <a:off x="5796000" y="141120"/>
            <a:ext cx="2879640" cy="2642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09a9"/>
                </a:solidFill>
                <a:latin typeface="Times New Roman"/>
              </a:rPr>
              <a:t>CONTRALORIA GENERAL</a:t>
            </a:r>
            <a:endParaRPr b="0" lang="en-US" sz="1600" spc="-1" strike="noStrike">
              <a:solidFill>
                <a:srgbClr val="000000"/>
              </a:solidFill>
              <a:latin typeface="Times New Roman"/>
            </a:endParaRPr>
          </a:p>
        </p:txBody>
      </p:sp>
      <p:pic>
        <p:nvPicPr>
          <p:cNvPr id="3" name="" descr=""/>
          <p:cNvPicPr/>
          <p:nvPr/>
        </p:nvPicPr>
        <p:blipFill>
          <a:blip r:embed="rId3"/>
          <a:stretch/>
        </p:blipFill>
        <p:spPr>
          <a:xfrm>
            <a:off x="0" y="0"/>
            <a:ext cx="385920" cy="6858000"/>
          </a:xfrm>
          <a:prstGeom prst="rect">
            <a:avLst/>
          </a:prstGeom>
          <a:ln w="0">
            <a:noFill/>
          </a:ln>
        </p:spPr>
      </p:pic>
      <p:sp>
        <p:nvSpPr>
          <p:cNvPr id="4" name="Base" hidden="1"/>
          <p:cNvSpPr/>
          <p:nvPr/>
        </p:nvSpPr>
        <p:spPr>
          <a:xfrm>
            <a:off x="1523880" y="2286000"/>
            <a:ext cx="6096240" cy="228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711680" y="5697360"/>
            <a:ext cx="41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f0caa"/>
                </a:solidFill>
                <a:latin typeface="AGaramond"/>
              </a:rPr>
              <a:t>09 DE NOVIEMBRE DE 2006</a:t>
            </a:r>
            <a:endParaRPr b="0" lang="en-US" sz="2400" spc="-1" strike="noStrike">
              <a:solidFill>
                <a:srgbClr val="000000"/>
              </a:solidFill>
              <a:latin typeface="Times New Roman"/>
            </a:endParaRPr>
          </a:p>
        </p:txBody>
      </p:sp>
      <p:sp>
        <p:nvSpPr>
          <p:cNvPr id="44" name=""/>
          <p:cNvSpPr/>
          <p:nvPr/>
        </p:nvSpPr>
        <p:spPr>
          <a:xfrm>
            <a:off x="8799480" y="258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921600" y="2293920"/>
            <a:ext cx="7304040" cy="1800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1" lang="es-ES" sz="2800" spc="-1" strike="noStrike">
                <a:solidFill>
                  <a:srgbClr val="1f0caa"/>
                </a:solidFill>
                <a:latin typeface="Tahoma"/>
              </a:rPr>
              <a:t>Panel de Experiencias Universitari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0caa"/>
                </a:solidFill>
                <a:latin typeface="Tahoma"/>
              </a:rPr>
              <a:t>Sobre la función de los órganos intern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0caa"/>
                </a:solidFill>
                <a:latin typeface="Tahoma"/>
              </a:rPr>
              <a:t>de controlen las IP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3"/>
                                        </p:tgtEl>
                                        <p:attrNameLst>
                                          <p:attrName>style.visibility</p:attrName>
                                        </p:attrNameLst>
                                      </p:cBhvr>
                                      <p:to>
                                        <p:strVal val="visible"/>
                                      </p:to>
                                    </p:set>
                                    <p:animEffect filter="box(in)"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82760" y="631440"/>
            <a:ext cx="8481960" cy="6008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urante la actual administración rectoral, se propuso el </a:t>
            </a:r>
            <a:r>
              <a:rPr b="0" lang="es-ES" sz="2400" spc="-1" strike="noStrike">
                <a:solidFill>
                  <a:srgbClr val="3333cc"/>
                </a:solidFill>
                <a:latin typeface="Times New Roman"/>
              </a:rPr>
              <a:t>mencionado</a:t>
            </a:r>
            <a:r>
              <a:rPr b="0" lang="es-ES" sz="2400" spc="-1" strike="noStrike">
                <a:solidFill>
                  <a:srgbClr val="000000"/>
                </a:solidFill>
                <a:latin typeface="Times New Roman"/>
              </a:rPr>
              <a:t> cambio organizacional de la Contraloría General que le permitiera atender las necesidades de la Red Universitaria, basándose en la necesidad de fortalecer en forma inmediata el sistema de fiscalización universitaria, entre otras razones por las siguientes:</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ociedad mexicana exige al sector público un rendimiento claro y puntual de cuentas.</a:t>
            </a: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Universidad de Guadalajara, como la universidad pública del Estado de Jalisco, debe inscribirse dentro de los avances y transformaciones que hoy en día experimentan los órganos de fiscalización en el país.</a:t>
            </a:r>
            <a:endParaRPr b="0" lang="en-US" sz="20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requiere contar con instrumentos más efectivos y eficaces de fiscali­zación, que garanticen el uso honesto y eficiente de los recursos que la sociedad aporta a la Universidad de Guadalajara, así como un oportuno y claro rendimiento de cuentas por parte de los funcionarios universitari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1800" y="960480"/>
            <a:ext cx="797256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cho cambio organizacional se logro realizando modificaciones y adiciones a las normas que regulan el Sistema de Fiscalización en la Universidad, el cual se integra por el H. Consejo General Universitario, la Contraloría General, los Consejos Universitarios y los Contralores de los Centros y de los Sistemas de Educación Media Superior y Universidad Virtu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00000" y="1552680"/>
            <a:ext cx="7848720" cy="4117320"/>
          </a:xfrm>
          <a:prstGeom prst="rect">
            <a:avLst/>
          </a:prstGeom>
          <a:noFill/>
          <a:ln w="0">
            <a:noFill/>
          </a:ln>
        </p:spPr>
        <p:style>
          <a:lnRef idx="0"/>
          <a:fillRef idx="0"/>
          <a:effectRef idx="0"/>
          <a:fontRef idx="minor"/>
        </p:style>
        <p:txBody>
          <a:bodyPr lIns="90000" rIns="90000" tIns="46800" bIns="46800" anchor="t">
            <a:spAutoFit/>
          </a:bodyPr>
          <a:p>
            <a:pPr marL="355680" indent="-3556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funciones de la Contraloría General, los contralores del Centro y de los Sistemas de Educación Media Superior y Universidad Virtual, están  encauzadas preferentemente a la prevención y a la promoción de esquemas administrativos más sencillos y transparentes.</a:t>
            </a:r>
            <a:endParaRPr b="0" lang="en-US" sz="2400" spc="-1" strike="noStrike">
              <a:solidFill>
                <a:srgbClr val="000000"/>
              </a:solidFill>
              <a:latin typeface="Times New Roman"/>
            </a:endParaRPr>
          </a:p>
          <a:p>
            <a:pPr marL="355680" indent="-355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5680" indent="-3556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tualmente  la estructura de la Contraloría General contempla, </a:t>
            </a:r>
            <a:r>
              <a:rPr b="1" i="1" lang="es-ES" sz="2400" spc="-1" strike="noStrike">
                <a:solidFill>
                  <a:srgbClr val="000000"/>
                </a:solidFill>
                <a:latin typeface="Times New Roman"/>
              </a:rPr>
              <a:t>contralorías en cada uno de los Centros Universitarios y Sistemas de la Universidad</a:t>
            </a:r>
            <a:r>
              <a:rPr b="0" lang="es-ES" sz="2400" spc="-1" strike="noStrike">
                <a:solidFill>
                  <a:srgbClr val="000000"/>
                </a:solidFill>
                <a:latin typeface="Times New Roman"/>
              </a:rPr>
              <a:t>, con el objeto de ampliar su cobertura y vigilar más de cerca la operación y cumplimiento de la normativ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11280" y="1116360"/>
            <a:ext cx="81374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tre las citadas contralorías se distribuyen las funciones de la Contraloría General, lo que permite una adecuada distribución del trabajo y al mismo tiempo un trabajo integral en materia de fiscalización, lo que trae como consecuencia eficacia en los resultados de las auditori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 la reestructuración del órgano interno de fiscalización  la Universidad de Guadalajara, creó el soporte normativo necesario para un mejor desempeño de las funciones que realiza la Contraloría Gene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33320" y="1338840"/>
            <a:ext cx="8159760" cy="4543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reto mas importante que pretendemos alcanzar, es lograr una mayor credibilidad y confianza hacia nuestra función de parte de la comunidad universitaria y de la sociedad en general, para ello se ha venido trabajando en coordinación con otras dependencias universitarias en el desarrollo de nuevos sistemas automatizados para el registro contable  desconcentrado, en línea, así como en el control patrimonial en nuestra plataforma del Sistema Integral de Información Administrativa, con los cuales contaremos con mejores herramientas de Información y control que trasparenten y faciliten  la verificación del uso y destino de los recursos instituci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77800" y="1605600"/>
            <a:ext cx="831528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icionalmente en la Universidad cada vez se consolida y tiene mayor aceptación entre la comunidad el realizar el ejercicio de planeación, programación, presupuestación y evaluación, a través de la plataforma del Sistema Integral de Información Administrativa, con lo cual se ligan y armonizan estas funciones, con el ejercicio del gasto, en su relación con los sistemas de contabilidad y control patrimonial ya mencionad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22160" y="1515960"/>
            <a:ext cx="80265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 anterior nos permite ser optimistas ya que cada vez será mas reconocida la función de los órganos de control interno, para lograr la transparencia sobre el adecuado manejo de los recursos institucionales en la rendición de cuen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4360" y="1741320"/>
            <a:ext cx="806436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Universidad de Guadalajara se ha esforzado por mantenerse a la altura de las exigencias y necesidades que en cada momento histórico le plantea la sociedad; ha implementado una serie de reformas tendientes a alcanzar un nivel académico de excelencia y a vincular críticamente a la universidad con el cambiante entorno económico, político y cultural en el que se encuentr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93640" y="883800"/>
            <a:ext cx="8155080" cy="521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Universidad de Guadalajara realizo una reforma que coincide con los planteamientos del Programa para la Modernización Educativa y con el Plan Estatal de Desarrollo del Estado. Algunas de las premisas en las que se apoyo la reforma son: lograr una transformación institucional para un adecuado desarrollo de las funciones sustantivas; la descentralización universitaria, y a partir de ella, alcanzar una mayor interacción de la universidad con los diferentes sectores sociales y productivos del esta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legar al momento actual ha sido posible gracias al gran esfuerzo realizado en las diferentes instancias y ámbitos, y por el grado de participación de la comunidad universitaria. Sin embargo,  no se puede decir que la reforma se ha conclu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44640" y="692280"/>
            <a:ext cx="787536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Red Universitaria en Jalisco</a:t>
            </a:r>
            <a:endParaRPr b="0" lang="en-US" sz="2400" spc="-1" strike="noStrike">
              <a:solidFill>
                <a:srgbClr val="000000"/>
              </a:solidFill>
              <a:latin typeface="Times New Roman"/>
            </a:endParaRPr>
          </a:p>
          <a:p>
            <a:pPr algn="ctr">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Red Universitaria en Jalisco constituye la nueva estructura y estrategia orgánica y funcional de la Universidad de Guadalajara, y se integra por: </a:t>
            </a:r>
            <a:endParaRPr b="0" lang="en-US" sz="2400" spc="-1" strike="noStrike">
              <a:solidFill>
                <a:srgbClr val="000000"/>
              </a:solidFill>
              <a:latin typeface="Times New Roman"/>
            </a:endParaRPr>
          </a:p>
          <a:p>
            <a:pPr algn="just">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322280" indent="-609480" algn="just">
              <a:lnSpc>
                <a:spcPct val="100000"/>
              </a:lnSpc>
              <a:buClr>
                <a:srgbClr val="000000"/>
              </a:buClr>
              <a:buFont typeface="Times New Roman"/>
              <a:buAutoNum type="romanUcPeriod"/>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entros Universitarios;  6 Temáticos y 8 Regionales,</a:t>
            </a:r>
            <a:endParaRPr b="0" lang="en-US" sz="2400" spc="-1" strike="noStrike">
              <a:solidFill>
                <a:srgbClr val="000000"/>
              </a:solidFill>
              <a:latin typeface="Times New Roman"/>
            </a:endParaRPr>
          </a:p>
          <a:p>
            <a:pPr lvl="1" marL="1322280" indent="-609480" algn="just">
              <a:lnSpc>
                <a:spcPct val="100000"/>
              </a:lnSpc>
              <a:buClr>
                <a:srgbClr val="000000"/>
              </a:buClr>
              <a:buFont typeface="Times New Roman"/>
              <a:buAutoNum type="romanUcPeriod"/>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Sistema de Educación Media Superior y  de Universidad Virtual,</a:t>
            </a:r>
            <a:endParaRPr b="0" lang="en-US" sz="2400" spc="-1" strike="noStrike">
              <a:solidFill>
                <a:srgbClr val="000000"/>
              </a:solidFill>
              <a:latin typeface="Times New Roman"/>
            </a:endParaRPr>
          </a:p>
          <a:p>
            <a:pPr lvl="1" marL="1322280" indent="-609480" algn="just">
              <a:lnSpc>
                <a:spcPct val="100000"/>
              </a:lnSpc>
              <a:buClr>
                <a:srgbClr val="000000"/>
              </a:buClr>
              <a:buFont typeface="Times New Roman"/>
              <a:buAutoNum type="romanUcPeriod"/>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Administración General.</a:t>
            </a:r>
            <a:endParaRPr b="0" lang="en-US" sz="2400" spc="-1" strike="noStrike">
              <a:solidFill>
                <a:srgbClr val="000000"/>
              </a:solidFill>
              <a:latin typeface="Times New Roman"/>
            </a:endParaRPr>
          </a:p>
          <a:p>
            <a:pPr algn="just">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816200" y="18651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19120" y="1639800"/>
            <a:ext cx="8229600" cy="452592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la conformación de la Red se siguieron principios y criterios generales, los cuales se agrupan en torno a tres grandes ámbitos del desarrollo institucional: </a:t>
            </a:r>
            <a:endParaRPr b="0" lang="en-US" sz="32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126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ocial, </a:t>
            </a:r>
            <a:endParaRPr b="0" lang="en-US" sz="3200" spc="-1" strike="noStrike">
              <a:solidFill>
                <a:srgbClr val="000000"/>
              </a:solidFill>
              <a:latin typeface="Times New Roman"/>
            </a:endParaRPr>
          </a:p>
          <a:p>
            <a:pPr marL="343080" indent="126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adémico y Gobierno, y </a:t>
            </a:r>
            <a:endParaRPr b="0" lang="en-US" sz="3200" spc="-1" strike="noStrike">
              <a:solidFill>
                <a:srgbClr val="000000"/>
              </a:solidFill>
              <a:latin typeface="Times New Roman"/>
            </a:endParaRPr>
          </a:p>
          <a:p>
            <a:pPr marL="343080" indent="126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dministración. </a:t>
            </a:r>
            <a:endParaRPr b="0" lang="en-US" sz="32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2560" y="1271160"/>
            <a:ext cx="813744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jo este contexto la Contraloría General de la Universidad de Guadalajara fue creada en el año de 1989, como una Dirección dependiente del Rector, para atender las funciones de Fiscalización de la institución, por lo que su estructura organizacional era muy sencilla, la cual no cumplía con las expectativas de modernización y descentralización de las actividades universitarias, en 1994 cuando la Universidad adquiere su autonomía, se convierte en un órgano fiscalizador que depende del H. Consejo General Universit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4360" y="1842480"/>
            <a:ext cx="806580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Contraloría General tiene a su cargo las funciones de vigilancia, fiscalización, supervisión y control financiero y administrativo del conjunto de las dependencias universitarias.</a:t>
            </a:r>
            <a:endParaRPr b="0" lang="en-US" sz="2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ontralor General es electo por el H. Consejo General Universitario, de una terna que presenta el Consejo Social.</a:t>
            </a:r>
            <a:endParaRPr b="0" lang="en-US" sz="2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63480" y="1197000"/>
            <a:ext cx="8229600" cy="45259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Contraloría General, informa al H. Consejo General Universitario, a través de la Comisión de Hacienda, sobre el resultado de las revisiones practicadas a las dependencias universitarias.</a:t>
            </a:r>
            <a:endParaRPr b="0" lang="en-US" sz="2400" spc="-1" strike="noStrike">
              <a:solidFill>
                <a:srgbClr val="000000"/>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forma a la Comisión de Responsabilidades y Sanciones competente, a través de la Comisión de Hacienda del H. Consejo General Universitario, sobre el incumplimiento o negativa de los titulares o personal de las dependencias universitarias a atender los requerimientos de información del Contralor General, Contralor de Centro o SEMS o auditor, a efecto de que se aplique la sanción correspondiente; </a:t>
            </a:r>
            <a:endParaRPr b="0" lang="en-US" sz="2400" spc="-1" strike="noStrike">
              <a:solidFill>
                <a:srgbClr val="000000"/>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8360" y="950040"/>
            <a:ext cx="8136000" cy="5580360"/>
          </a:xfrm>
          <a:prstGeom prst="rect">
            <a:avLst/>
          </a:prstGeom>
          <a:noFill/>
          <a:ln w="0">
            <a:noFill/>
          </a:ln>
        </p:spPr>
        <p:style>
          <a:lnRef idx="0"/>
          <a:fillRef idx="0"/>
          <a:effectRef idx="0"/>
          <a:fontRef idx="minor"/>
        </p:style>
        <p:txBody>
          <a:bodyPr lIns="90000" rIns="90000" tIns="46800" bIns="46800" anchor="ctr">
            <a:spAutoFit/>
          </a:bodyPr>
          <a:p>
            <a:pPr marL="266760" indent="-1778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H. Consejo General Universitario tiene entre otras atribuciones las siguientes: </a:t>
            </a:r>
            <a:endParaRPr b="0" lang="en-US" sz="2400" spc="-1" strike="noStrike">
              <a:solidFill>
                <a:srgbClr val="000000"/>
              </a:solidFill>
              <a:latin typeface="Times New Roman"/>
            </a:endParaRPr>
          </a:p>
          <a:p>
            <a:pPr marL="266760" indent="-1778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6760" indent="-177840" algn="jus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ocer de los resultados de las auditorias practicadas por la Contraloría General, o en su caso por el Despacho Externo;</a:t>
            </a:r>
            <a:endParaRPr b="0" lang="en-US" sz="2400" spc="-1" strike="noStrike">
              <a:solidFill>
                <a:srgbClr val="000000"/>
              </a:solidFill>
              <a:latin typeface="Times New Roman"/>
            </a:endParaRPr>
          </a:p>
          <a:p>
            <a:pPr marL="266760" indent="-1778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6760" indent="-177840" algn="jus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ocer el Informe anual de la Contraloría General y evaluar su desempeño, y</a:t>
            </a:r>
            <a:endParaRPr b="0" lang="en-US" sz="2400" spc="-1" strike="noStrike">
              <a:solidFill>
                <a:srgbClr val="000000"/>
              </a:solidFill>
              <a:latin typeface="Times New Roman"/>
            </a:endParaRPr>
          </a:p>
          <a:p>
            <a:pPr marL="266760" indent="-1778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266760" indent="-177840" algn="jus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su ámbito de competencia y de conformidad con la normatividad universitaria, tomar las medidas correctivas y preventivas con base en las observaciones realizadas por la Contraloría General de la Universidad de Guadalajara, o en su caso por el Despacho Externo.</a:t>
            </a:r>
            <a:endParaRPr b="0" lang="en-US" sz="2400" spc="-1" strike="noStrike">
              <a:solidFill>
                <a:srgbClr val="000000"/>
              </a:solidFill>
              <a:latin typeface="Times New Roman"/>
            </a:endParaRPr>
          </a:p>
          <a:p>
            <a:pPr marL="266760" indent="-1778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7T04:16:33Z</dcterms:created>
  <dc:creator>Homero Joab Molina Bobadilla</dc:creator>
  <dc:description/>
  <dc:language>en-US</dc:language>
  <cp:lastModifiedBy>atorres</cp:lastModifiedBy>
  <cp:lastPrinted>2002-01-29T20:57:58Z</cp:lastPrinted>
  <dcterms:modified xsi:type="dcterms:W3CDTF">2006-11-09T19:59:23Z</dcterms:modified>
  <cp:revision>122</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15836645</vt:r8>
  </property>
  <property fmtid="{D5CDD505-2E9C-101B-9397-08002B2CF9AE}" pid="3" name="_AuthorEmail">
    <vt:lpwstr>erick.carrizales@redudg.udg.mx</vt:lpwstr>
  </property>
  <property fmtid="{D5CDD505-2E9C-101B-9397-08002B2CF9AE}" pid="4" name="_AuthorEmailDisplayName">
    <vt:lpwstr>Carrizales, Erick</vt:lpwstr>
  </property>
  <property fmtid="{D5CDD505-2E9C-101B-9397-08002B2CF9AE}" pid="5" name="_EmailSubject">
    <vt:lpwstr>Inf.Anual CULAGOS</vt:lpwstr>
  </property>
  <property fmtid="{D5CDD505-2E9C-101B-9397-08002B2CF9AE}" pid="6" name="_ReviewingToolsShownOnce">
    <vt:lpwstr/>
  </property>
</Properties>
</file>