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727C-1BA1-4701-A963-6962AFFC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8E75-15F2-43C6-9948-24DE971C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3E50-8DAC-43F6-A836-B433B899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16DD-29F4-43C5-96DD-EE2F8414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ED49-ABA5-427D-9D4E-F3C19A5F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D66B-633D-44CA-A825-B607217B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8A97-CE76-4EF0-AEE1-4C55358F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9423-6E1F-494A-8BE4-9813910A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3F2A-EFCD-4A74-8B49-5129CE3B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740C-5A02-4B79-8E21-995AD0F6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B4A4-5F03-4C29-B0F6-862E2EB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C703-C62E-4C07-9673-0CC51CB8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68D7-617F-4172-9384-736C7E52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AB6A-6D96-4BCB-B80D-A74E655B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90CA-1FB7-48EE-B4B6-6D105C24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A0DD-804F-42B7-B415-4B059444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5940-4CEF-4B89-901A-B406C92C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5437-1D75-4437-82B0-ABF821A9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0406-7277-41C4-BF4C-1CF2C97B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22C8-EA16-48FB-86D1-B3B0D6CB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9973-4E35-4831-9349-2AFAB4DF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F0FC-1128-47B9-9041-37ACBB1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4747-4F05-49BB-A0BC-FE3C3A4F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B50E-DA5D-46B6-A00C-EAD613EF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75CA-97FD-489A-BD11-44AAA4BC25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D08C-3394-43BD-A1D9-2121D25383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755640" y="2660760"/>
            <a:ext cx="77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APLICACIÓN DE RESPONSABILIDADES ADMINISTRATIV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759120" y="600120"/>
            <a:ext cx="16048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794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dfdef6"/>
                </a:solidFill>
                <a:latin typeface="Arial"/>
              </a:rPr>
              <a:t>SERVIDORES PÚBLICOS</a:t>
            </a:r>
            <a:endParaRPr b="0" lang="en-US" sz="2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035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rtículo 108 Constitucion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Para los efectos de las responsabilidades a que alude este título se reputarán como servidores públicos […] los funcionarios y empleados y, en general, a toda persona que desempeñe un empleo, cargo o comisión de cualquier naturaleza en la Administración Pública Federal […]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Las Constituciones de los Estados de la República precisarán, en los mismos términos del primer párrafo de este artículo y para los efectos de responsabilidades, el carácter de servidores públicos de quienes desempeñen empleo, cargo o comisión en los Estados y Municipios”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00000" y="187200"/>
            <a:ext cx="73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SISTEMA DE RESPONSABI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tículo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En el ámbito de su competencia, serán autoridades facultadas para aplicar la presente le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VII. La Auditoría Superior de la Federació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tículo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Para la investigación, tramitación, sustanciación y resolución, en su caso, de los procedimientos y recursos establecidos en la presente ley, serán autoridades competentes los contralores internos y los titulares de las áreas de auditoría […] de las dependencias y entidades […]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00000" y="187200"/>
            <a:ext cx="73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SISTEMA DE RESPONSABI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851040"/>
            <a:ext cx="82184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dfdef6"/>
                </a:solidFill>
                <a:latin typeface="Arial"/>
              </a:rPr>
              <a:t>Ley Federal de Responsabilidades Administrativas de los Servidores Públicos</a:t>
            </a:r>
            <a:endParaRPr b="0" lang="en-US" sz="2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Por la autonomía de las universidades públicas actuarán con base en su normativa para la sustanciación del cas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Por incumplimientos a disposiciones federales, se aplicará supletoriamente la Ley Federal de Responsabilidades Administrativas de los Servidores Públic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00000" y="187200"/>
            <a:ext cx="73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SISTEMA DE RESPONSABI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dfdef6"/>
                </a:solidFill>
                <a:latin typeface="Arial"/>
              </a:rPr>
              <a:t>Órganos de Control y Vigilancia</a:t>
            </a:r>
            <a:endParaRPr b="0" lang="en-US" sz="2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220320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UDITORÍ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 LAS INSTITUCIONES PÚBLIC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 EDUCACIÓN SUPERIOR (IP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1643040"/>
            <a:ext cx="792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ASF, desde la revisión de la CP 1997 fiscaliza a las I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sta la CP 2005 se han realizado 31 auditorías a 27 universidades públicas, de un universo de 6 Federales, 70 estatales y 60 tecnológ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340000" y="5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def6"/>
                </a:solidFill>
                <a:latin typeface="Arial"/>
                <a:ea typeface="Times New Roman"/>
              </a:rPr>
              <a:t>AUDITORÍAS PRACTIC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627280" y="486900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9.8% del total de 136 IP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609480" y="1643040"/>
            <a:ext cx="7925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instituciones fiscalizadas de 1997 a 2005 han sido las que cuentan con el mayor número de alumnos y personal académico y ejercen los montos más significativos de recursos federales ordinarios y extraordinarios reasignados al amparo de los convenios de Apoyo Financiero y de Colaboración y Apoyo celebrados entre éstas, los gobiernos estatales y la Secretaría de Educación Públ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340000" y="5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def6"/>
                </a:solidFill>
                <a:latin typeface="Arial"/>
                <a:ea typeface="Times New Roman"/>
              </a:rPr>
              <a:t>AUDITORÍAS PRACTIC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84360" y="1125360"/>
            <a:ext cx="7777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l amparo del convenio de colaboración con la AMOCVIES, se han fiscalizado a las 5 IPES siguient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340000" y="5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def6"/>
                </a:solidFill>
                <a:latin typeface="Arial"/>
                <a:ea typeface="Times New Roman"/>
              </a:rPr>
              <a:t>AUDITORÍA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dfdef6"/>
                </a:solidFill>
                <a:latin typeface="Arial"/>
                <a:ea typeface="Times New Roman"/>
              </a:rPr>
              <a:t>PRACTIC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79640" y="3009960"/>
            <a:ext cx="5113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1800" indent="-901800">
              <a:spcBef>
                <a:spcPts val="1500"/>
              </a:spcBef>
              <a:buClr>
                <a:srgbClr val="ffffff"/>
              </a:buClr>
              <a:buFont typeface="Arial"/>
              <a:buAutoNum type="arabicPlain" startAt="200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.A de Baja Califor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1800" indent="-901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004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.A. de Yucat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1800" indent="-90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. de Son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1800" indent="-901800">
              <a:spcBef>
                <a:spcPts val="1500"/>
              </a:spcBef>
              <a:buClr>
                <a:srgbClr val="ffffff"/>
              </a:buClr>
              <a:buFont typeface="Arial"/>
              <a:buAutoNum type="arabicPlain" startAt="200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.A. de Baja California S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1800" indent="-90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.A. de Campe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1800" indent="-90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50920" y="249228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30680" y="2492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221440" y="5726160"/>
            <a:ext cx="33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16.2% de las auditorí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09480" y="1413000"/>
            <a:ext cx="7925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el programa de revisión de la Cuenta Pública de 2005 se incluyó la fiscalización de siete de las 136 IPES, de las cuales cuatro fueron universidades estatales, una tecnológica y dos feder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las auditorías practicadas, cinco las realizó de manera directa la ASF y se participó en la fiscalización de otras dos al amparo del Convenio de Colaboración suscrito con la AMOCV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40000" y="5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def6"/>
                </a:solidFill>
                <a:latin typeface="Arial"/>
                <a:ea typeface="Times New Roman"/>
              </a:rPr>
              <a:t>AUDITORÍAS PRACTIC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PROMOCIÓN DEL FINCAMIENTO DE RESPONSABILIADAD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 las auditorías, la ASF ha promovido, ante los órganos de control y vigilancia, el fincamiento de responsabilidades administrativas sancionatorias, principalmente por contravenciones de las disposiciones establecidas en la legislación y norma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68360" y="465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Fundamento lega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35280" y="4653000"/>
            <a:ext cx="529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tículo 79, fracción IV Constitu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ticulo 45, fracciones II y III, de la Ley de Fiscalización Superior de la Feder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PROMOCIÓN DEL FINCAMIENTO DE RESPONSABILIADAD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tículo 79, fracción IV Constituci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La entidad de fiscalización superior de la Federación tendrá a su carg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IV. Determinar los daños y perjuicios que afecten a la hacienda pública federal o al patrimonio de los entes públicos […], así como promover ante las autoridades competentes el fincamiento de otras responsabilidades”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403280" y="9079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RESPONSA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332000" y="2954160"/>
            <a:ext cx="6697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argo u obligación moral que resulta para alguien del posible yerro en cosas o asunto determinad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332000" y="4487760"/>
            <a:ext cx="669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umplir con el deber de asumir las consecuencias de nuestros ac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03640" y="2095560"/>
            <a:ext cx="26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PROMOCIÓN DEL FINCAMIENTO DE RESPONSABILIADAD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tículo 45, de la Ley de Fiscalización Superior de la Fede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2851200"/>
            <a:ext cx="82296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La Auditoría Superior de la Federación procederá 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II. Promover ante las autoridades competentes el fincamiento de otras responsabilidades”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III. Promover las acciones de responsabilidad a que se refiere el Titulo Cuarto de la Constitución Política de los Estados Unidos Mexican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74420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la acción con la que la ASF promueve ante los órganos de control y vigilancia de la IPES la aplicación de sanciones que procedan, cuando se presume el incumplimiento de disposiciones normativas internas y las leyes federales previstas en los Convenios de Colaboración y Apoyo, en el desempeño del cargo o comisión de los servidores de las univers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PROMOCIÓN DEL FINCAMIENTO DE RESPONSABILIADAD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260676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enta Pública 2003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9 promociones a una I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uenta Pública 2004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 20 promociones a 5 I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PROMOCIÓN DEL FINCAMIENTO DE RESPONSABILIADAD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66560" y="2452680"/>
            <a:ext cx="56898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xistencia de contratos, pedidos u ordenes de comp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cumplimientos de la Ley de Impuesto Sobre la Renta y del Código Fiscal de la Fede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djudicaciones por excepción a la licitación sin funda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cumplimientos en materia de obra públ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cumplimientos en los actos de los procesos de adjudic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rregularidades en la erogación de recursos y pagos efectu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tr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0960" y="1341360"/>
            <a:ext cx="81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rregularidades que motivaron la promoción del fincamiento de responsabilidades administrativas sancionatori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308720" y="2448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0.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0.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3816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7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308720" y="44766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7.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380360" y="492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.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05560" y="5627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.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346880" y="63025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PROMOCIÓN DEL FINCAMIENTO DE RESPONSABILIADAD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DEBILIDADES DE LAS IP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15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unas IPES no cuentan con metas que permitan evaluar su contribución a elevar la calidad de la educación sup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15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manuales de organización y procedimientos están desactualizados y sin autorización de sus Órganos de Gobierno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15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s sistemas de control y supervisión para el ejercicio y registro de los recursos federales presentan deficienc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17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ejercicio de los recursos  federales en muchas ocasiones no se ajusta a la legislación federal y estatal ni a la normativa interna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FORTALEZAS DE LAS IP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73280"/>
            <a:ext cx="822960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1624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posición para fomentar la cultura de la rendición de cuentas y transparentar su operación.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624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Han venido adoptando medidas para mejorar sus sistemas de control en el manejo de los recurs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>
              <a:spcBef>
                <a:spcPts val="1624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Han actualizado su marco normativ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>
              <a:spcBef>
                <a:spcPts val="1624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Se han fortalecido los Órganos de Control y Vigilanc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CONCEPTOS DE RESPONSABILIDAD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mo obligación o funciones derivadas de cierto car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el sentido de factor cau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mo capacidad y como estado 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mo punible o moralmente reproch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RESPONSABILIDAD JURÍDICA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No es otra cosa que la situación jurídica que sobreviene a la consecuencia de la violación de una oblig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8360" y="364500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la imputabilidad que puede manifestarse como culpabilidad o como simple imputabilidad no culpo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TIPOS DE RESPONSABILIDAD JURÍDICA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410920" y="1887480"/>
            <a:ext cx="418788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di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lec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ulp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r resul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ELEMENTOS</a:t>
            </a:r>
            <a:r>
              <a:rPr b="0" lang="es-MX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DE LA RESPONSABILIDAD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6020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 hecho ilíc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existencia de un daño o menosca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Un nexo de causalidad entre el hecho y el da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paración del da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RESPONSABILIDAD ADMINISTRATIVA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poder público se encuentra delimitado por la 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servidores públicos se encuentran sujetos al cumplimiento de la 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l incumplimiento motiva el fincamiento de responsabi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RESPONSABILIDAD SANCIONATORIA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que resulta del incumplimiento de las oblig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rae como consecuencia la imposición de san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Arial"/>
              </a:rPr>
              <a:t>SISTEMA DE RESPONSABILIDAD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4259160" cy="16556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  <a:effectLst>
            <a:outerShdw dist="107932" dir="135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rigido a los servidores públicos y establece los mecanismos de condu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18420000">
            <a:off x="2446920" y="3103920"/>
            <a:ext cx="755640" cy="3564000"/>
          </a:xfrm>
          <a:custGeom>
            <a:avLst/>
            <a:gdLst>
              <a:gd name="textAreaLeft" fmla="*/ 101160 w 755640"/>
              <a:gd name="textAreaRight" fmla="*/ 654480 w 755640"/>
              <a:gd name="textAreaTop" fmla="*/ 633600 h 3564000"/>
              <a:gd name="textAreaBottom" fmla="*/ 2534400 h 35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81" stAng="-5400000" swAng="-5400000"/>
                <a:lnTo>
                  <a:pt x="0" y="11519"/>
                </a:lnTo>
                <a:arcTo wR="21600" hR="7681" stAng="10800000" swAng="-2709818"/>
                <a:lnTo>
                  <a:pt x="14400" y="21161"/>
                </a:lnTo>
                <a:lnTo>
                  <a:pt x="21600" y="17280"/>
                </a:lnTo>
                <a:lnTo>
                  <a:pt x="14400" y="12521"/>
                </a:lnTo>
                <a:lnTo>
                  <a:pt x="14400" y="14922"/>
                </a:lnTo>
                <a:arcTo wR="21600" hR="7681" stAng="8090182" swAng="2395277"/>
                <a:lnTo>
                  <a:pt x="685" y="9599"/>
                </a:lnTo>
                <a:arcTo wR="21600" hR="7681" stAng="-10485458" swAng="5085458"/>
                <a:close/>
              </a:path>
              <a:path fill="darkenLess" w="21600" h="21600">
                <a:moveTo>
                  <a:pt x="21600" y="0"/>
                </a:moveTo>
                <a:arcTo wR="21600" hR="7681" stAng="-5400000" swAng="-5400000"/>
                <a:lnTo>
                  <a:pt x="0" y="7681"/>
                </a:lnTo>
                <a:arcTo wR="21600" hR="7681" stAng="10800000" swAng="-314542"/>
                <a:lnTo>
                  <a:pt x="685" y="9599"/>
                </a:lnTo>
                <a:arcTo wR="21600" hR="7681" stAng="-10485458" swAng="5085458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05200" y="4365720"/>
            <a:ext cx="4259520" cy="16556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RTÍCULO 113 CONSTITU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686800" y="6553080"/>
            <a:ext cx="380880" cy="22860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0:24:44Z</dcterms:created>
  <dc:creator>Direccion General de Sistemas</dc:creator>
  <dc:description/>
  <dc:language>en-US</dc:language>
  <cp:lastModifiedBy>Direccion General de Sistemas</cp:lastModifiedBy>
  <dcterms:modified xsi:type="dcterms:W3CDTF">2007-03-07T02:29:38Z</dcterms:modified>
  <cp:revision>39</cp:revision>
  <dc:subject/>
  <dc:title>Diapositiva 1</dc:title>
</cp:coreProperties>
</file>