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E83-6743-4068-995D-3D1CC611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0E8-F4A4-47C8-8B17-196F5B21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6C9-CF50-44AE-94AC-F772645D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1F3-35A2-4FE6-8908-DA51C29E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06CF-D13C-4DF5-B452-6B3F8746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EFFA-94C7-40D3-9CD8-DC3DD954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B353-908C-4B32-A229-32EEBF2E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DF65-6EB3-444F-99E0-3BC9C246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D2FD-DD5B-429B-AB87-C03CF440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3F65-D4D3-451D-AAE1-D2E44EEC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FEAC-A765-4880-A59E-6650D519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5FE-1AD1-4C0E-912B-FB52932C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7F88-0231-457A-A42C-06F68685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62BF-958A-4AD4-9372-776AC28E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C419-AA5C-427E-A9C8-08A7647C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B53F-646F-475D-9A0A-E6299D6D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D37-5AC4-410C-A32C-AF4B2082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5B81-8EDC-407D-8C98-F0A06FE3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C100-A3DB-4B2D-814B-D0258B7C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CCCCF-9431-4149-AED5-036233EC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7D46-9125-46D0-9C1D-8BD22993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9697-4020-454C-8BBB-36AEB22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CED-90A3-46FD-9B47-63D021C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5585-FBBD-4E0A-883E-235E3F31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52E4-A560-4516-8A7E-2154B3C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4FA0-200C-4577-B5D8-772EBE9C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C252-D301-4662-9DD6-49B5584D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13C6-7DE5-4C45-BD11-6AC19605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4C55-EAA0-4B8C-AEE5-4C24975B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B922-0399-44B0-A7CF-6CB1740B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690-D0FE-4DCE-B15D-2100797D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26F-CD46-400B-A267-F9DEDF94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73A-D9C0-41F9-A458-3000F7D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B2FB-0C02-47CC-A415-429B3A8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FC2-477D-462A-B68F-D5D21171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BF4-F45A-41AA-8E59-5AC66E95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DCB2-6284-441A-8D98-62D3CC862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0EA2-519D-4E13-BAAB-DA8CF7FC5E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8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F2DD-3372-4042-92D9-419ACCE8C08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5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OS  A  CONSID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SU REGISTR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aptop"/>
          <p:cNvSpPr/>
          <p:nvPr/>
        </p:nvSpPr>
        <p:spPr>
          <a:xfrm>
            <a:off x="2666880" y="3581280"/>
            <a:ext cx="4267440" cy="23623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371600"/>
            <a:ext cx="8305920" cy="5029200"/>
          </a:xfrm>
          <a:prstGeom prst="flowChartAlternateProcess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SERVICIO DE AUTOTRANSPORTE TERRESTRE DE BI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NA PERSONA FISICA O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EL SERVICIO SE PRESTA EN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O DE AUTOTRANSPORTE       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 I. V. A.    AL    10 % 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U B T O T A L                                                      $ 1,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 )  RETENCION  AL 4 %                                             4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E  A  PAGAR                                             $ 1,06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anto el IVA al 10 % como la retención del  4 % debe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lcularse sobre el importe del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rts. 2 y 1-A, fracc. II, c)  Ley del IVA; y reglas 5.1.11 y 5.1.2. Miscelán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362320"/>
            <a:ext cx="6858000" cy="1752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106668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URAS   DE   HOSPEDAJE   EN   HO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INCLUYEN CONSUMO EN RESTAU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SIDENTE 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 DE HABITACION                      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CONSUMO EN RESTAURANTE                        5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           $ 1,5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. V. A.  AL 15%                                                   22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MPUESTO HOSPEDAJE  2 %                             2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O T A L                                                              $ 1,7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a de impuesto para el Estado de Chihuahua, la cual se a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nicamente  sobre  el   importe  correspondiente  al   hospeda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ha  tasa puede variar según la entidad federativa,  por l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conveniente evaluar la posibilidad de anotar la tasa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20574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581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58200" y="2286000"/>
            <a:ext cx="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077320" y="4952880"/>
            <a:ext cx="3808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43800" y="22860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1066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75248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URAS   DE   HOSPEDAJE   EN   HO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INCLUYEN CONSUMO EN RESTAU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TE 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 DE HABITACION                      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CONSUMO EN RESTAURANTE                         5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           $ 1,5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. V. A.  AL 10 %    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MPUESTO HOSPEDAJE  2 %                             2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O T A L                                                              $ 1,67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a de impuesto para el Estado de Chihuahua, la cual se a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nicamente  sobre  el   importe  correspondiente  al   hospeda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ha  tasa puede variar según la entidad federativa,  por l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conveniente evaluar la posibilidad de anotar la tasa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0574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3581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58200" y="2286000"/>
            <a:ext cx="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077320" y="4952880"/>
            <a:ext cx="3808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43800" y="22860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1066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17524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URA  POR COBRO  DE VALES DE DESP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DIDA POR UN  NO 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INCLUYE CARGO POR CO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ES PARA CONSUMO DE DESPENSAS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CARGO POR COMISION                                            300.00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                   $ 1,3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. V. A.  AL 15 %                                                            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O  T  A  L                                                                  $ 1,34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stos casos las facturas  incluyen  los  importes  tanto de los  v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 despensa  como  de  la  comisión,  sin embargo la tasa de IVA d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rse únicamente sobre el importe de la com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2362320"/>
            <a:ext cx="6782040" cy="1752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106668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0" y="1752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14479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816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URA  POR COBRO  DE VALES DE DESPE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DIDA POR UN 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INCLUYE CARGO POR CO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ES PARA CONSUMO DE DESPENSAS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CARGO POR COMISION                                            300.00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                   $ 1,3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. V. A.  AL 10 %                                                            3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 O  T  A  L                                                                  $ 1,33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stos casos las facturas  incluyen  los  importes  tanto de los  v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 despensa  como  de  la  comisión,  sin embargo la tasa de IVA d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rse únicamente sobre el importe de la com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362320"/>
            <a:ext cx="6782040" cy="1752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106668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1752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144792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816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URAS DE OPER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ECTUADAS EN LA REGION 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CIONADOS POR RESIDENTES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 INCLUYEN  OPERACIONES  CON  CONCEPTOS  GRA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CON CONCEPTOS EX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ES GRAVADOS                  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ES EXENTOS                                       1,000.0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0 %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O T A L                                                    $ 2,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stas casos las facturas  incluyen  los  importes  tanto de los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vados como de los bienes exentos, sin embargo la tasa de IVA d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rse únicamente sobre el importe de los bienes gra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895480"/>
            <a:ext cx="6934320" cy="1752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14479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7524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20574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2438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URAS DE OPERACION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ECTUADAS EN LA REGION 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 INCLUYEN  OPERACIONES  CON  CONCEPTOS  GRA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CON CONCEPTOS EX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ES GRAVADOS                  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ES EXENTOS                                       1,000.00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O T A L                                                    $ 2,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stas casos las facturas  incluyen  los  importes  tanto de los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vados como de los bienes exentos, sin embargo la tasa de IVA d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carse únicamente sobre el importe de los bienes gra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2895480"/>
            <a:ext cx="6934320" cy="17528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144792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05740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2438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HONORARIOS  A  UNA PERSONA F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IENTEMENTE DEL LUGAR DE PRESTACIO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ORARIOS       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5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 2 / 3  IVA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10 % ISR                              1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  9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1 y 1-A-II-a) de la Ley del IVA; y regla 5.1.1. Resolución Miscel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27  Ley del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20574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1447920"/>
            <a:ext cx="518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0666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3048120"/>
            <a:ext cx="609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HONORARIOS   A UNA PERSONA F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 EL SERVICIO ES PRESTADO EN LA REGION 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ORARIOS       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0 % 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 2 / 3  IVA                               6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10 % ISR                              1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 $   93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2 y 1-A-II-a) de la Ley del IVA; y regla 5.1.1. Resolución Miscel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27 Ley del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20574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14479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0666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048120"/>
            <a:ext cx="609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HONORARIOS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 EL SERVICIO ES PRESTADO EN LA REGION 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ORARIOS       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0 % 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A PAGAR                                      $  1,1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ículos 2 y 14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2438280"/>
            <a:ext cx="693432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14479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10666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IDO DE LA DECLARACION INFORMATIVA DE  IVA DE OPERACIONES CON PROVEE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artículo 32 fracción VIII de la Ley del IVA  establece  la siguiente obliga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cionar mensualmente a las autoridades fiscales, a través de los medios y formatos electrónicos que señales el Servicio de Administración Tributaria, la información correspondiente sobre el pago, retención, acreditamiento y traslado del impuesto al valor agregado en las operaciones con sus proveedores, desglosando el valor de los actos o actividades por tasa a la cual trasladó o le fue trasladado el impuesto al valor agregado, incluyendo actividades por las que el contribuyente no está obligado al pago, dicha información se presentará, a más tardar el día 17 del mes inmediato posterior al que corresponda dicha informa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8229600" cy="1143000"/>
          </a:xfrm>
          <a:prstGeom prst="flowChartAlternateProcess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676520"/>
            <a:ext cx="8991720" cy="4876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HONORARIOS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IENTEMENTE DEL LUGAR DE PRESTACIO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NORARIOS       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A PAGAR                                      $  1,15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ículos 1 y 14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2438280"/>
            <a:ext cx="693432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14479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10666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F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 NO  UBICADO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5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 2 / 3  IVA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10 % ISR                              1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  9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1 y 1-A-II-a) de la Ley del IVA; y regla 5.1.1. Resolución Miscel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43 Ley del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20574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14479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0666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3048120"/>
            <a:ext cx="6098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 NO  UBICADO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A PAGAR                                      $  1,15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1 y 19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2286000"/>
            <a:ext cx="6934320" cy="1981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523880" y="14479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10666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199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UBICADO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0 % 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A PAGAR                                      $  1,1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2 y 19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2286000"/>
            <a:ext cx="6934320" cy="1981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1447920"/>
            <a:ext cx="5791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10666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F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UBICADO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0 % 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 2 / 3  IVA                               6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10 % ISR                              1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  93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2 y 1-A-II-a) de la Ley del IVA; y regla 5.1.1. Resolución Miscel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43 Ley del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20574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144792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10666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0481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 HABITACION NO AMUEB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UBICADA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1 y 19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66680" y="2438280"/>
            <a:ext cx="6934320" cy="1828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1447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600" y="10666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 HABITACION NO AMUEB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BICADA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2 y 19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2438280"/>
            <a:ext cx="6934320" cy="1828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1447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10666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F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 HABITACION NO AMUEB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BICADA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10 % ISR                              1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  9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 y 20-II de la Ley del IVA  y  Art. 143 Ley del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66680" y="2438280"/>
            <a:ext cx="6934320" cy="1828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38280" y="1447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10666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F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 HABITACION    AMUEB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UBICADA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5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 2 / 3  IVA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10 % ISR                              1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  9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 y 1-A-II-a) de la Ley del IVA; y regla 5.1.1. Resolución Miscel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43 Ley del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2209680"/>
            <a:ext cx="69343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38280" y="1447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10666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 HABITACION    AMUEB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UBICADA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5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1 y 19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2860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1447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10666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IDO DE LA DECLARACION INFORMATIVA DE  IVA DE OPERACIONES CON PROVEE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SAT HA DADO A CONOCER DE MANERA EXTRAOFICIAL EL CONTENIDO DE LA CARGA BATCH, EL CUAL BASICAMENTE REQUIERE DE LA SIGUIENTE INFORMAC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3581640" y="4343400"/>
            <a:ext cx="2133360" cy="137160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523880"/>
            <a:ext cx="8686800" cy="4953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 HABITACION    AMUEB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BICADA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0 % 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2 y 19 de la Ley del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66680" y="2286000"/>
            <a:ext cx="6934320" cy="2133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38280" y="1447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1066680"/>
            <a:ext cx="624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ARRENDAMIENTO   A UNA PERSONA FI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A HABITACION    AMUEB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BICADA EN LA REGION FRONTERI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ENDAMIENTO         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0 %                                              1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$  1,1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 2 / 3  IVA                               66.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)  RETENCION 10 % ISR                              1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$    933.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2 y 1-A-II-a) de la Ley del IVA; y regla 5.1.1. Resolución Miscel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43 Ley del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66680" y="2209680"/>
            <a:ext cx="69343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38280" y="14479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10666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722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33720" y="17524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4852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BOLETOS DE AV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ENDO DESDE CUALQUIER PUNTO DEL PAIS A CD. JUAR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 PARTIENDO DE CD. JUAREZ A CUALQUIER PUNTO DEL 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ACION AEREA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(sobre el 25% del pasaje)          37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      $  1,137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T.U.A.                                                               14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OTROS IMPUESTOS                                        1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      $ 1,289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s. 1 y 16 penúltimo párrafo y 29-VI de la Ley del 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66680" y="2286000"/>
            <a:ext cx="6934320" cy="2286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4479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666880" y="10666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175248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4852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38880" y="28954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96080" y="289548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3152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BOLETOS DE AV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ENDO Y LLEGANDO A CUALQUIER PUNTO DEL P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UBICADO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ACION AEREA                          $  1,000.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IVA AL 15 %      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OTAL                                                      $  1,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T.U.A.                                                               14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OTROS IMPUESTOS                                        1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  A   PAGAR                                         $ 1,30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. 1 Ley del 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066680" y="2286000"/>
            <a:ext cx="6934320" cy="2286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43000" y="144792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10666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7220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1752480"/>
            <a:ext cx="487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100160" y="3824280"/>
            <a:ext cx="68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DECLARACIÓN INFORMATIVA DE 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5600" y="99072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UNIVERSIDAD AUTÓNOMA DE CIUDAD JUÁ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8640" y="2616120"/>
            <a:ext cx="83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Coordinación General de Tecnologías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230840" y="1004760"/>
            <a:ext cx="70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DECLARACIÓN INFORMATIVA DE  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2133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dentificar las diferentes fuentes de información aún cuando no se encuentren integradas al S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0880" y="30481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señar e implementar en el Sistema Integral de Información procesos no integr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5840" y="16765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3962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enerar los archivos de interfase con el sistema SAT para enviar la información automá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76920" y="4952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Alc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4100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política de la Institución el IVA facturado a Proveedores, Honorarios o Servicios no se contabiliza en una partida específica por lo que los montos se integran a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74760" y="175248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Procesos identific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29840" y="2209680"/>
            <a:ext cx="72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acturación a Proveedores por Ordenes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29120" y="2743200"/>
            <a:ext cx="66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acturación a Proveedores Servicios Mé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4160" y="4010040"/>
            <a:ext cx="646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rdenes de Pago por :     Honor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rend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4400" y="571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robación de gastos DEUDORES DI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038480"/>
            <a:ext cx="304920" cy="2210040"/>
          </a:xfrm>
          <a:custGeom>
            <a:avLst/>
            <a:gdLst>
              <a:gd name="textAreaLeft" fmla="*/ 89640 w 304920"/>
              <a:gd name="textAreaRight" fmla="*/ 305280 w 30492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9999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-339840" y="492768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0000"/>
                </a:solidFill>
                <a:latin typeface="Times New Roman"/>
              </a:rPr>
              <a:t>No integrados al S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30840" y="1004760"/>
            <a:ext cx="70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DECLARACIÓN INFORMATIVA DE  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6120" y="3276720"/>
            <a:ext cx="70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VA Honorarios procesos generados por nó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68160" y="2819520"/>
            <a:ext cx="809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PROCESOS YA INTEGR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SISTEMA INTEGRAL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62120" y="1862280"/>
            <a:ext cx="7848360" cy="47671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920" y="914400"/>
            <a:ext cx="73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Facturación a Proveedores por Ordenes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18080" y="6210360"/>
            <a:ext cx="36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867280" y="3733920"/>
            <a:ext cx="2971800" cy="30456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4832280"/>
            <a:ext cx="7543800" cy="73332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99"/>
                </a:solidFill>
                <a:latin typeface="Arial"/>
              </a:rPr>
              <a:t>El registro de facturas se realiza en el módulo de adquisiciones y se basa en las ordenes de compra generadas para cada proveedor, proceso que nos permite registrar el IVA facturado a Provee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65240" y="483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88280" y="9144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Facturación a Proveedores Servicios Mé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772400" cy="47210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172200" y="3352680"/>
            <a:ext cx="2057400" cy="38124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4724280"/>
            <a:ext cx="7543800" cy="73332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99"/>
                </a:solidFill>
                <a:latin typeface="Arial"/>
              </a:rPr>
              <a:t>El registro de facturas de compra de medicamentos de farmacia de Servicios Médicos Universitarios se realiza en el  módulo de Servicios Médicos, el proceso permite el registro de IVA facturado a proveedores de medicamentos surtidos a la farma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mero          DESCRIPCION                                INFORMACION REQUER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          Tipo   de   tercero                             0 4      Proveedor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 3      Prestación de servicios profes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           Tipo de operación              0 6       Arrendamiento de inmue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5      O t r o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                   R   F  C                                               A    1 3   posi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o de las                                             Facturas por órdenes de comp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ciones                    Proveedores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          pagadas con                                             Facturas exter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ir   I V A                                             N ó m i 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norarios      Ordenes de pago honor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o de las                                             Ordenes de pago gene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0                deducibles                                      Unicamente  LOS PAG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orme a                                          sin considerar EL I V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  L I S R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342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5720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57200"/>
            <a:ext cx="0" cy="640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457200"/>
            <a:ext cx="0" cy="640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0292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715000"/>
            <a:ext cx="3200400" cy="68580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949480" y="91440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IVA Honor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27907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generación de los procesos para Honorarios consideran la retención de IVA por medio de la clasificación de un concepto de descuento (256), que queda registrado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229600" cy="47325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949480" y="914400"/>
            <a:ext cx="29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IVA Honor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343400"/>
            <a:ext cx="1600200" cy="22860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5264280"/>
            <a:ext cx="7467480" cy="5202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99"/>
                </a:solidFill>
                <a:latin typeface="Arial"/>
              </a:rPr>
              <a:t>Los procesos generados en el listado por concepto de pago de honorarios genera la retención de IVA en un concepto determinado (25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4297320"/>
            <a:ext cx="160020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ONOR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68160" y="2819520"/>
            <a:ext cx="809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PROCESOS DE INTEGR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SISTEMA INTEGRAL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162080" y="76212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rdenes de P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Honorarios, Servicios, Arrendamiento, 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041560" y="2171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301932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ordenes de pago por estos conceptos las genera el usuario y son generadas por el monto neto a pagar ya que el usuario desconoce si aplica la retención y los criterios de aplicación, por lo que posteriormente el área de Contabilidad  hace los cálculos manuales para obtener los montos de IVA retenido que no fueron registrados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6920" y="21337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Sit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28600" y="2778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analizaron los diferentes métodos de cálculo de IVA retenido que se aplican a las ordenes de pago generadas por el usuario y en virtud de que son diferentes métodos dependiendo del tipo de orden, éstos fueron relacionados a un requerimiento que selecciona el usuario y que identifica si es de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norarios, Servicios, Arrendamiento u Hospedaj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para que aún cuando se generen por el monto neto a pagar, se puedan aplicar los métodos de cálculo y registrar el IVA  retenido en el momento se la generación de la o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81960" y="2133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162080" y="76212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rdenes de P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Honorarios, Servicios, Arrendamiento, 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162080" y="76212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rdenes de P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Honorarios, Servicios, Arrendamiento, 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39520" y="17524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9966"/>
                </a:solidFill>
                <a:latin typeface="Times New Roman"/>
              </a:rPr>
              <a:t>Men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77960" y="34290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60000"/>
                </a:solidFill>
                <a:latin typeface="Times New Roman"/>
              </a:rPr>
              <a:t>Genera O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6080" y="39625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60000"/>
                </a:solidFill>
                <a:latin typeface="Times New Roman"/>
              </a:rPr>
              <a:t>Modifica O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120" y="44942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60000"/>
                </a:solidFill>
                <a:latin typeface="Times New Roman"/>
              </a:rPr>
              <a:t>Consulta 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-33840" y="5029200"/>
            <a:ext cx="193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60000"/>
                </a:solidFill>
                <a:latin typeface="Times New Roman"/>
              </a:rPr>
              <a:t>Captura método de cálc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28800" y="3581280"/>
            <a:ext cx="4114800" cy="762120"/>
          </a:xfrm>
          <a:prstGeom prst="line">
            <a:avLst/>
          </a:prstGeom>
          <a:ln w="2844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4114800"/>
            <a:ext cx="4114800" cy="380880"/>
          </a:xfrm>
          <a:prstGeom prst="line">
            <a:avLst/>
          </a:prstGeom>
          <a:ln w="2844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28800" y="4648320"/>
            <a:ext cx="4114800" cy="0"/>
          </a:xfrm>
          <a:prstGeom prst="line">
            <a:avLst/>
          </a:prstGeom>
          <a:ln w="2844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-76320" y="5516640"/>
            <a:ext cx="197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660000"/>
                </a:solidFill>
                <a:latin typeface="Times New Roman"/>
              </a:rPr>
              <a:t>Consulta montos gener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828800" y="4952520"/>
            <a:ext cx="4114800" cy="228600"/>
          </a:xfrm>
          <a:prstGeom prst="line">
            <a:avLst/>
          </a:prstGeom>
          <a:ln w="2844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828800" y="5105160"/>
            <a:ext cx="4114800" cy="533160"/>
          </a:xfrm>
          <a:prstGeom prst="line">
            <a:avLst/>
          </a:prstGeom>
          <a:ln w="28440">
            <a:solidFill>
              <a:srgbClr val="6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1068480" y="2209680"/>
            <a:ext cx="7313400" cy="44420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76200" y="175248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Requerimi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62080" y="76212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rdenes de P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Honorarios, Servicios, Arrendamiento, 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1162080" y="76212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rdenes de P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Honorarios, Servicios, Arrendamiento, 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41560" y="2171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523280" cy="45691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72600" y="1752480"/>
            <a:ext cx="65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Registro de requerimientos y métodos de cálc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162080" y="76212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rdenes de P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Honorarios, Servicios, Arrendamiento, 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7523280" cy="45705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914400" y="1752480"/>
            <a:ext cx="7543800" cy="73332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99"/>
                </a:solidFill>
                <a:latin typeface="Arial"/>
              </a:rPr>
              <a:t>En el módulo de Egresos se creó un tipo de Orden de Pago a Honorarios y Servicios  basada en los requerimientos definidos en la pantalla anterior para generar el IVA reten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162080" y="762120"/>
            <a:ext cx="71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Ordenes de Pa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Honorarios, Servicios, Arrendamiento, Hosp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992160" y="2262240"/>
            <a:ext cx="7313760" cy="44434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477120" y="5410080"/>
            <a:ext cx="2057400" cy="228600"/>
          </a:xfrm>
          <a:prstGeom prst="ellipse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1752480"/>
            <a:ext cx="7543800" cy="520200"/>
          </a:xfrm>
          <a:prstGeom prst="rect">
            <a:avLst/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99"/>
                </a:solidFill>
                <a:latin typeface="Arial"/>
              </a:rPr>
              <a:t>Consulta de la Orden de pago de Honorarios y Servicios después de la aplicación del método de cálculo del requer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28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mero          DESCRIPCION                                INFORMACION REQUER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1           DEV / DESC / BONIF.                Se requiere identificar estos supuestos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BRE COMPRAS                                       (Dato opc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2           ISR  RETENIDO  POR             En los casos de pagos a personas físicas p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TRIBUYENTE                concepto de honorarios o arrend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3            IVA POR DEV / DESC               El IVA correspondiente a estos su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NIF. S/COMPRAS                                    (Dato opc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4            ACTOS O ACTIV. 15%         Valor de los actos o actividades pagadas al 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6            ACTOS O ACTIV. 10%         Valor de los actos o actividades pagadas al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3            ACTOS  O ACTIV.  0%         Valor de los actos o actividades pagadas al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4            ACTOS    EXENTOS          Valor de los actos  o actividades que no pagan 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5                I V A  RETENIDO         IVA retenido por honorarios, arrendamiento y flet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57200"/>
            <a:ext cx="9144000" cy="617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4572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4572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334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744840" y="914400"/>
            <a:ext cx="72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Comprobación de gastos DEUDORES DI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                                 </a:t>
            </a: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(Viá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27907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comprobación del gasto se realiza por la generación de una póliza de Diario relacionada con una orden de pago generada y pagada en donde se descarga del deudor el monto de la orden de pago comprob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6920" y="2057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Sit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57200" y="2867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 partir del análisis hecho con el usuario, el proceso se encuentra en fase de desarrollo de tal suerte que, posterior a la generación de la póliza de Diario, el usuario cuente con una opción dentro de la misma comprobación para registrar las facturas que amparan dicho proceso y registrar el monto de IVA pagado a cada uno de los Provee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81960" y="21337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4840" y="914400"/>
            <a:ext cx="72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Comprobación de gastos DEUDORES DI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                                 </a:t>
            </a: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(Viá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440440" y="358128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Por su atención, 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85600" y="990720"/>
            <a:ext cx="73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0000"/>
                </a:solidFill>
                <a:latin typeface="Times New Roman"/>
              </a:rPr>
              <a:t>UNIVERSIDAD AUTÓNOMA DE CIUDAD JUÁ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34360" y="5149800"/>
            <a:ext cx="85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C.P. Rafael Ruvalcaba Ramírez   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(rruvalca@uacj.m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0000"/>
                </a:solidFill>
                <a:latin typeface="Times New Roman"/>
              </a:rPr>
              <a:t>Mtra. Silvia Ampudia Rueda        </a:t>
            </a: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(sampudia@uacj.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8640" y="2362320"/>
            <a:ext cx="83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Coordinación General de Tecnologías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ctos a considerar al contabilizar las opera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  el    R F C    de  cada 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monto de la adqui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r por separado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importe del IVA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la adquisición                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 el  IVA  por tasa                       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si el monto de la          H o n o r a r i o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quisición corresponde a:         Arrenda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t r o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762120"/>
            <a:ext cx="8229600" cy="556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133720"/>
            <a:ext cx="457200" cy="1218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581280"/>
            <a:ext cx="457200" cy="1295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5181480"/>
            <a:ext cx="304920" cy="1067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232"/>
                </a:lnTo>
                <a:cubicBezTo>
                  <a:pt x="10800" y="8132"/>
                  <a:pt x="5400" y="9032"/>
                  <a:pt x="0" y="9032"/>
                </a:cubicBezTo>
                <a:cubicBezTo>
                  <a:pt x="5400" y="9032"/>
                  <a:pt x="10800" y="9932"/>
                  <a:pt x="10800" y="108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37160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l caso de pagos a            Honorarios             Registrar reten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s  físicas  por          Arrendamiento                de  ISR  e 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l caso de pag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s   morales o               F l e t e s            Registrar retención de 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ísicas  por concept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  las adquisiciones efectivamente PA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762120"/>
            <a:ext cx="8229600" cy="556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143000"/>
            <a:ext cx="457200" cy="838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2040 h 838080"/>
              <a:gd name="textAreaBottom" fmla="*/ 806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28"/>
                  <a:pt x="10800" y="2655"/>
                </a:cubicBezTo>
                <a:lnTo>
                  <a:pt x="10800" y="8145"/>
                </a:lnTo>
                <a:cubicBezTo>
                  <a:pt x="10800" y="9473"/>
                  <a:pt x="5400" y="10800"/>
                  <a:pt x="0" y="10800"/>
                </a:cubicBezTo>
                <a:cubicBezTo>
                  <a:pt x="5400" y="10800"/>
                  <a:pt x="10800" y="12128"/>
                  <a:pt x="10800" y="13455"/>
                </a:cubicBezTo>
                <a:lnTo>
                  <a:pt x="10800" y="18945"/>
                </a:lnTo>
                <a:cubicBezTo>
                  <a:pt x="10800" y="20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8954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114300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200"/>
                </a:lnTo>
                <a:cubicBezTo>
                  <a:pt x="10800" y="9100"/>
                  <a:pt x="16200" y="10000"/>
                  <a:pt x="21600" y="10000"/>
                </a:cubicBezTo>
                <a:cubicBezTo>
                  <a:pt x="16200" y="10000"/>
                  <a:pt x="10800" y="10900"/>
                  <a:pt x="10800" y="118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2895480"/>
            <a:ext cx="381240" cy="1143000"/>
          </a:xfrm>
          <a:custGeom>
            <a:avLst/>
            <a:gdLst>
              <a:gd name="textAreaLeft" fmla="*/ 0 w 381240"/>
              <a:gd name="textAreaRight" fmla="*/ 137520 w 3812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572000"/>
            <a:ext cx="6705720" cy="99072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 INFORMATIVA  DE 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BLES  CASOS  DE  OPERACIONES  CON  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ile"/>
          <p:cNvSpPr/>
          <p:nvPr/>
        </p:nvSpPr>
        <p:spPr>
          <a:xfrm>
            <a:off x="1066680" y="2286000"/>
            <a:ext cx="28958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ile"/>
          <p:cNvSpPr/>
          <p:nvPr/>
        </p:nvSpPr>
        <p:spPr>
          <a:xfrm>
            <a:off x="2362320" y="2743200"/>
            <a:ext cx="2971800" cy="1895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ile"/>
          <p:cNvSpPr/>
          <p:nvPr/>
        </p:nvSpPr>
        <p:spPr>
          <a:xfrm>
            <a:off x="3809880" y="3276720"/>
            <a:ext cx="304812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ile"/>
          <p:cNvSpPr/>
          <p:nvPr/>
        </p:nvSpPr>
        <p:spPr>
          <a:xfrm>
            <a:off x="5181480" y="3962520"/>
            <a:ext cx="289584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838080"/>
            <a:ext cx="8153640" cy="556272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28600"/>
            <a:ext cx="57150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CION INFORMATIVA DE 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O DE SERVICIO DE AUTOTRANSPORTE TERRESTRE DE BI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NA PERSONA FISICA O A UNA PERSONA M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SIDENTE EN LA REGION FRONTER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IENTEMENTE DEL LUGAR DE PRESTACION DEL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O DE AUTOTRANSPORTE                     $ 1,00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+ )  I. V. A.    AL    15 %                                              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U B T O T A L                                                      $ 1,1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-  )  RETENCION  AL 4 %                                             4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E  A  PAGAR                                             $ 1,11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anto el IVA al 10 % como la retención del  4 % debe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lcularse sobre el importe del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rts. 2 y 1-A, fracc. II, c)  Ley del IVA; y reglas 5.1.11 y 5.1.2. Misceláne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590920"/>
            <a:ext cx="68580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533520"/>
            <a:ext cx="8534520" cy="6019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0"/>
            <a:ext cx="51818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17524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8:22:44Z</dcterms:created>
  <dc:creator>UACJ</dc:creator>
  <dc:description/>
  <dc:language>en-US</dc:language>
  <cp:lastModifiedBy>END USER</cp:lastModifiedBy>
  <dcterms:modified xsi:type="dcterms:W3CDTF">2007-03-05T22:26:48Z</dcterms:modified>
  <cp:revision>76</cp:revision>
  <dc:subject/>
  <dc:title>DECLARACION INFORMATIVA DE 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47599812</vt:r8>
  </property>
  <property fmtid="{D5CDD505-2E9C-101B-9397-08002B2CF9AE}" pid="3" name="_AuthorEmail">
    <vt:lpwstr>pmendez@uacj.mx</vt:lpwstr>
  </property>
  <property fmtid="{D5CDD505-2E9C-101B-9397-08002B2CF9AE}" pid="4" name="_AuthorEmailDisplayName">
    <vt:lpwstr>Patricia Mendez Lona</vt:lpwstr>
  </property>
  <property fmtid="{D5CDD505-2E9C-101B-9397-08002B2CF9AE}" pid="5" name="_EmailSubject">
    <vt:lpwstr/>
  </property>
  <property fmtid="{D5CDD505-2E9C-101B-9397-08002B2CF9AE}" pid="6" name="_PreviousAdHocReviewCycleID">
    <vt:r8>1184247798</vt:r8>
  </property>
  <property fmtid="{D5CDD505-2E9C-101B-9397-08002B2CF9AE}" pid="7" name="_ReviewingToolsShownOnce">
    <vt:lpwstr/>
  </property>
</Properties>
</file>