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wind.wav" ContentType="audio/x-wav"/>
  <Override PartName="/ppt/media/hammer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C4A8B-5924-4C3F-8B7F-2018718FF00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2880-5F40-4FBC-A6D3-5ACD8889DC1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5E08-B3A3-4B9C-8A80-29D7E89E8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DB7D-32E7-4A1C-B243-32D30DF90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4F86-A23B-4DF1-872C-2AE11BD7B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0500-4D3F-43E0-AEAE-3B34C3AC3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3134-BABD-4852-8CDB-1046C7A66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5DB6-9349-40EC-B57D-BF2CABEEF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91A4-BCA7-4145-B08D-C9EB2FF5B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F4D0-1276-4908-9DE1-976BC9E05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439D-F3ED-4178-9B04-0EB983D55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39F7-659C-446D-9EFF-26AB2FE9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184B-3A54-45FA-A03B-A19E9FAA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D524-78B0-4B6D-8EE3-966122C5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F6F43-E1B8-4234-9981-7599DF6440B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3499920"/>
            <a:ext cx="8497800" cy="2519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156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Experiencias de las IES respecto a las inconformidades que se presentan en los procesos de lici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CG LOGO sin fondo"/>
          <p:cNvPicPr/>
          <p:nvPr/>
        </p:nvPicPr>
        <p:blipFill>
          <a:blip r:embed="rId1"/>
          <a:stretch/>
        </p:blipFill>
        <p:spPr>
          <a:xfrm>
            <a:off x="179280" y="1197000"/>
            <a:ext cx="1166760" cy="9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8">
                                  <p:stCondLst>
                                    <p:cond delay="0"/>
                                  </p:stCondLst>
                                  <p:iterate type="wd">
                                    <p:tmAbs val="6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6920" y="1197000"/>
            <a:ext cx="51483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2c2c84"/>
                </a:solidFill>
                <a:latin typeface="Arial"/>
              </a:rPr>
              <a:t>Admisión a trámi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755640" y="2133720"/>
            <a:ext cx="74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uando del análisis del escrito de inconformidad se acredi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042920" y="335772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buClr>
                <a:srgbClr val="000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0"/>
                </a:solidFill>
                <a:latin typeface="Arial"/>
              </a:rPr>
              <a:t>El interés juríd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1044720" y="402444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buClr>
                <a:srgbClr val="000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0"/>
                </a:solidFill>
                <a:latin typeface="Arial"/>
              </a:rPr>
              <a:t>Tempor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1044720" y="4734000"/>
            <a:ext cx="64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buClr>
                <a:srgbClr val="000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0"/>
                </a:solidFill>
                <a:latin typeface="Arial"/>
              </a:rPr>
              <a:t>Protesta de decir verdad,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1042920" y="544212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buClr>
                <a:srgbClr val="000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0"/>
                </a:solidFill>
                <a:latin typeface="Arial"/>
              </a:rPr>
              <a:t>La personalidad del promov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250920" y="40464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Proceso de atención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1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001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1412640"/>
            <a:ext cx="641988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2c2c84"/>
                </a:solidFill>
                <a:latin typeface="Arial"/>
              </a:rPr>
              <a:t>Durante la tramit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3640" y="2276280"/>
            <a:ext cx="806436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special atención 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546200" y="3057480"/>
            <a:ext cx="59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buClr>
                <a:srgbClr val="000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0"/>
                </a:solidFill>
                <a:latin typeface="Arial"/>
              </a:rPr>
              <a:t>Términos y Plaz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1546200" y="3930480"/>
            <a:ext cx="59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buClr>
                <a:srgbClr val="000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0"/>
                </a:solidFill>
                <a:latin typeface="Arial"/>
              </a:rPr>
              <a:t>Acceso a la documen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1512720" y="47941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buClr>
                <a:srgbClr val="000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0"/>
                </a:solidFill>
                <a:latin typeface="Arial"/>
              </a:rPr>
              <a:t>Notific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1510920" y="5657760"/>
            <a:ext cx="18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buClr>
                <a:srgbClr val="000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0"/>
                </a:solidFill>
                <a:latin typeface="Arial"/>
              </a:rPr>
              <a:t>Prueb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250920" y="40464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Proceso de atención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501"/>
                            </p:stCondLst>
                            <p:childTnLst>
                              <p:par>
                                <p:cTn id="16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501"/>
                            </p:stCondLst>
                            <p:childTnLst>
                              <p:par>
                                <p:cTn id="175" nodeType="afterEffect" fill="hold" presetClass="entr" presetID="5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801"/>
                            </p:stCondLst>
                            <p:childTnLst>
                              <p:par>
                                <p:cTn id="183" nodeType="afterEffect" fill="hold" presetClass="entr" presetID="5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101"/>
                            </p:stCondLst>
                            <p:childTnLst>
                              <p:par>
                                <p:cTn id="191" nodeType="afterEffect" fill="hold" presetClass="entr" presetID="5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5"/>
          <p:cNvSpPr/>
          <p:nvPr/>
        </p:nvSpPr>
        <p:spPr>
          <a:xfrm>
            <a:off x="0" y="1125360"/>
            <a:ext cx="5545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2c2c84"/>
                </a:solidFill>
                <a:latin typeface="Arial"/>
              </a:rPr>
              <a:t>Conclusión del trámi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395280" y="2997360"/>
            <a:ext cx="80643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0000"/>
              </a:lnSpc>
              <a:spcBef>
                <a:spcPts val="1599"/>
              </a:spcBef>
              <a:buClr>
                <a:srgbClr val="000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0"/>
                </a:solidFill>
                <a:latin typeface="Arial"/>
              </a:rPr>
              <a:t>La nulidad del acto o actos irregul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250920" y="1998000"/>
            <a:ext cx="7020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con la emisión de la resolución correspondien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cuyas consecuencias pueden ser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395280" y="3646440"/>
            <a:ext cx="78487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0000"/>
              </a:lnSpc>
              <a:spcBef>
                <a:spcPts val="1599"/>
              </a:spcBef>
              <a:buClr>
                <a:srgbClr val="000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0"/>
                </a:solidFill>
                <a:latin typeface="Arial"/>
              </a:rPr>
              <a:t>La nulidad total del proced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395280" y="4167360"/>
            <a:ext cx="806436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0000"/>
              </a:lnSpc>
              <a:spcBef>
                <a:spcPts val="1599"/>
              </a:spcBef>
              <a:buClr>
                <a:srgbClr val="000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0"/>
                </a:solidFill>
                <a:latin typeface="Arial"/>
              </a:rPr>
              <a:t>La declaración relativa a lo infundado de la inconform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395280" y="5894280"/>
            <a:ext cx="799308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0000"/>
              </a:lnSpc>
              <a:spcBef>
                <a:spcPts val="1599"/>
              </a:spcBef>
              <a:buClr>
                <a:srgbClr val="000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0"/>
                </a:solidFill>
                <a:latin typeface="Arial"/>
              </a:rPr>
              <a:t>La declaración de validez del acto reclam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5"/>
          <p:cNvSpPr/>
          <p:nvPr/>
        </p:nvSpPr>
        <p:spPr>
          <a:xfrm>
            <a:off x="395280" y="5030640"/>
            <a:ext cx="777708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0000"/>
              </a:lnSpc>
              <a:spcBef>
                <a:spcPts val="1599"/>
              </a:spcBef>
              <a:buClr>
                <a:srgbClr val="000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0"/>
                </a:solidFill>
                <a:latin typeface="Arial"/>
              </a:rPr>
              <a:t>La declaración de improcedencia del recur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6"/>
          <p:cNvSpPr/>
          <p:nvPr/>
        </p:nvSpPr>
        <p:spPr>
          <a:xfrm>
            <a:off x="179280" y="18900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Proceso de atención (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54">
                                  <p:stCondLst>
                                    <p:cond delay="0"/>
                                  </p:stCondLst>
                                  <p:iterate type="wd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181"/>
                            </p:stCondLst>
                            <p:childTnLst>
                              <p:par>
                                <p:cTn id="21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3181"/>
                            </p:stCondLst>
                            <p:childTnLst>
                              <p:par>
                                <p:cTn id="224" nodeType="afterEffect" fill="hold" presetClass="entr" presetID="54">
                                  <p:stCondLst>
                                    <p:cond delay="1000"/>
                                  </p:stCondLst>
                                  <p:iterate type="wd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4801"/>
                            </p:stCondLst>
                            <p:childTnLst>
                              <p:par>
                                <p:cTn id="232" nodeType="afterEffect" fill="hold" presetClass="entr" presetID="54">
                                  <p:stCondLst>
                                    <p:cond delay="1000"/>
                                  </p:stCondLst>
                                  <p:iterate type="wd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6376"/>
                            </p:stCondLst>
                            <p:childTnLst>
                              <p:par>
                                <p:cTn id="240" nodeType="afterEffect" fill="hold" presetClass="entr" presetID="54">
                                  <p:stCondLst>
                                    <p:cond delay="1000"/>
                                  </p:stCondLst>
                                  <p:iterate type="wd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8360" y="220320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lIns="36000" rIns="36000" anchor="ctr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0"/>
                </a:solidFill>
                <a:latin typeface="Arial"/>
              </a:rPr>
              <a:t>Cuando una inconformidad se declara IMPROCEDENTE y en ella se advierte que fue interpuesta con el único propósito de retrasar y entorpecer el procedimiento de contratac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755640" y="4508640"/>
            <a:ext cx="806436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0"/>
                </a:solidFill>
                <a:latin typeface="Arial"/>
              </a:rPr>
              <a:t>Se declara al promovente IMPEDIDO para participar en cualquier otro procedimiento de contra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mph" presetID="16">
                                  <p:stCondLst>
                                    <p:cond delay="0"/>
                                  </p:stCondLst>
                                  <p:iterate type="wd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25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5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5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25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684360" y="1773360"/>
            <a:ext cx="619272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2c2c84"/>
                </a:solidFill>
                <a:latin typeface="Arial"/>
              </a:rPr>
              <a:t>4 inconformidades fueron resueltas mediante declaración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2c2c84"/>
                </a:solidFill>
                <a:latin typeface="Arial"/>
              </a:rPr>
              <a:t>relativa a lo infundado de la inconformida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684360" y="4376880"/>
            <a:ext cx="71276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2c2c84"/>
                </a:solidFill>
                <a:latin typeface="Arial"/>
              </a:rPr>
              <a:t>1 inconformidad fue resuelta mediante la nulidad del acto irregula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Recomend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971640" y="2492280"/>
            <a:ext cx="691344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2c2c84"/>
                </a:solidFill>
                <a:latin typeface="Arial"/>
              </a:rPr>
              <a:t>La creación de instrumentos (check list) que incluyan cada uno de los punto de verificables y relevantes del proces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6"/>
          <p:cNvSpPr txBox="1"/>
          <p:nvPr/>
        </p:nvSpPr>
        <p:spPr>
          <a:xfrm>
            <a:off x="1258920" y="2779560"/>
            <a:ext cx="66261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2d73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Gracias por su atención</a:t>
            </a:r>
            <a:endParaRPr b="0" lang="en-US" sz="3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2d73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1619280" y="3849840"/>
            <a:ext cx="5977080" cy="1245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000" spc="-1" strike="noStrike">
                <a:solidFill>
                  <a:srgbClr val="003bb0"/>
                </a:solidFill>
                <a:latin typeface="Arial"/>
              </a:rPr>
              <a:t>M.A. Oscar Gilbón Rose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000" spc="-1" strike="noStrike">
                <a:solidFill>
                  <a:srgbClr val="003bb0"/>
                </a:solidFill>
                <a:latin typeface="Arial"/>
              </a:rPr>
              <a:t>Contralor General de la BUA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CG LOGO sin fondo"/>
          <p:cNvPicPr/>
          <p:nvPr/>
        </p:nvPicPr>
        <p:blipFill>
          <a:blip r:embed="rId1"/>
          <a:stretch/>
        </p:blipFill>
        <p:spPr>
          <a:xfrm>
            <a:off x="3981600" y="5264280"/>
            <a:ext cx="1166760" cy="90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0"/>
          <p:cNvSpPr/>
          <p:nvPr/>
        </p:nvSpPr>
        <p:spPr>
          <a:xfrm>
            <a:off x="108000" y="33336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Marco Normativo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1"/>
          <p:cNvSpPr/>
          <p:nvPr/>
        </p:nvSpPr>
        <p:spPr>
          <a:xfrm>
            <a:off x="324000" y="2049480"/>
            <a:ext cx="8820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2c2c84"/>
                </a:solidFill>
                <a:latin typeface="Arial"/>
              </a:rPr>
              <a:t>Constitución política de los Estados Unidos Mexican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2"/>
          <p:cNvSpPr/>
          <p:nvPr/>
        </p:nvSpPr>
        <p:spPr>
          <a:xfrm>
            <a:off x="1008000" y="2706840"/>
            <a:ext cx="7236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2c2c84"/>
                </a:solidFill>
                <a:latin typeface="Arial"/>
              </a:rPr>
              <a:t>Ley de Adquisiciones, Arrendamientos, y Servicios del Sector Público y su reglament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1008000" y="3645000"/>
            <a:ext cx="69487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2c2c84"/>
                </a:solidFill>
                <a:latin typeface="Arial"/>
              </a:rPr>
              <a:t>Ley de Obras Públicas y Servicios Relacionados con las Mismas y su reglament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971640" y="4581360"/>
            <a:ext cx="68389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2c2c84"/>
                </a:solidFill>
                <a:latin typeface="Arial"/>
              </a:rPr>
              <a:t>Constitución Política del Estado Libre y Soberano de Puebl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7"/>
          <p:cNvSpPr/>
          <p:nvPr/>
        </p:nvSpPr>
        <p:spPr>
          <a:xfrm>
            <a:off x="1008000" y="5443560"/>
            <a:ext cx="673272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2c2c84"/>
                </a:solidFill>
                <a:latin typeface="Arial"/>
              </a:rPr>
              <a:t>Ley de Adquisiciones, Arrendamientos y Servicios del Sector Público Estatal y Municipal (Estado de Puebla) y su reglament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1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1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501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1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501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08000" y="33336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Marco Normativo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684360" y="2060640"/>
            <a:ext cx="7921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2c2c84"/>
                </a:solidFill>
                <a:latin typeface="Arial"/>
              </a:rPr>
              <a:t>Ley de Obra Pública y Servicios Relacionados con la misma para el Estado de Puebla y su reglament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684360" y="2852640"/>
            <a:ext cx="799308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2c2c84"/>
                </a:solidFill>
                <a:latin typeface="Arial"/>
              </a:rPr>
              <a:t>Ley de la BUA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2c2c84"/>
                </a:solidFill>
                <a:latin typeface="Arial"/>
              </a:rPr>
              <a:t>Estatuto Orgánico de la Benemérita Universidad Autónoma de Puebl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684360" y="3933720"/>
            <a:ext cx="80643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2c2c84"/>
                </a:solidFill>
                <a:latin typeface="Arial"/>
              </a:rPr>
              <a:t>Lineamientos de Control de Obras y Servicios relacionados con las mismas de la BUA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684360" y="4732200"/>
            <a:ext cx="79930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2c2c84"/>
                </a:solidFill>
                <a:latin typeface="Arial"/>
              </a:rPr>
              <a:t>Lineamientos Generales de Adquisiciones, Arrendamientos y Servicios de la BUA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684360" y="5649840"/>
            <a:ext cx="8064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2c2c84"/>
                </a:solidFill>
                <a:latin typeface="Arial"/>
              </a:rPr>
              <a:t>Normatividad especifica y supletor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1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501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1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501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001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108000" y="33336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Autoridad Compet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1474920" y="3193920"/>
            <a:ext cx="59767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2c2c84"/>
                </a:solidFill>
                <a:latin typeface="Arial"/>
              </a:rPr>
              <a:t>Contralor General de la BUAP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1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34920" y="93600"/>
            <a:ext cx="8640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Función del Órgano Interno de Contro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900000" y="1557360"/>
            <a:ext cx="756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c2c84"/>
                </a:solidFill>
                <a:latin typeface="Arial"/>
              </a:rPr>
              <a:t>Contratación de obras y servicios relacionados con las mismas, así co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611280" y="1125360"/>
            <a:ext cx="619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2c2c84"/>
                </a:solidFill>
                <a:latin typeface="Arial"/>
              </a:rPr>
              <a:t>Vigilar que los procesos d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900000" y="250812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c2c84"/>
                </a:solidFill>
                <a:latin typeface="Arial"/>
              </a:rPr>
              <a:t>Adquisiciones, arrendamientos y servici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250920" y="3214800"/>
            <a:ext cx="8136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2c2c84"/>
                </a:solidFill>
                <a:latin typeface="Arial"/>
              </a:rPr>
              <a:t>Se realicen de conformidad con lo establecido por la normatividad aplicab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468360" y="4367160"/>
            <a:ext cx="7777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2c2c84"/>
                </a:solidFill>
                <a:latin typeface="Arial"/>
              </a:rPr>
              <a:t>Atendiendo, tramitando y resolviendo las inconformidades que se present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250920" y="5699160"/>
            <a:ext cx="8713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000060"/>
                </a:solidFill>
                <a:latin typeface="Arial"/>
              </a:rPr>
              <a:t>Artículos 92 del Estatuto Orgánico de la Benemérita Universidad Autónoma de Puebla, 73,75 y 76 de los </a:t>
            </a:r>
            <a:r>
              <a:rPr b="0" i="1" lang="es-ES" sz="1600" spc="-1" strike="noStrike">
                <a:solidFill>
                  <a:srgbClr val="000060"/>
                </a:solidFill>
                <a:latin typeface="Arial"/>
              </a:rPr>
              <a:t>Lineamientos de Control de Obras y Servicios relacionados con las mismas de la BUAP 68, 69,72,73 y 78 de los Lineamientos Generales de Adquisiciones, Arrendamientos y Servicios de la BU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201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702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179280" y="282600"/>
            <a:ext cx="799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ffffff"/>
                </a:solidFill>
                <a:latin typeface="Arial"/>
              </a:rPr>
              <a:t>Volumen de proces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826920" y="2428920"/>
            <a:ext cx="7561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c2c84"/>
                </a:solidFill>
                <a:latin typeface="Arial"/>
              </a:rPr>
              <a:t>Los procesos de licitación han tenido como finalidad la adquisición de infraestructura (laboratorio, computo,  software audio y video, mobiliario y equipo) y acervo bibliográf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179280" y="282600"/>
            <a:ext cx="799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ffffff"/>
                </a:solidFill>
                <a:latin typeface="Arial"/>
              </a:rPr>
              <a:t>Estadística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1116000" y="2708280"/>
            <a:ext cx="6408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c2c84"/>
                </a:solidFill>
                <a:latin typeface="Arial"/>
              </a:rPr>
              <a:t>A la fecha se han presentado 5 inconformidades respecto de procesos para la adquisición de bienes, mismas que se encuentran resuel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79280" y="282600"/>
            <a:ext cx="799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ffffff"/>
                </a:solidFill>
                <a:latin typeface="Arial"/>
              </a:rPr>
              <a:t>Causas de Inconformida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250920" y="1125360"/>
            <a:ext cx="65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500"/>
              </a:spcBef>
              <a:buClr>
                <a:srgbClr val="2c2c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2c2c84"/>
                </a:solidFill>
                <a:latin typeface="Arial"/>
              </a:rPr>
              <a:t>En opinión del promovente, la empresa adjudicada no cumple con las especificaciones técnicas establecidas en las bases concúrs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250920" y="3621240"/>
            <a:ext cx="82072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500"/>
              </a:spcBef>
              <a:buClr>
                <a:srgbClr val="2c2c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2c2c84"/>
                </a:solidFill>
                <a:latin typeface="Arial"/>
              </a:rPr>
              <a:t>En opinión del promovente su propuesta no fue correctamente evaluada y por tanto indebidamente desecha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252360" y="5446800"/>
            <a:ext cx="8207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500"/>
              </a:spcBef>
              <a:buClr>
                <a:srgbClr val="2c2c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2c2c84"/>
                </a:solidFill>
                <a:latin typeface="Arial"/>
              </a:rPr>
              <a:t>En opinión del promovente el fallo no fue suficientemente fundado y motiva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001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301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0920" y="1268280"/>
            <a:ext cx="617832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000060"/>
                </a:solidFill>
                <a:latin typeface="Arial"/>
              </a:rPr>
              <a:t>Presentació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468360" y="2060640"/>
            <a:ext cx="8207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0"/>
                </a:solidFill>
                <a:latin typeface="Arial"/>
              </a:rPr>
              <a:t>El recurso de inconformidad contra un acto de una licitación se debe presentar ante la Contraloría dentro de los 3 días hábiles siguientes a aquel en que ocurra el acto o el inconforme tenga conocimiento de és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684360" y="5210280"/>
            <a:ext cx="784836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Una vez admitida la inconformidad deberá hacerse del conocimiento de terceros para que manifiesten lo que a su interés conveng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250920" y="40464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Proceso de atención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700"/>
                            </p:stCondLst>
                            <p:childTnLst>
                              <p:par>
                                <p:cTn id="131" nodeType="afterEffect" fill="hold" presetClass="emph" presetID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3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3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9T15:54:11Z</dcterms:created>
  <dc:creator>Aurora</dc:creator>
  <dc:description/>
  <dc:language>en-US</dc:language>
  <cp:lastModifiedBy>Genavarr</cp:lastModifiedBy>
  <dcterms:modified xsi:type="dcterms:W3CDTF">2007-07-13T07:57:38Z</dcterms:modified>
  <cp:revision>14</cp:revision>
  <dc:subject/>
  <dc:title>Experiencias de las IES respecto a las inconformidades que se presentan en los procesos de licitación</dc:title>
</cp:coreProperties>
</file>