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59B-177D-4F7F-81EC-D65D2384A9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EF4-094B-4903-A77F-6E2DE18CE8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887-D0E5-4DE0-8931-1DD3977E09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D8D-2204-4857-B169-28337BA27E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D79-1C58-4870-8F06-93AF68D62E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78B0-FE33-4A1F-B010-5897D61E47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6AA-2323-4031-8AE9-9641D435AA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8FD-4187-4C68-AF10-91D4C0450E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ABC-23A6-4B95-90CC-793D2B3D76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DA1-8946-46F6-88DA-0E0C218100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78F2-FAA2-4AB8-A59F-BB14C4A050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F875-9AA4-4D12-B0EC-6C7418ACE9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A6D-BFE9-4160-9502-5C8985D308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AA01-2938-4BF6-A273-103AFB145C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2DD2-49F6-41DB-B4E8-3B4E6F1371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185-73EB-4F8E-A5B2-A2EB291E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B2B-2A3F-4ACA-8969-1C0D65DD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772-8B2E-4E3F-A8D6-6F14B7BF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8CB-811E-4BCB-8A4E-1B5CCD07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A63-4415-4FEB-95A0-B56A70B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146-0BC9-48CE-BDDD-F79BBE6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FF6-7B76-4F69-B2A3-E19182A1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3FC-5412-4CE1-AE37-BBC890A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B8F-4692-484B-9688-11F4FBB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00F-657F-4D9B-A351-8EA3253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81F-58E9-47A2-97D1-77D3560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12A-B90A-4623-8D8A-C7D8990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FEF2-DFB4-498D-8D51-A0CF392FB3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25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ALORÍA GENERAL DE LA UNIVERSIDAD AUTONOMA DE LA CIUDAD DE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IC. ALFONSO MANCILLA R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AN FRANCISCO DE CAMPECHE, CAMPECHE A 12 DE JULIO DE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26920" y="0"/>
            <a:ext cx="576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77080" y="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12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XPERIENCIAS DE LAS IES RESPECTO A LAS INCONFORMIDADES QUE SE PRESENTAN EN LOS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OCESOS DE LI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OCESO DE ATENCIÓN DE IN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8534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resolución que emita la Contraloría, tendrá por consecu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La nulidad del acto o actos irregulares y establecerá, 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a, las directrices necesarias para que el mismo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onga conforme a este ordenami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La nulidad total del procedimiento, 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La declaración relativa a lo infundado de la inconform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de la resolución de la Contraloría se desprende la violación de alguno de los ordenamientos de las Normas, ésta, notificará al superior jerárquico o al cuerpo colegiado responsable de su designación para que se deslinden las responsabilidades correspondientes, independientemente de las sanciones a que haya l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04000" y="0"/>
            <a:ext cx="144000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CIL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786720" y="44280"/>
            <a:ext cx="14572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720" y="1052640"/>
            <a:ext cx="83520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be mediar ante la Contraloría reclamación por escrito de los proveedores presuntamente afectados con motivo del incumplimiento de los términos y condiciones pactados en 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cita a las partes señalando día y hora de audiencia, celebrándose dentro de los 15 días hábiles siguientes a la fecha de recepción de la recl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audiencia se podrá realizar en varias s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dimiento se deberá agotarse en un plazo no mayor de 30 días hábiles contados a partir de la fecha en que se haya celebrado la primer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las partes llegan a una conciliación, el convenio respectivo obligará a las par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786720" y="44280"/>
            <a:ext cx="14572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720" y="1052280"/>
            <a:ext cx="83520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La contraloria  ha orientado para desarrollar como política preventiva, el tratar los asuntos con los proveedores antes de pasar  a una etapa de conciliación o inconformidad y es aquí donde se han resuelto resuelto 20 casos evitando un desgaste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Solo un caso se ha resuelto por el proceso de inconformidad, cuyo resultado fue reponer el procedimiento de la etapa de emisión de fallo, donde se modificó el dictamen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786720" y="44280"/>
            <a:ext cx="14572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6720" y="1571400"/>
            <a:ext cx="8352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Con la aplicación de una política preventiva dentro de la cual la contraloría asesora y acompaña a los responsables de las adquisiciones de la institución ha permitido anticipar posibles inconformidades o reclamaciones por los proveedores y/o prestadores de servicios, lo que se traduce en una  mayor eficacia y eficiencia en el uso de los recursos públicos, bajo los principios de legalidad y transparencia, dando certidumbre a la gestión administ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428760" y="1428840"/>
            <a:ext cx="7920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7a00"/>
                  </a:outerShdw>
                </a:effectLst>
                <a:latin typeface="Bell MT"/>
              </a:rPr>
              <a:t>Por su atencion gracias</a:t>
            </a:r>
            <a:endParaRPr b="1" i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66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997a00"/>
                </a:outerShdw>
              </a:effectLst>
              <a:latin typeface="Bell MT"/>
              <a:ea typeface="Bell MT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ril 2001. Se crea por  Decreto del Gobierno del Distrito Federal la Universidad de la Ciudad de México, como organismo público descentr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ero 2005. Se otorga la autonomía a la Universidad, aprobando por la Asamblea Legislativa del Distrito Federal, la “Ley de la Universidad Autónoma de la Ciudad de Méxic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ivo: Atender las necesidades de educación superior pública del Distrito Federal, prioritariamente de los sectores que han carecido de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82692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4"/>
          <p:cNvSpPr/>
          <p:nvPr/>
        </p:nvSpPr>
        <p:spPr>
          <a:xfrm>
            <a:off x="6804000" y="0"/>
            <a:ext cx="144000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1052640"/>
          <a:ext cx="8713800" cy="5787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9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O NORM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7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itución Política de los Estados Unidos Mexicanos.  Artículos 3, 13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y de la Universidad Autónoma de la Ciudad de México, artículos 17, 29 y 3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tuto Orgánico de la Universidad de la Ciudad de Méx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to de Creación de la Universidad de la Ciudad de Mex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 que regula las Atribuciones de la Contraloría General de la UAC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buClr>
                          <a:srgbClr val="ffff66"/>
                        </a:buClr>
                        <a:buFont typeface="Wingdings" charset="2"/>
                        <a:buChar char=""/>
                        <a:tabLst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s en materia de Adquisiciones, Arrendamientos y Prestación de Servicios de la UAC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53"/>
          <p:cNvSpPr/>
          <p:nvPr/>
        </p:nvSpPr>
        <p:spPr>
          <a:xfrm>
            <a:off x="82692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4"/>
          <p:cNvSpPr/>
          <p:nvPr/>
        </p:nvSpPr>
        <p:spPr>
          <a:xfrm>
            <a:off x="6804000" y="0"/>
            <a:ext cx="144000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907920"/>
            <a:ext cx="75567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CTRUCTURA ORG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5716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0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0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786720" y="0"/>
            <a:ext cx="143964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0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050920" y="1413000"/>
            <a:ext cx="100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Consej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Ase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084720" y="1341360"/>
            <a:ext cx="93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Consej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Gene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24000" y="4005360"/>
            <a:ext cx="79200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A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050920" y="4005360"/>
            <a:ext cx="79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Serv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067280" y="2421000"/>
            <a:ext cx="8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Arial"/>
              </a:rPr>
              <a:t>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780000" y="4005360"/>
            <a:ext cx="790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m.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In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916360" y="4005360"/>
            <a:ext cx="79200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Di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ul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Ext. Un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187280" y="4005360"/>
            <a:ext cx="79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643280" y="4005360"/>
            <a:ext cx="8654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5580000" y="4005360"/>
            <a:ext cx="79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Ser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Adm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6443640" y="4005360"/>
            <a:ext cx="79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Obr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nser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7308720" y="4005360"/>
            <a:ext cx="7192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Ofi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Abo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G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8101080" y="4005360"/>
            <a:ext cx="8636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Contral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Arial"/>
              </a:rPr>
              <a:t>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4500720" y="3068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684360" y="3716280"/>
            <a:ext cx="698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68436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1619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2411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327672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414036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594036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4572000" y="4148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500364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68770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>
            <a:off x="3059280" y="1700280"/>
            <a:ext cx="3025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4500720" y="1700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766764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>
            <a:off x="4500720" y="2205000"/>
            <a:ext cx="3958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>
            <a:off x="8459640" y="220500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MPETENCIA.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contraloria, es la instancia que conoce y resuelve con carácter             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irrevocable sobre las inconformidades de los proveedores ó 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prestadores de servicios derivadas de las adquisiciones ,    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arrendamientos y prestación de servicios de la Universidad 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Autónoma de la Ciudad de México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37148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iscalizar, controlar y evaluar la gestión del organismo la que deberá desarrollarse con estricto apego a los principios de legalidad, transparencia, eficiencia, honradez y utilización óptima de los recursos, asi como vigilar que el ejercicio del gasto sea congruente con el presupuesto autorizado por la Asamblea Legislativa del Distrito Fed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5716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0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0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786720" y="0"/>
            <a:ext cx="143964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0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olúmenes de procesos adquisiciones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857160" y="14292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0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0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6786720" y="214200"/>
            <a:ext cx="143964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0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1785960"/>
          <a:ext cx="8372520" cy="4522680"/>
        </p:xfrm>
        <a:graphic>
          <a:graphicData uri="http://schemas.openxmlformats.org/drawingml/2006/table">
            <a:tbl>
              <a:tblPr/>
              <a:tblGrid>
                <a:gridCol w="2790720"/>
                <a:gridCol w="2791080"/>
                <a:gridCol w="279072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quisición de bi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laración de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ción y apertura de propuesta (documentación legal administrativa, técnica y económica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isión de Fa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quisición de 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dicación Directa (actividades de difusión cultural y extensión universitari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  <p:sndAc>
      <p:stSnd>
        <p:snd r:embed="rId1" name="click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142560"/>
            <a:ext cx="5929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br>
              <a:rPr sz="2000"/>
            </a:br>
            <a:r>
              <a:rPr b="0" i="1" lang="es-MX" sz="20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AUSAS DE LAS IN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alificación por documentos administrativos – 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alificaciones por falta de especificaciones técnicas en anexos que se suplen con manuales de los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alificación por no tomar las modificaciones y aclaraciones de las bases de licitación al momento de presentar las propuestas técnicas y económ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irma de contratos en forma ex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trega de los bienes sin contrato fi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7072200" y="142920"/>
            <a:ext cx="133992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OCESO DE ATENCIÓN DE IN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inconformidad se presenta ante la Contraloría dentro de lo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nco días hábiles siguientes a aquél en que ocurr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tificación del acto que da origen a la inconform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anscurrido el plazo establecido, prescribe par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eresados el derecho a inconform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Contraloría realiza las investigaciones que resu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tinentes, en un plazo máximo de veinte días natu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ados a partir de la fecha en que tenga conocimiento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cto irreg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anscurrido dicho plazo, deberá emitir la resolu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rrespondiente dentro de los cinco días hábil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6804000" y="0"/>
            <a:ext cx="133992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OCESO DE ATENCIÓN DE IN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urante la investigación, la Contraloría podrá suspender temporal 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finitiva  de oficio ó a petición de parte el procedimie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ratación cu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dvierta que existan o pudieren existir actos contrarios a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entes Normas, o bien, que de continuarse con el procedimien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atación pudiera producirse daños o perjuicios a la Universidad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Con la suspensión no se cause perjuicio al adecuado desarrollo de l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unciones de la Univer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uando el inconforme solicita la suspensión, debe garantizar los daños o perjuicios que pudiera ocasionar, mediante fianza por el monto que fije la Contralor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uando se resuelva no favorable al promovente por resultar  improcedente y se advierta que se hizo con el propósito de retrasar y entorpecer la continuación del procedimiento de contratación; se le impondrá la sanción conforme lo establecido en las n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00000" y="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Universidad Autónoma de la Ciudad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Monotype Corsiva"/>
              </a:rPr>
              <a:t>Nada humano me es a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04000" y="0"/>
            <a:ext cx="144000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UA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8:29:47Z</dcterms:created>
  <dc:creator>VSANCHEZ</dc:creator>
  <dc:description/>
  <dc:language>en-US</dc:language>
  <cp:lastModifiedBy>Genavarr</cp:lastModifiedBy>
  <dcterms:modified xsi:type="dcterms:W3CDTF">2007-07-13T07:57:37Z</dcterms:modified>
  <cp:revision>318</cp:revision>
  <dc:subject/>
  <dc:title>1.- Diagnóstico de la Universidad de la Ciudad de México.</dc:title>
</cp:coreProperties>
</file>