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807-2DE6-4EB6-B5D0-4CB11A5D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F3D-4C09-4891-8782-8CDB4B2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00D-E31B-44DC-A784-89CD5A0F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3D6-7511-4F80-94A4-58EC5313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11FC-781C-4826-90BE-6742137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EB32-7B4C-4405-8E46-A456AA6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9DE-8A89-4F2D-901D-78A7B54A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D46A-148D-42BE-B182-C3120F9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CAF5-66FD-4FAC-81E4-8512FAB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0376-D0DD-4E9C-AF56-7600DF7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70DB-F856-4E9F-BDA0-0F15D83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25E-1F50-419A-945E-7F1B721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75D-6AAC-4DF0-B889-78D0DA6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2FB-DCF0-46C7-B12F-6EE0DE1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BA4-8ABF-438E-9BB4-C22E32EB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FB0-4D9E-44A9-9468-0C84C44A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AF4-CCF5-4CD2-96EE-E1EF0E34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901-34DC-4ED2-B9FD-B80C60B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14D-7614-47B3-8675-F3CF42EA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F1F-43BB-4904-B716-B2DC8857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AAB-15A1-402F-8B66-C4DA687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5A2-E274-4040-BE48-35FD8A0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351-AC08-4827-B9F0-8649B00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1AB-061E-4FBD-ADDC-3EEA9C3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201-F593-4EEB-A3FC-A9B8CF4A8E1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8730-1EE6-4F32-90A4-04D352DAC3D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3640" y="1341360"/>
            <a:ext cx="554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33"/>
                </a:solidFill>
                <a:latin typeface="Times New Roman"/>
              </a:rPr>
              <a:t>Misión y Visión</a:t>
            </a:r>
            <a:br>
              <a:rPr sz="4800"/>
            </a:br>
            <a:r>
              <a:rPr b="1" lang="es-MX" sz="4800" spc="-1" strike="noStrike">
                <a:solidFill>
                  <a:srgbClr val="660033"/>
                </a:solidFill>
                <a:latin typeface="Times New Roman"/>
              </a:rPr>
              <a:t>de la AMOCVIES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 Francisco de Campeche, juli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onstrucción de la misión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iénes so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entidad, legiti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busc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Para quiénes trabaj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lientes y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hac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Por qué lo hac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alores y moti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satisfac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cesidades y des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660033"/>
                </a:solidFill>
                <a:latin typeface="Tahoma"/>
              </a:rPr>
              <a:t>Elementos mínimos de la misión.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ir lo qué es y hace la organización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 Un verbo que indique cambio del status q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. Definir el servicio en términos del valor que proporciona al cliente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 Qué necesidad o deseo estamos satisfaci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 Precisar y destacar el concepto de servici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uele incluir términos como a través de..., proveer..., presta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 Incluir los principales rasgos distintivos de la organización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Formular el enunciado desde la perspectiva del receptor primario (personal de la organización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sión propuesta 2005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mos un organismo que tiene como finalidad reforzar la credibilidad de la gestión administrativa, con la comunidad universitaria y con la sociedad en general, para lo cual estamos constituidos en un grupo técnico, de análisis y de asesoría, integrado por los representantes de las áreas de control y vigilancia de las diferentes Instituciones de Educación Superior del país, tanto públicas como privadas y que, respetando la autonomía y confidencialidad, aprovechan los conocimientos y experiencias que coadyuvan a optimizar la calidad del desempeño de las funciones asignadas, profesionalizando de este modo a las instancias de control y superv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sión propuesta 2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r un organismo profesional de  representantes de los órganos internos de control de las Instituciones de Educación Superior, públicas y privadas, que tiene como finalidad reforzar la credibilidad de la gestión universitaria ante sus comunidades y la sociedad en general, mediante el ejercicio ético de las funciones de supervisión, vigilancia y control, en beneficio de las mismas instituciones en que nos desempeñ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33"/>
                </a:solidFill>
                <a:latin typeface="Tahoma"/>
              </a:rPr>
              <a:t>Declaración de visión.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expresa con verbos de a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be ser inspiradora, retadora y alcanz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unciarse en forma clara y objetiva para que se traduzca en una re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a formulación explícita que guía a l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33"/>
                </a:solidFill>
                <a:latin typeface="Tahoma"/>
              </a:rPr>
              <a:t>La misión y la visió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declaración de la misión contesta la pregunta, “¿cuál es nuestra organizació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visión contesta a:”¿qué queremos ser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BD05552_"/>
          <p:cNvPicPr/>
          <p:nvPr/>
        </p:nvPicPr>
        <p:blipFill>
          <a:blip r:embed="rId1"/>
          <a:stretch/>
        </p:blipFill>
        <p:spPr>
          <a:xfrm>
            <a:off x="5181480" y="2362320"/>
            <a:ext cx="3581640" cy="294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33"/>
                </a:solidFill>
                <a:latin typeface="Times New Roman"/>
              </a:rPr>
              <a:t>Diferencias entre misión y visión.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a declaración de misión se enfoca en las actividades actuales de la organización y/o en las necesidades actuales de los clientes que están siendo satisfech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a visión se refiere al futuro trayecto de 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lase de organización que está tratando en converti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necesidades a satisface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Visión propuesta para 2008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el año 2008 la AMOCVIES con base en el compromiso, participación, experiencia, ética e integración de sus miembros es reconocida a nivel nacional e internacional por coadyuvar con las Instituciones de Educación Superior en la mejora continua de su gestión institucional, evaluando su desemp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Visión propuesta 2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AMOCVIES es reconocida a nivel nacional e internacional como una organización de profesionales universitarios de la supervisión, vigilancia y control que coadyuva a la mejora continua de la gestión institucional, con base en el compromiso, participación, experiencia, comportamiento ético y ejercicio profesional de sus miem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Finalidad 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nalizar y determinar en el seno de la reunión de AMOCVIES, la misión y visión de la Asociación para el período 2007 – 20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Procedimiento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cordatorio del taller de noviembre de 2005, “Plan Estratégico 2005 – 2008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álisis de la misión y visión propue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terminación de la misión y visión para el período 2007 –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Análisis del Entorno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3348000" y="4365720"/>
            <a:ext cx="2016000" cy="158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2124000" y="3213000"/>
            <a:ext cx="4392720" cy="288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1692360" y="1989000"/>
            <a:ext cx="5329080" cy="4321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635280" y="5084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MOC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916360" y="342900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ducación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2360" y="234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orn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H="1" flipV="1">
            <a:off x="1258920" y="3716280"/>
            <a:ext cx="2449440" cy="1873440"/>
          </a:xfrm>
          <a:prstGeom prst="line">
            <a:avLst/>
          </a:prstGeom>
          <a:ln w="38160">
            <a:solidFill>
              <a:srgbClr val="5a84d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5003640" y="4149360"/>
            <a:ext cx="2592720" cy="1297080"/>
          </a:xfrm>
          <a:prstGeom prst="line">
            <a:avLst/>
          </a:prstGeom>
          <a:ln w="38160">
            <a:solidFill>
              <a:srgbClr val="5a84d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68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3087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3059280" y="1989000"/>
            <a:ext cx="431640" cy="2880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780000" y="4581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411280" y="1484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H="1">
            <a:off x="4787640" y="2492280"/>
            <a:ext cx="2087640" cy="230364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5003640" y="2636640"/>
            <a:ext cx="2159280" cy="216036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87708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Fortalezas y Debilidades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eriencia y profesion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onocimiento y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ificación de criterios y aprovechamiento de cono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romiso y 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ma de decisiones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todos trabaj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difusión de traba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seguimiento a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tación de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egr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s faltan universidades y tecn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Oportunidades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scar nuevas formas de trabajo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ercambio de experiencias con otras asoci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olidar la estructura y hacer eficiente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talecer la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r e implantar un plan de capacitación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una organización interna remunerada, ejecutiva y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iformar 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ercambio con entidades fiscaliz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tación de más 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Times New Roman"/>
              </a:rPr>
              <a:t>Amenazas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ntralismo en la toma de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participación en com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comunicación y trabajo en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capacidad para expresar y resolver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un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cumplimiento en l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un plan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apoyo de los re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estar consolidados ante cambi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onocimiento de los beneficios de pertenecer a la as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érdida de confianza a la as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660033"/>
                </a:solidFill>
                <a:latin typeface="Tahoma"/>
              </a:rPr>
              <a:t>RELACI</a:t>
            </a:r>
            <a:r>
              <a:rPr b="0" lang="es-MX" sz="3800" spc="-1" strike="noStrike">
                <a:solidFill>
                  <a:srgbClr val="660033"/>
                </a:solidFill>
                <a:latin typeface="Tahoma"/>
              </a:rPr>
              <a:t>Ó</a:t>
            </a:r>
            <a:r>
              <a:rPr b="0" lang="es-ES" sz="3800" spc="-1" strike="noStrike">
                <a:solidFill>
                  <a:srgbClr val="660033"/>
                </a:solidFill>
                <a:latin typeface="Tahoma"/>
              </a:rPr>
              <a:t>N ENTRE MISI</a:t>
            </a:r>
            <a:r>
              <a:rPr b="0" lang="es-MX" sz="3800" spc="-1" strike="noStrike">
                <a:solidFill>
                  <a:srgbClr val="660033"/>
                </a:solidFill>
                <a:latin typeface="Tahoma"/>
              </a:rPr>
              <a:t>Ó</a:t>
            </a:r>
            <a:r>
              <a:rPr b="0" lang="es-ES" sz="3800" spc="-1" strike="noStrike">
                <a:solidFill>
                  <a:srgbClr val="660033"/>
                </a:solidFill>
                <a:latin typeface="Tahoma"/>
              </a:rPr>
              <a:t>N, VIS</a:t>
            </a:r>
            <a:r>
              <a:rPr b="0" lang="es-MX" sz="3800" spc="-1" strike="noStrike">
                <a:solidFill>
                  <a:srgbClr val="660033"/>
                </a:solidFill>
                <a:latin typeface="Tahoma"/>
              </a:rPr>
              <a:t>IÓ</a:t>
            </a:r>
            <a:r>
              <a:rPr b="0" lang="es-ES" sz="3800" spc="-1" strike="noStrike">
                <a:solidFill>
                  <a:srgbClr val="660033"/>
                </a:solidFill>
                <a:latin typeface="Tahoma"/>
              </a:rPr>
              <a:t>N Y VALORES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67040" y="1599840"/>
            <a:ext cx="1713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 flipH="1" rot="16200000">
            <a:off x="3355920" y="3601800"/>
            <a:ext cx="672840" cy="339840"/>
          </a:xfrm>
          <a:prstGeom prst="rightArrow">
            <a:avLst>
              <a:gd name="adj1" fmla="val 50000"/>
              <a:gd name="adj2" fmla="val 99003"/>
            </a:avLst>
          </a:prstGeom>
          <a:solidFill>
            <a:srgbClr val="bafb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flipH="1" rot="16200000">
            <a:off x="5747040" y="3525840"/>
            <a:ext cx="673200" cy="339480"/>
          </a:xfrm>
          <a:prstGeom prst="rightArrow">
            <a:avLst>
              <a:gd name="adj1" fmla="val 50000"/>
              <a:gd name="adj2" fmla="val 99161"/>
            </a:avLst>
          </a:prstGeom>
          <a:solidFill>
            <a:srgbClr val="bafb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5985000" y="2444760"/>
            <a:ext cx="2660400" cy="825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d2fcac"/>
              </a:gs>
              <a:gs pos="100000">
                <a:srgbClr val="61755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522600" y="4349880"/>
            <a:ext cx="2660760" cy="825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d2fcac"/>
              </a:gs>
              <a:gs pos="100000">
                <a:srgbClr val="61755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413000" y="2368440"/>
            <a:ext cx="2660400" cy="825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d2fcac"/>
              </a:gs>
              <a:gs pos="100000">
                <a:srgbClr val="61755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689120" y="2668680"/>
            <a:ext cx="189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800520" y="4649760"/>
            <a:ext cx="189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I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261120" y="2744640"/>
            <a:ext cx="189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4343400" y="266688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bafb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33"/>
                </a:solidFill>
                <a:latin typeface="Tahoma"/>
              </a:rPr>
              <a:t>Declaración de misió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a definición duradera del objeto de una organización que la distingue de otras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termina la evolución y los perfiles futuros de la organización acerca de “quienes somos, qué hacemos y hacia dónde nos dirigim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3:30:13Z</dcterms:created>
  <dc:creator>Alberto Alday Echavarria</dc:creator>
  <dc:description/>
  <dc:language>en-US</dc:language>
  <cp:lastModifiedBy>Genavarr</cp:lastModifiedBy>
  <dcterms:modified xsi:type="dcterms:W3CDTF">2007-07-13T07:57:39Z</dcterms:modified>
  <cp:revision>5</cp:revision>
  <dc:subject/>
  <dc:title>Misión y Visión de la AMOCVIES</dc:title>
</cp:coreProperties>
</file>