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8C0DE-EC45-47A6-BD52-3B6A3AB0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D2F56-8C67-42E8-8AE4-C4B18798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893DD-F438-49B8-8F12-E4E633C6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D3F5F-B225-4D88-A0A1-F1A73976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1CFA2-6004-4A51-A862-8099F0FD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7B1ED-F7FD-48AC-AC76-FF094851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82224-3D68-4F22-91A6-CAC6E0E0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F004D-E999-432C-9BE9-26A556B19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F6D73-D439-4529-8306-E721C77CA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7DA14-538B-4C27-8685-B778D4798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FA4066-405C-4D54-A7EA-BC7A0092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A67EB-4C65-48E3-9362-1C6A2D11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5E217-B5FF-4F2B-BB90-3E9FBD0F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319E2-9D39-4086-BC6A-41752E2E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82F83-5863-4F2A-8054-109E6C75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03C1C4-4314-49B4-8824-304518B9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A05FF-1209-42EB-86B0-5A95EB0C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D0B68-C384-4605-8B8C-03DFC242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EB9FB-13EB-47F0-8C6F-7D4562CD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F0C3C5-6C4B-48C7-9636-6706D100A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4F653-3A8F-470A-A465-73151DD4F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31C78C-AE43-4BF2-9418-437B474DD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20553A-8F35-4371-811C-62872C0A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593B71-B758-4083-95EF-07AE01FF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7E0CDA-BFD5-4A44-B536-82BD74F8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D52CC3-F747-4584-9D07-4AEB045D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6F0990-A14D-4E47-99A3-AD6443BE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828FBE-5F14-466E-B646-FBEB765A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039159-F86D-411C-9944-4515A80F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9A898-B795-4545-BF9F-FA8B5CA3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80A8-7C76-4E2B-A62C-E2A53CFBF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1773C1-ECA6-4A8A-99DA-A49EA6AA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6B996B-E028-4CD8-BD89-5AF249079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13F104-58D0-4754-90B0-47BD7D9B7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F77E6-87D8-4CC1-B512-0B7124B70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35DCD-96CF-4E28-8DA3-57747859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05E94-314C-4879-883D-BB02265D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F6182-0082-44A2-96C8-BC2D2EF1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A7582-BC33-4861-8CD5-798EA598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C644A2-5A86-4ED1-BC4F-73FF315B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2F576-E77C-46E3-A6BC-3B72231B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9D93-2F89-488F-B9A6-AF711649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AD222-BC6A-46D9-ACD0-0A3465F2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613D0-AA9D-4BB6-94FA-6C030A5A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DA47B-4F35-418C-A9D0-3DAE68A1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A3A94-2E2C-4116-B44D-3A5B9059C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68E27-77E0-4C74-8740-5830AC9BA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1E01-EB4C-452D-9005-D3066CB2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F558-8CA8-47B6-AEAA-4903D3A2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9331-050D-4533-A33C-FC968A4B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51D5-552C-4A01-B061-D7CED277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FAEE-7126-49A4-B5F8-54E875EA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F36C-1DF4-4A21-A7D0-90F45471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7237-97E9-4974-84E7-610A433F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9C11-95EE-4EE3-9453-3BB7978C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0081-B3AB-4352-AA60-5F555F7A2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C98B-4F1B-4841-B958-BBE35BE5B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560C-1790-43D0-AE51-B978C52D5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21FC-1B97-4647-9C6A-FC49654B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5846-EBA5-435E-A94F-98AD8062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5489-D6B4-4424-9327-EF5762DD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0A97-BE5C-4EA6-B2E7-0DA7334A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53E1-7212-444A-AFBC-C70E6D9B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D18B-1BB4-4AAF-A204-419FBB18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2D98-5266-4262-9D28-70EF8A69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80BB-BD30-4785-9C24-439F45F7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74A1-8CC7-4DE1-B21D-DA56C930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6BBC-C1DA-4DF0-8656-679F3A2BF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AB33-21F2-4D17-A106-DC5E5A520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35173-61B7-4AFA-B3D7-868C013B9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B7492-AF80-40FA-894C-7299AC41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028D5-2332-4BCC-84BF-257C48C9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AF272-6122-4B24-8D2A-C906A689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3B01F-D388-42DD-98C8-94896BF4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4A860-6A00-404E-AAD7-AE4B1FF9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F141D-7692-44D9-84C3-A3F5B0F1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57BEC-2DD0-4372-A773-AE5FD355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43E3D-9D2C-49EF-8CCC-8C66F483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3A78D-D993-4545-A528-BB28F69A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7433D-EB3B-49A6-B317-46506B02F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9829D-1CB7-4761-92D2-7D0C9DEE9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21BE9-93B0-46D5-8AFA-2504A6D4B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64BE0-4420-4DFB-8FA4-593C39DE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16343-EBC5-46CF-A3E9-C34758C0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792D0-C16C-47B0-891A-F9026624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162C6-7D96-4990-A003-DFC83111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F05DA-A2E5-4764-BD61-A12EFDD1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43FAF-299E-4613-B3C8-D617EF2F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4A1E0-010F-468D-ADB8-F21ABE75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82E19-1E8D-4A67-9A50-FFDEBE3F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C5ABF-8CE9-4BD9-915E-BE85EAA9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30089-1784-4D26-95A4-4F2E3D906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34C3D-D8BE-4691-8B88-18A59F7BD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DA463-FDC4-4932-9E16-CBB18B120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7FAB1-3384-4220-A97B-899E573D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84517-0D38-40EC-92CC-3CF86DEF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70A74-073C-41DE-B2A9-D2B4DB02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B753A-E6E1-4585-88DA-6CED0E49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F15AE-6C1C-492A-81D7-127D1E17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CB7C2-09D3-4939-A2E0-3006D23F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26368-661A-4840-813A-1B28A251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4354B-D17A-40E2-92FE-20C762FB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36F4B-890E-4722-9FBF-60D17039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414F6-CC2B-4021-977F-F3059DE07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31F0E-588C-474A-9EEA-4AC23781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41690-4313-4E20-B6CB-28FB8C6F2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5BBED-7F11-46E2-807E-5EB973C6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F8204-D5E7-4C9C-9280-02B3B267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6AFD1-65FF-465D-B460-CE465CD9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B5304-9C1E-4419-9DC1-269CAAAE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32A13-F01E-46FE-AA1A-AE8BFD51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F6B75-8341-4E18-82F8-5BF6476E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813FD-7840-4ECA-93EB-11F6E704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35D83-5DB2-49B1-8112-4A1BBE81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E7787-184B-4B2D-B7EB-5E6BDB19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5B88E-703D-4B2D-B11E-56522D3A8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6E3E8-5EFD-48FA-B35D-D3859D55D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BEF0F-D581-4B37-BE40-4ACD95DEF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7906E-87EA-4469-99F7-2D831EAF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BB3F7-F86E-4B8F-A28C-07526FDD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86CE8-598C-41FF-9C6C-5CA1FDED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3EEE3-CCA2-4800-9427-18FBF153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DE5F8-FA21-4AFD-9065-FB0941AD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09806-4756-46E6-8FFF-1E8A50BB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3AFAA-BD43-4A51-9566-FCD79317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CA8B0-FEF0-4955-B4A8-AA135726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E9AE0-4E3F-4C65-A512-B1B45DA0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FB32C-EC70-4DBE-9E60-CC78F2ACD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318C4-CF7D-4B9B-9956-1D058F8F4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9E7DE-8B98-488D-BE3A-914B4CAF4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0A87C-2E18-4AC6-8B17-7368D948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2EF9D-481D-4437-9B4A-72EBDAB0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6 Imagen" descr="back 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6 Imagen" descr="back 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E618-C9AE-4591-B689-6F20B3F0F9A1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6 Imagen" descr="back 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D0F1-0D3E-4A56-850D-D52105CE36E2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6 Imagen" descr="back 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9704-1077-424F-899D-C753C9DA910A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6 Imagen" descr="back 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C49F-1E4D-4FE5-8F87-5BF34AECE6E9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6 Imagen" descr="back 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A3AA-9E06-48CD-AF26-3C0103C9111B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6 Imagen" descr="back 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B195-7B48-4660-B45B-9654F5BEB589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6 Imagen" descr="back 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5C55-9D33-48AA-A037-011A29732DA6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6 Imagen" descr="back 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CA62-7E5A-48EB-86D3-79550DC6EB68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6 Imagen" descr="back 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41F1-72DD-4949-B7DF-1ADC0853C34C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6 Imagen" descr="back 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2F1D-93FD-469A-BA41-09F3270AE940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6 Imagen" descr="back 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3120-38A0-42C8-BB86-6BBBEA0359FB}" type="slidenum">
              <a:rPr b="0" lang="es-MX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3 Imagen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4"/>
          <p:cNvSpPr/>
          <p:nvPr/>
        </p:nvSpPr>
        <p:spPr>
          <a:xfrm>
            <a:off x="826920" y="1557360"/>
            <a:ext cx="667404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AUTONOMÍA UNIVERSIT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Sus Alc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ff00"/>
                </a:solidFill>
                <a:uFillTx/>
                <a:latin typeface="Arial"/>
              </a:rPr>
              <a:t>Garantía Institucional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Art. 3 Frac. VII. Constitución General de la Repúbli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6"/>
          <p:cNvSpPr/>
          <p:nvPr/>
        </p:nvSpPr>
        <p:spPr>
          <a:xfrm>
            <a:off x="1908000" y="2133720"/>
            <a:ext cx="287640" cy="1366560"/>
          </a:xfrm>
          <a:prstGeom prst="upDownArrow">
            <a:avLst>
              <a:gd name="adj1" fmla="val 50000"/>
              <a:gd name="adj2" fmla="val 9457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2"/>
          <p:cNvSpPr/>
          <p:nvPr/>
        </p:nvSpPr>
        <p:spPr>
          <a:xfrm>
            <a:off x="611280" y="1062000"/>
            <a:ext cx="74898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REFORMAS A LA CONSTITUCIÓN Y AUTONOMÍA UNIVERSI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Art. 116 …Organismos con Autonomía reconocida en la Constitución Lo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Tabuladores desglosados de las remuneraciones que proponen perciban sus servidores público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(Presupuesto de Egresos de los Estado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2"/>
          <p:cNvSpPr/>
          <p:nvPr/>
        </p:nvSpPr>
        <p:spPr>
          <a:xfrm>
            <a:off x="611280" y="1054080"/>
            <a:ext cx="748980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REFORMAS A LA CONSTITUCIÓN Y AUTONOMÍA UNIVERSI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Art. 127. Frac. II …Salario no superior al del Presidente de la Repúbl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Art. 127. Frac. V …Publicidad de los Tabulad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2"/>
          <p:cNvSpPr/>
          <p:nvPr/>
        </p:nvSpPr>
        <p:spPr>
          <a:xfrm>
            <a:off x="611280" y="1057680"/>
            <a:ext cx="7489800" cy="74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GARANTÍAS CONSTITUCIONALES RELACION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Art. 6° …Transparencia y Acceso a la Inform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eyes Federal y Estatal de Transparencia y Acceso a la Inform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Acuerdos y/o Reglamentos Internos de las 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2"/>
          <p:cNvSpPr/>
          <p:nvPr/>
        </p:nvSpPr>
        <p:spPr>
          <a:xfrm>
            <a:off x="611280" y="272880"/>
            <a:ext cx="74898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ECONÓM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Derecho a subsidio de la Fed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Derecho a subsidio del Est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RENDICIÓN DE CUE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2"/>
          <p:cNvSpPr/>
          <p:nvPr/>
        </p:nvSpPr>
        <p:spPr>
          <a:xfrm>
            <a:off x="611280" y="-1965240"/>
            <a:ext cx="8103960" cy="10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EYES ASOCI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Ley Federal de Presupuesto y Responsabilidad Hacend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Art. 1°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os sujetos obligados a cumplir las disposiciones de esta Ley deberán observar que la administración de los recursos públicos federales se realice con base en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criterios de legalidad, honestidad, eficiencia, eficacia, economía, racionalidad, austeridad, transparencia, control, rendición de cuentas y equidad de género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2"/>
          <p:cNvSpPr/>
          <p:nvPr/>
        </p:nvSpPr>
        <p:spPr>
          <a:xfrm>
            <a:off x="611280" y="-1847880"/>
            <a:ext cx="8103960" cy="100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EYES ASOCI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Ley Federal de Presupuesto y Responsabilidad Hacend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00"/>
                </a:solidFill>
                <a:uFillTx/>
                <a:latin typeface="Arial"/>
              </a:rPr>
              <a:t>Art. 2°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XLII.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amos autónomos: los ramos por medio de los cuales se asignan recursos en el Presupuesto de Egresos a los Poderes Legislativo y Judicial, y a los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entes autónomos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2"/>
          <p:cNvSpPr/>
          <p:nvPr/>
        </p:nvSpPr>
        <p:spPr>
          <a:xfrm>
            <a:off x="611280" y="-2491560"/>
            <a:ext cx="8103960" cy="113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EYES ASOCI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Ley Federal de Presupuesto y Responsabilidad Hacend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00"/>
                </a:solidFill>
                <a:uFillTx/>
                <a:latin typeface="Arial"/>
              </a:rPr>
              <a:t>Art. 2°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XLV.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glas de operación: las disposiciones a las cuales se sujetan determinados programas y fondos federales con el objeto de otorgar transparencia y asegurar la aplicación eficiente, eficaz, oportuna y equitativa de los recursos públicos asignados a los mis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2"/>
          <p:cNvSpPr/>
          <p:nvPr/>
        </p:nvSpPr>
        <p:spPr>
          <a:xfrm>
            <a:off x="611280" y="-3416400"/>
            <a:ext cx="8103960" cy="131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EYES ASOCI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Ley Federal de Presupuesto y Responsabilidad Hacend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00"/>
                </a:solidFill>
                <a:uFillTx/>
                <a:latin typeface="Arial"/>
              </a:rPr>
              <a:t>Art. 2°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III.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ubsidios: las asignaciones de recursos federales previstas en el Presupuesto de Egresos que, a través de las dependencias y entidades, se otorgan a los diferentes sectores de la sociedad, a las entidades federativas o municipios para fomentar el desarrollo de actividades sociales o económicas prioritarias de interés gen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611280" y="-4097520"/>
            <a:ext cx="8103960" cy="145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¿DEFINICIÓN DE SERVIDOR PÚBLIC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ARTÍCULO 2o.-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on sujetos de esta Ley, los servidores públicos mencionados en el párrafo primero y tercero del artículo 108 Constitucional 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y todas aquellas personas que manejen o apliquen recursos económicos federales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611280" y="-2995560"/>
            <a:ext cx="8103960" cy="123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¿SON LOS RECTORES DE LAS IES SERVIDORES PÚBLIC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Manejan Recursos Públicos Federales y Estatales, (ordinarios y extraordinario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4"/>
          <p:cNvSpPr/>
          <p:nvPr/>
        </p:nvSpPr>
        <p:spPr>
          <a:xfrm>
            <a:off x="539640" y="836640"/>
            <a:ext cx="5977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5"/>
          <p:cNvSpPr/>
          <p:nvPr/>
        </p:nvSpPr>
        <p:spPr>
          <a:xfrm>
            <a:off x="684360" y="1197000"/>
            <a:ext cx="66960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00"/>
                </a:solidFill>
                <a:uFillTx/>
                <a:latin typeface="Arial"/>
              </a:rPr>
              <a:t>Autonomía se otor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En la Ley de la Universidad por el Congreso del Est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Se convierte 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Organismo Público Descentralizado del Est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3 Imagen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2 CuadroTexto"/>
          <p:cNvSpPr/>
          <p:nvPr/>
        </p:nvSpPr>
        <p:spPr>
          <a:xfrm>
            <a:off x="1071720" y="2500200"/>
            <a:ext cx="314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200" spc="-1" strike="noStrike">
                <a:solidFill>
                  <a:srgbClr val="eeece1"/>
                </a:solidFill>
                <a:latin typeface="Calibri"/>
              </a:rPr>
              <a:t>Gracia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4"/>
          <p:cNvSpPr/>
          <p:nvPr/>
        </p:nvSpPr>
        <p:spPr>
          <a:xfrm>
            <a:off x="539640" y="836640"/>
            <a:ext cx="5977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684360" y="1197000"/>
            <a:ext cx="6696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00"/>
                </a:solidFill>
                <a:uFillTx/>
                <a:latin typeface="Arial"/>
              </a:rPr>
              <a:t>Autonomía se otor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El Congreso de la Unión 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UN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U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UA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3"/>
          <p:cNvSpPr/>
          <p:nvPr/>
        </p:nvSpPr>
        <p:spPr>
          <a:xfrm>
            <a:off x="611280" y="1052640"/>
            <a:ext cx="712944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00"/>
                </a:solidFill>
                <a:uFillTx/>
                <a:latin typeface="Arial"/>
              </a:rPr>
              <a:t>AUTONOMÍA. ALCANCES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ACADÉM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ibertad en el cumplimiento de sus obje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Ingreso, Permanencia y Promoción del Personal Académ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Determinación de Planes y Programas de Estu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2"/>
          <p:cNvSpPr/>
          <p:nvPr/>
        </p:nvSpPr>
        <p:spPr>
          <a:xfrm>
            <a:off x="611280" y="1052640"/>
            <a:ext cx="71294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00"/>
                </a:solidFill>
                <a:uFillTx/>
                <a:latin typeface="Arial"/>
              </a:rPr>
              <a:t>AUTONOMÍA. ALCANCES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2. GOBI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Nombramiento de Autorid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Normativa inter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2"/>
          <p:cNvSpPr/>
          <p:nvPr/>
        </p:nvSpPr>
        <p:spPr>
          <a:xfrm>
            <a:off x="611280" y="1052640"/>
            <a:ext cx="71294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00"/>
                </a:solidFill>
                <a:uFillTx/>
                <a:latin typeface="Arial"/>
              </a:rPr>
              <a:t>AUTONOMIA. ALCANCES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3. ECONÓM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Subsidio Fed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Subsidio Esta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Recursos Prop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Patrimonio Prop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2"/>
          <p:cNvSpPr/>
          <p:nvPr/>
        </p:nvSpPr>
        <p:spPr>
          <a:xfrm>
            <a:off x="611280" y="1052640"/>
            <a:ext cx="748980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PERSONAL  ACADÉMICO Y ADMINISTR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Art. 3° de la Constitu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Art. 123 “A” Ley Federal del Traba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Capítulo XVII Ley Federal del Traba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Capítulo XV Ley Federal del Traba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2"/>
          <p:cNvSpPr/>
          <p:nvPr/>
        </p:nvSpPr>
        <p:spPr>
          <a:xfrm>
            <a:off x="611280" y="1052640"/>
            <a:ext cx="7489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NOMBRAMIENTO DE AUTOR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Libertad de elección 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(Respetando la normativa inter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Ratificación de la SCJN al resolver juicios de la Universidad Michoacana de San Nicolás de Hidal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2"/>
          <p:cNvSpPr/>
          <p:nvPr/>
        </p:nvSpPr>
        <p:spPr>
          <a:xfrm>
            <a:off x="611280" y="1052640"/>
            <a:ext cx="74898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NORMATIVA IN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Función Legislativa.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Dictar las normas que regulen a la IES, respetando lo establecido en la Constitución General de la República y demás leyes que regulen el Estado de Derec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8:26:19Z</dcterms:created>
  <dc:creator>Saynes</dc:creator>
  <dc:description/>
  <dc:language>en-US</dc:language>
  <cp:lastModifiedBy>MARIA ESTHER</cp:lastModifiedBy>
  <dcterms:modified xsi:type="dcterms:W3CDTF">2009-11-11T01:43:46Z</dcterms:modified>
  <cp:revision>52</cp:revision>
  <dc:subject/>
  <dc:title>Diapositiva 1</dc:title>
</cp:coreProperties>
</file>