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1F4F-6211-4149-A1FA-733855B505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64E0-C99E-4B8B-B962-3A1FCC8885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6B16-73BD-4BB9-80DD-9D8FEEE583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4CD-7817-4B67-80D1-FB89998C90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0440-A5D0-4512-B10A-DF817341CE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4EDA-3B89-412B-8446-B1C1CE375F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64FA-289E-4012-865B-35265933FE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D3A5-4A60-430F-BDA0-8654172A39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0B21-CBD2-48AC-8EFA-9931C0EC37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365C-0B74-4FBF-BAC9-11C38F420D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EBD8-98A8-4028-BB4A-95AE88C7B7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A3B5-B150-4F8F-BC53-7CAC7CAE93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4DC3-6DD8-454B-AE05-EBACE282D5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EF45-7873-4A67-B980-D0AF40C1C2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4C04-90E3-4487-8E22-611A63D3FB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5E84-DF25-46E1-BD33-C5824D5622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8774-70B3-4369-AA88-74C722473B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E140-4B2C-4EA6-8148-6DBE28C400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9035-311C-4583-B622-6BCBB45C13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792A-01FF-4E2F-904F-A890F489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3208E-A67E-4677-9FC5-DF764FF1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023AC-5EDC-481B-9738-7B9E2277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3EC1-6B2B-42F8-AB61-09FEF97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BA13A-102F-49AD-82DE-0D5793C0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C0ADB-EB72-4F05-9C25-E0CBEBD1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89FE7-C044-49CB-B5A2-E93B04ED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FCAF4-E310-464A-AE07-5D713ED3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181F-B6E1-458C-8ECB-15B21B32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3F86B-2137-4C2F-942A-031158A7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B1B12-FB32-4730-982B-00EBB1E1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271C7-A96F-4C98-8291-A1BD7A71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5A584-7A2A-4B27-8F0D-CF764E9E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18DE7-53DB-44F5-8A9F-05796711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3FE06-269F-4600-9AEC-248E5044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BE47E-6DD1-459C-B34E-AD733EDB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075A1-47A7-46E4-A027-7FA54F58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ABFA7-7561-47F0-9DCA-9F09C833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D978D-F377-47FD-B42C-38130451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3F8F3-F62F-4796-8732-F8C9E383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85054-8018-4842-91B7-93E357FC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A47D6-6F8E-48A1-85B8-24918E9C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EBD59-35DF-42CC-BF9F-6AB959D1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44E3B-133E-4C69-8226-55CE1281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F5AD2-626C-4863-B830-0847C66D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54616-3F84-4571-A253-93C743D1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B29A6-6A41-4468-B254-62EAD900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C9414-C573-4602-B8E7-507EA8B8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FDF50-19DE-48AE-B4DF-D835864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CAC5E-A49E-488F-93D8-8A4F4EF6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660DC-6C06-4E42-8C8F-1F05102B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DC667-DCD2-419A-AB60-568805FD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3FC44-3EEA-4189-A034-7D178C2F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4C1-CC96-49FF-91C7-A853CAF1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031-F38B-4B58-8B57-CD25AA3E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80E-7475-41B1-A102-8628BF65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F8A-458D-4A04-80C1-DEA8A2D2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418-1AF3-40A3-985B-6725302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122-A7F9-44F4-9911-766732C1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250-3CB2-4EA5-9002-B495A442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3F2-787A-4E1E-8944-4B17FEAE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9B9-1D90-4818-A37A-E27ED05A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8E4-54EF-4113-B7A1-28D12A1A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CC8-CCE3-4E93-B89F-0947C6CA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E0F-CB92-49CE-AC61-95285604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DD84-ED29-435C-BA41-4B5EF195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EE37-BB6F-4FFB-8C5D-99715ACA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FC10-FEF0-4102-96CD-2A4345E2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E07D-030A-4147-8354-E2B4C724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553C-1EFC-46BB-BCEB-2EAF820E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4AB2-ADED-4B1C-8CA9-930E44BB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3DA4-9428-4A23-8DEA-770399EC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D407-59A6-4438-BF66-EF9829EB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166F-4AEA-4D0C-985C-D40477F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22E3-70AF-412A-9C51-80751EF7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718F-187E-47A6-9E68-21319707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9AFA-4EE6-4264-B055-245AE3E0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A7348-7C7E-4266-A8DB-FACEEB5B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7BA5-88C0-4B01-94F4-E016CAD3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5BC0-E6DC-410E-B313-8CA05212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7BBD-7639-4ABC-85AA-2FE44E7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6D95-84A5-425B-AF7C-B260984B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DF48-58A6-4E3C-95CA-1E05513F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AD22-AB61-40C3-A905-AE200717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EEB3-7FAD-44A1-9D3B-057DE5C2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C404-EA9E-4070-A25E-6DAA153F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000D-2FD5-4A9C-A340-BD0CBF38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72B8-00EC-44BD-8C17-507A929E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4035-9D6C-451B-A2C3-1674406F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628C9-D860-4A46-9B67-E9ED9404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BDDB0-1214-4CA1-A41F-A43B746A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BB22C-6621-4F9E-B848-73BE4F50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8 Imagen" descr="portadaa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8 Imagen" descr="portadaa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7373-1B81-449A-88ED-1727369276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8 Imagen" descr="portadaa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AA77-FE9E-4C17-AA1F-94470A0085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8 Imagen" descr="portadaa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2 Imagen" descr="fondo_amereia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8 Imagen" descr="portadaa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2 Imagen" descr="fondo_amereia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 Imagen" descr="portadaa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2 Imagen" descr="fondo_amereia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8 Imagen" descr="portadaa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2 Imagen" descr="fondo_amereia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8 Imagen" descr="portadaa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D052-FAC2-45B3-AD5A-55E0F1FF07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8 Imagen" descr="portadaa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AE54-A256-47D8-9D51-A5EDFD56B8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8 Imagen" descr="portadaa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9294-0107-4197-8E79-C6BE66CF40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8 Imagen" descr="portadaa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6A9D-84F1-4E57-885D-ED2A58DCAB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" Target="slide20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Rectángulo"/>
          <p:cNvSpPr/>
          <p:nvPr/>
        </p:nvSpPr>
        <p:spPr>
          <a:xfrm>
            <a:off x="6736320" y="6286680"/>
            <a:ext cx="241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iembre 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116000" y="5302080"/>
            <a:ext cx="735480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"Eficiencia, calidad y transparencia administrativa"</a:t>
            </a:r>
            <a:endParaRPr b="0" i="1" lang="en-US" sz="20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4360" y="1773360"/>
            <a:ext cx="278100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ww.amereiaf.org.mx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547640" y="3614400"/>
            <a:ext cx="56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etodología para la   Evaluación  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5 Rectángulo"/>
          <p:cNvSpPr/>
          <p:nvPr/>
        </p:nvSpPr>
        <p:spPr>
          <a:xfrm>
            <a:off x="6736320" y="6286680"/>
            <a:ext cx="241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iembre 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572040" y="16146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696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539640" y="2244960"/>
            <a:ext cx="813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5696"/>
                </a:solidFill>
                <a:latin typeface="Arial"/>
              </a:rPr>
              <a:t>La metodología para la evaluación del </a:t>
            </a:r>
            <a:r>
              <a:rPr b="0" i="1" lang="es-MX" sz="2400" spc="-1" strike="noStrike">
                <a:solidFill>
                  <a:srgbClr val="005696"/>
                </a:solidFill>
                <a:latin typeface="Arial"/>
              </a:rPr>
              <a:t>Sistema Integral de Información Administrativa</a:t>
            </a:r>
            <a:r>
              <a:rPr b="0" lang="es-MX" sz="2400" spc="-1" strike="noStrike">
                <a:solidFill>
                  <a:srgbClr val="005696"/>
                </a:solidFill>
                <a:latin typeface="Arial"/>
              </a:rPr>
              <a:t> (SIIA), tiene como objetivo el  proporcionar un diagnóstico objetivo e imparcial que permita clasificar y priorizar las acciones que deberá considerar un Plan de Mejora Integral del SIIA y deberá dar respuesta en principio a las necesidades de los procesos relacionados con la administración escolar, recursos humanos, recursos materiales, recursos financieros y en los demás procesos académicos-administrativos logrando la calidad de la Gestión Institucional de las 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8"/>
          <p:cNvSpPr/>
          <p:nvPr/>
        </p:nvSpPr>
        <p:spPr>
          <a:xfrm>
            <a:off x="571680" y="1000080"/>
            <a:ext cx="82864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70c0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0070c0"/>
                </a:solidFill>
                <a:latin typeface="Verdana"/>
                <a:ea typeface="Arial"/>
              </a:rPr>
              <a:t>Objetivos Estratégic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Coordinar </a:t>
            </a:r>
            <a:r>
              <a:rPr b="0" lang="es-ES" sz="1600" spc="-1" strike="noStrike">
                <a:solidFill>
                  <a:srgbClr val="0070c0"/>
                </a:solidFill>
                <a:latin typeface="Verdana"/>
              </a:rPr>
              <a:t>las</a:t>
            </a: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 acciones necesarias para que opere un sistema nacional de información administrativa y financiera de la educación superior, bajo un esquema de coordinación, intercambio, colaboración y complem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Favorecer el intercambio de experiencias, en los campos </a:t>
            </a:r>
            <a:r>
              <a:rPr b="0" lang="es-ES" sz="1600" spc="-1" strike="noStrike">
                <a:solidFill>
                  <a:srgbClr val="0070c0"/>
                </a:solidFill>
                <a:latin typeface="Verdana"/>
              </a:rPr>
              <a:t>administrativo</a:t>
            </a: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 y financiero, entre instituciones de educación superior del país y del extranj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Vigilar la aplicación de la norma técnica aprobada por los órganos de gobierno de la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Realizar estudios sobre los campos propios del objeto y razón de ser de la Asociación, con grupos de trabajo integrados por miembros de las comunidades de las instituciones miembros y por especialistas contratados para e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Colaborar con agrupaciones u organismos nacionales e internacionales para la realización de estudios comparativos en temas objeto de la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7"/>
          <p:cNvSpPr/>
          <p:nvPr/>
        </p:nvSpPr>
        <p:spPr>
          <a:xfrm>
            <a:off x="357120" y="917640"/>
            <a:ext cx="777240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70c0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0070c0"/>
                </a:solidFill>
                <a:latin typeface="Verdana"/>
                <a:ea typeface="Arial"/>
              </a:rPr>
              <a:t>Objetivos Estratégic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Ofrecer apoyo técnico, por sí y a través de los especialistas que laboran en los SIIA de las instituciones mexicanas de educación sup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Actualizar los desarrollos técnicos de soporte al Sistema, de acuerdo con las experiencias acumuladas y los avances en la tecnología uti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Ofrecer información que facilite las acciones coordinadas de los responsables en las instituciones de educación superior que formen parte de la asociación, así como el conocimiento y la aplicación de innovaciones técnicas en los sistemas i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Apoyar la capacitación del personal responsable de las tareas relacionadas con las áreas administrativas y financieras de las instituciones de educación sup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Propiciar la comunicación entre los miembros de la asociación para favorecer un mejor desempeño de sus fun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7"/>
          <p:cNvSpPr/>
          <p:nvPr/>
        </p:nvSpPr>
        <p:spPr>
          <a:xfrm>
            <a:off x="714240" y="1643040"/>
            <a:ext cx="7772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70c0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0070c0"/>
                </a:solidFill>
                <a:latin typeface="Verdana"/>
                <a:ea typeface="Arial"/>
              </a:rPr>
              <a:t>Objetivos Estratégic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 startAt="11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Ofrecer servicios a instituciones, organismos y entidades que lo requieran para el diseño y la aplicación de un SIIA, en su conjunto o en algunas partes, o bien a través de las actividades que realice la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 startAt="11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Promover, Colaborar, organizar y realizar actividades propias en su ámbito de interés y de los fines para los que fue cre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Verdana"/>
              <a:buAutoNum type="romanUcPeriod" startAt="11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Verdana"/>
              </a:rPr>
              <a:t>Participar en actos, eventos, programas y actividades que otros organicen, que respondan a su ámbito de interés o se relacionen con sus f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6"/>
          <p:cNvSpPr/>
          <p:nvPr/>
        </p:nvSpPr>
        <p:spPr>
          <a:xfrm>
            <a:off x="428760" y="11430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Verdana"/>
              </a:rPr>
              <a:t>ACCIONES 2008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976320" y="1655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70c0"/>
                </a:solidFill>
                <a:latin typeface="Verdana"/>
              </a:rPr>
              <a:t>Promover el uso de los Portales Administrativos para la gestión, apoyando principalmente a docentes y alumnos para la consulta académic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70c0"/>
                </a:solidFill>
                <a:latin typeface="Verdana"/>
              </a:rPr>
              <a:t>Desarrollar las estrategias para que las áreas administrativas cuenten con la documentación actualizada y apropiada en las áreas del SI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70c0"/>
                </a:solidFill>
                <a:latin typeface="Verdana"/>
              </a:rPr>
              <a:t>Implementar procesos internos en la AMEREIAF que permitan un mejor control administrativo, incluyendo el manejo de pagos, transparencia en el uso de recursos y procesos certificados de calid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70c0"/>
                </a:solidFill>
                <a:latin typeface="Verdana"/>
              </a:rPr>
              <a:t>Convertir a la AMEREIAF en un ente activo, normativo, cooperativo, que con apoyo de recursos de programas institucionales de la SES de la SEP, que permitan establecer un modelo nacional de información universitaria y el crecimiento de las IES afiliad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70c0"/>
                </a:solidFill>
                <a:latin typeface="Verdana"/>
              </a:rPr>
              <a:t>Implementar modelos de trabajo en equipo, utilizando las nuevas Tecnologías de Información y Comunicación que permitan la colaboración en líne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344160" y="111456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696"/>
                </a:solidFill>
                <a:latin typeface="Arial"/>
              </a:rPr>
              <a:t>Contexto N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324000" y="1629360"/>
            <a:ext cx="849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696"/>
                </a:solidFill>
                <a:latin typeface="Arial"/>
              </a:rPr>
              <a:t>EDUCACIÓ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696"/>
                </a:solidFill>
                <a:latin typeface="Arial"/>
              </a:rPr>
              <a:t>E.9 Articular y consolidar el Sistema Nacional de Evaluación, Acreditación y Certificación y sus organismos especi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696"/>
                </a:solidFill>
                <a:latin typeface="Arial"/>
              </a:rPr>
              <a:t>Fortalecer las prácticas de autoevaluación, evaluación externa de pares, acreditación formal y exámenes nacionales estandarizados de ingreso y egreso de la educación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696"/>
                </a:solidFill>
                <a:latin typeface="Arial"/>
              </a:rPr>
              <a:t>Institucionalizar la formación, capacitación y actualización de los profesionales que realizan las tareas de evaluación externa y acreditación de los programas de educación sup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5993640" y="621432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5696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005696"/>
                </a:solidFill>
                <a:latin typeface="Arial Narrow"/>
              </a:rPr>
              <a:t>Programa Sectorial de Educación 2007-2012. Temas Transversales.</a:t>
            </a:r>
            <a:r>
              <a:rPr b="0" lang="en-US" sz="1800" spc="-1" strike="noStrike">
                <a:solidFill>
                  <a:srgbClr val="00569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3"/>
          <p:cNvSpPr/>
          <p:nvPr/>
        </p:nvSpPr>
        <p:spPr>
          <a:xfrm>
            <a:off x="324000" y="1566360"/>
            <a:ext cx="849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696"/>
                </a:solidFill>
                <a:latin typeface="Arial"/>
              </a:rPr>
              <a:t>EDUCACIÓ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696"/>
                </a:solidFill>
                <a:latin typeface="Arial"/>
              </a:rPr>
              <a:t>SI.4 Fortalecer el sistema nacional de información de la educación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696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5696"/>
                </a:solidFill>
                <a:latin typeface="Arial"/>
              </a:rPr>
              <a:t>Impulsar el desarrollo de un Sistema Nacional de Información en materia de educación superior que permita articular los esfuerzos dispersos, identificar necesidades de información, revisar y mejorar métodos, procedimientos e instrumentos de recolección, integrar y construir bases con datos de encuestas, censos y registros institucionales con referencia territorial, e impulsar políticas y mecanismos interinstitucionales de cooperación en la ma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5993640" y="628596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5696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005696"/>
                </a:solidFill>
                <a:latin typeface="Arial Narrow"/>
              </a:rPr>
              <a:t>Programa Sectorial de Educación 2007-2012. Temas Transversales.</a:t>
            </a:r>
            <a:r>
              <a:rPr b="0" lang="en-US" sz="1800" spc="-1" strike="noStrike">
                <a:solidFill>
                  <a:srgbClr val="00569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359280" y="97164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696"/>
                </a:solidFill>
                <a:latin typeface="Arial"/>
              </a:rPr>
              <a:t>Contexto Nacional  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2"/>
          <p:cNvSpPr/>
          <p:nvPr/>
        </p:nvSpPr>
        <p:spPr>
          <a:xfrm>
            <a:off x="181080" y="90792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324000" y="198432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rovechar las tecnologías de la información y la comunicación para promover el acceso, e impulsar la consulta de bases de datos sobre educación superior en lí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oyar el desarrollo de sistemas integrales de información en las instituciones de educación superior y en las entidades feder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formar un grupo de trabajo para definir la operación del sistema nacional de información de la educación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5993640" y="644616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grama Sectorial de Educación 2007-2012. Temas Transversales.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2"/>
          <p:cNvSpPr/>
          <p:nvPr/>
        </p:nvSpPr>
        <p:spPr>
          <a:xfrm>
            <a:off x="181080" y="105264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24000" y="263304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truir, con la participación de los diversos subsistemas e instancias representativas de la educación superior, un sistema de indicadores para conocer y efectuar un seguimiento de la situación del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mover y realizar encuestas y estudios para apoyar la toma de decisiones de la educación superior y rendir un informe anual sobre la situación de la educación superior en Méx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5993640" y="644616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grama Sectorial de Educación 2007-2012. Temas Transversales.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00000" y="1197000"/>
            <a:ext cx="7344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66"/>
                </a:solidFill>
                <a:latin typeface="Monotype Corsiva"/>
              </a:rPr>
              <a:t>Anteced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En el año 1996 la Subsecretaría de Educación pública inició con este proyecto de alcance nacional (PRONAD dentro del FOMES ahora PI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Con el propósito de adoptar un lenguaje común en el manejo de la información administrativa y financiera de las U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2"/>
          <p:cNvSpPr/>
          <p:nvPr/>
        </p:nvSpPr>
        <p:spPr>
          <a:xfrm>
            <a:off x="-1440" y="981000"/>
            <a:ext cx="43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ficación e Importa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395280" y="2200320"/>
            <a:ext cx="835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 PROADU, se reconocerá con la siguiente denominación: Programa de Apoyo al Desarrollo de la Educación Superior (PADES), en virtud de que sus alcances van más allá de las instituciones universit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 SEP a través del PADES podrá canalizar recursos a las IES y OES que realizan actividades de índole académica y científica, que propicien el desarrollo y fortalecimiento académico institucional y el avance y divulgación del conocimiento, o que en términos generales contribuyan al desarrollo del sistema de educación superior, de las siguientes activ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5236920" y="649044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GRAMA DE APOYO AL DESARROLLO DE LA EDUCACIÓN SUPERIOR (PADES)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360" y="981000"/>
            <a:ext cx="709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text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stificación e Importancia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yectos Apoy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95280" y="2388240"/>
            <a:ext cx="83520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idades de evaluación y desarrollo de sistemas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yectos orientados a impulsar el desarrollo de sistemas de información en materia de educación superi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yectos dirigidos a impulsar el acceso y la consulta de información o bases de datos en línea sobre educación superi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yectos de evaluación (integrales o de impacto) a programas relevantes de las instituciones de educación superi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yectos de evaluación (de proyectos, integrales o de impacto) a fondos o programas coordinados por la Subsecretaría de Educación Superior (SES) de la SEP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5236920" y="649044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GRAMA DE APOYO AL DESARROLLO DE LA EDUCACIÓN SUPERIOR (PADES)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181080" y="105264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324000" y="1791360"/>
            <a:ext cx="849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 necesidad de un Sistema Nacional de Información de Educación Superior</a:t>
            </a:r>
            <a:r>
              <a:rPr b="0" lang="en-US" sz="1800" spc="-1" strike="noStrike">
                <a:solidFill>
                  <a:srgbClr val="333399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 debe construir un sistema que proporcione información sobre los aspectos significativos de una institución de educación superior que permita valorar su desempeño, de manera global, y el de sus procesos, de manera particular. Un sistema que propicie una perspectiva holística del SES; es decir, una visión global sobre el comportamiento de los elementos que lo conforman y sobre el compromiso de los actores principales en relación con los objetivos cru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4510800" y="644616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a Educación Superior en el Siglo XXI: Líneas Estratégicas de Desarrollo, una Propuesta de la ANUIES.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250920" y="2471760"/>
            <a:ext cx="8497800" cy="38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 carencia de un proyecto integral para la construcción de un sistema de información n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efinición de variables e indic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articulación entre la información que generan las IES y las dependencias gubernamen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 existe, en suma, un sistema de medición y análisis común que estandarice los resultados a partir de definiciones y procedimientos compati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0" y="1125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áculos a superar en un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med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4510800" y="644616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a Educación Superior en el Siglo XXI: Líneas Estratégicas de Desarrollo, una Propuesta de la ANUIES.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2"/>
          <p:cNvSpPr/>
          <p:nvPr/>
        </p:nvSpPr>
        <p:spPr>
          <a:xfrm>
            <a:off x="900000" y="2708280"/>
            <a:ext cx="7345440" cy="37515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91a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333399"/>
                </a:solidFill>
                <a:latin typeface="Arial"/>
              </a:rPr>
              <a:t>¿ Cómo se evalúa la calidad de la educación superior en Méxic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360" y="1052640"/>
            <a:ext cx="41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aluación de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Group 2"/>
          <p:cNvGrpSpPr/>
          <p:nvPr/>
        </p:nvGrpSpPr>
        <p:grpSpPr>
          <a:xfrm>
            <a:off x="96840" y="2205000"/>
            <a:ext cx="9047160" cy="4279680"/>
            <a:chOff x="96840" y="2205000"/>
            <a:chExt cx="9047160" cy="4279680"/>
          </a:xfrm>
        </p:grpSpPr>
        <p:sp>
          <p:nvSpPr>
            <p:cNvPr id="737" name="Oval 9"/>
            <p:cNvSpPr/>
            <p:nvPr/>
          </p:nvSpPr>
          <p:spPr>
            <a:xfrm>
              <a:off x="3649680" y="2205000"/>
              <a:ext cx="2085840" cy="975240"/>
            </a:xfrm>
            <a:prstGeom prst="ellipse">
              <a:avLst/>
            </a:prstGeom>
            <a:gradFill rotWithShape="0">
              <a:gsLst>
                <a:gs pos="0">
                  <a:srgbClr val="a3c2e1"/>
                </a:gs>
                <a:gs pos="100000">
                  <a:srgbClr val="75a3d1"/>
                </a:gs>
              </a:gsLst>
              <a:lin ang="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IES reconoci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por su buen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calida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oup 4"/>
            <p:cNvGrpSpPr/>
            <p:nvPr/>
          </p:nvGrpSpPr>
          <p:grpSpPr>
            <a:xfrm>
              <a:off x="992160" y="3008160"/>
              <a:ext cx="7380360" cy="1132200"/>
              <a:chOff x="992160" y="3008160"/>
              <a:chExt cx="7380360" cy="1132200"/>
            </a:xfrm>
          </p:grpSpPr>
          <p:grpSp>
            <p:nvGrpSpPr>
              <p:cNvPr id="739" name="Group 5"/>
              <p:cNvGrpSpPr/>
              <p:nvPr/>
            </p:nvGrpSpPr>
            <p:grpSpPr>
              <a:xfrm>
                <a:off x="5430240" y="3008160"/>
                <a:ext cx="2942280" cy="1039680"/>
                <a:chOff x="5430240" y="3008160"/>
                <a:chExt cx="2942280" cy="1039680"/>
              </a:xfrm>
            </p:grpSpPr>
            <p:sp>
              <p:nvSpPr>
                <p:cNvPr id="740" name="Oval 12"/>
                <p:cNvSpPr/>
                <p:nvPr/>
              </p:nvSpPr>
              <p:spPr>
                <a:xfrm>
                  <a:off x="5877000" y="3008160"/>
                  <a:ext cx="2495520" cy="103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c2e1"/>
                    </a:gs>
                    <a:gs pos="100000">
                      <a:srgbClr val="75a3d1"/>
                    </a:gs>
                  </a:gsLst>
                  <a:lin ang="0"/>
                </a:gradFill>
                <a:ln w="38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Gestión 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institucional 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competent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741" name="AutoShape 13"/>
                <p:cNvCxnSpPr>
                  <a:stCxn id="740" idx="1"/>
                  <a:endCxn id="737" idx="5"/>
                </p:cNvCxnSpPr>
                <p:nvPr/>
              </p:nvCxnSpPr>
              <p:spPr>
                <a:xfrm flipH="1" flipV="1">
                  <a:off x="5430240" y="3056760"/>
                  <a:ext cx="811800" cy="85680"/>
                </a:xfrm>
                <a:prstGeom prst="straightConnector1">
                  <a:avLst/>
                </a:prstGeom>
                <a:ln w="381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42" name="Group 14"/>
              <p:cNvGrpSpPr/>
              <p:nvPr/>
            </p:nvGrpSpPr>
            <p:grpSpPr>
              <a:xfrm>
                <a:off x="992160" y="3027960"/>
                <a:ext cx="2908440" cy="1112400"/>
                <a:chOff x="992160" y="3027960"/>
                <a:chExt cx="2908440" cy="1112400"/>
              </a:xfrm>
            </p:grpSpPr>
            <p:sp>
              <p:nvSpPr>
                <p:cNvPr id="743" name="Oval 15"/>
                <p:cNvSpPr/>
                <p:nvPr/>
              </p:nvSpPr>
              <p:spPr>
                <a:xfrm>
                  <a:off x="992160" y="3126240"/>
                  <a:ext cx="2408400" cy="101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c2e1"/>
                    </a:gs>
                    <a:gs pos="100000">
                      <a:srgbClr val="75a3d1"/>
                    </a:gs>
                  </a:gsLst>
                  <a:lin ang="0"/>
                </a:gradFill>
                <a:ln w="38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Oferta educativa 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de buena calidad</a:t>
                  </a:r>
                  <a:br>
                    <a:rPr sz="1500"/>
                  </a:br>
                  <a:r>
                    <a:rPr b="1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y pertinent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744" name="AutoShape 16"/>
                <p:cNvCxnSpPr>
                  <a:stCxn id="737" idx="3"/>
                  <a:endCxn id="743" idx="7"/>
                </p:cNvCxnSpPr>
                <p:nvPr/>
              </p:nvCxnSpPr>
              <p:spPr>
                <a:xfrm flipH="1">
                  <a:off x="3047760" y="3027960"/>
                  <a:ext cx="853200" cy="229320"/>
                </a:xfrm>
                <a:prstGeom prst="straightConnector1">
                  <a:avLst/>
                </a:prstGeom>
                <a:ln w="38160">
                  <a:solidFill>
                    <a:srgbClr val="c0c0c0"/>
                  </a:solidFill>
                  <a:miter/>
                  <a:headEnd len="med" type="triangle" w="med"/>
                </a:ln>
              </p:spPr>
            </p:cxnSp>
          </p:grpSp>
        </p:grpSp>
        <p:sp>
          <p:nvSpPr>
            <p:cNvPr id="745" name="Freeform 17"/>
            <p:cNvSpPr/>
            <p:nvPr/>
          </p:nvSpPr>
          <p:spPr>
            <a:xfrm>
              <a:off x="3314880" y="3843360"/>
              <a:ext cx="2614320" cy="163800"/>
            </a:xfrm>
            <a:prstGeom prst="pie">
              <a:avLst/>
            </a:prstGeom>
            <a:noFill/>
            <a:ln w="38160">
              <a:solidFill>
                <a:srgbClr val="c0c0c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2"/>
            <p:cNvGrpSpPr/>
            <p:nvPr/>
          </p:nvGrpSpPr>
          <p:grpSpPr>
            <a:xfrm>
              <a:off x="96840" y="4011120"/>
              <a:ext cx="1525680" cy="1136520"/>
              <a:chOff x="96840" y="4011120"/>
              <a:chExt cx="1525680" cy="1136520"/>
            </a:xfrm>
          </p:grpSpPr>
          <p:sp>
            <p:nvSpPr>
              <p:cNvPr id="747" name="Oval 19"/>
              <p:cNvSpPr/>
              <p:nvPr/>
            </p:nvSpPr>
            <p:spPr>
              <a:xfrm>
                <a:off x="96840" y="4300560"/>
                <a:ext cx="1525680" cy="847080"/>
              </a:xfrm>
              <a:prstGeom prst="ellipse">
                <a:avLst/>
              </a:prstGeom>
              <a:gradFill rotWithShape="0">
                <a:gsLst>
                  <a:gs pos="0">
                    <a:srgbClr val="a3c2e1"/>
                  </a:gs>
                  <a:gs pos="100000">
                    <a:srgbClr val="75a3d1"/>
                  </a:gs>
                </a:gsLst>
                <a:lin ang="0"/>
              </a:gradFill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ffff"/>
                    </a:solidFill>
                    <a:latin typeface="Arial"/>
                  </a:rPr>
                  <a:t>Alta capacidad acadé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48" name="AutoShape 20"/>
              <p:cNvCxnSpPr>
                <a:stCxn id="747" idx="0"/>
                <a:endCxn id="743" idx="3"/>
              </p:cNvCxnSpPr>
              <p:nvPr/>
            </p:nvCxnSpPr>
            <p:spPr>
              <a:xfrm flipV="1">
                <a:off x="860040" y="4011120"/>
                <a:ext cx="484920" cy="270360"/>
              </a:xfrm>
              <a:prstGeom prst="straightConnector1">
                <a:avLst/>
              </a:prstGeom>
              <a:ln w="381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749" name="Group 15"/>
            <p:cNvGrpSpPr/>
            <p:nvPr/>
          </p:nvGrpSpPr>
          <p:grpSpPr>
            <a:xfrm>
              <a:off x="2703600" y="4011480"/>
              <a:ext cx="1849320" cy="1447200"/>
              <a:chOff x="2703600" y="4011480"/>
              <a:chExt cx="1849320" cy="1447200"/>
            </a:xfrm>
          </p:grpSpPr>
          <p:cxnSp>
            <p:nvCxnSpPr>
              <p:cNvPr id="750" name="AutoShape 25"/>
              <p:cNvCxnSpPr>
                <a:stCxn id="743" idx="5"/>
                <a:endCxn id="751" idx="0"/>
              </p:cNvCxnSpPr>
              <p:nvPr/>
            </p:nvCxnSpPr>
            <p:spPr>
              <a:xfrm>
                <a:off x="3048120" y="4011480"/>
                <a:ext cx="581400" cy="235800"/>
              </a:xfrm>
              <a:prstGeom prst="straightConnector1">
                <a:avLst/>
              </a:prstGeom>
              <a:ln w="38160">
                <a:solidFill>
                  <a:srgbClr val="c0c0c0"/>
                </a:solidFill>
                <a:miter/>
                <a:tailEnd len="med" type="triangle" w="med"/>
              </a:ln>
            </p:spPr>
          </p:cxnSp>
          <p:sp>
            <p:nvSpPr>
              <p:cNvPr id="751" name="Oval 26"/>
              <p:cNvSpPr/>
              <p:nvPr/>
            </p:nvSpPr>
            <p:spPr>
              <a:xfrm>
                <a:off x="2703600" y="4265280"/>
                <a:ext cx="1849320" cy="880920"/>
              </a:xfrm>
              <a:prstGeom prst="ellipse">
                <a:avLst/>
              </a:prstGeom>
              <a:gradFill rotWithShape="0">
                <a:gsLst>
                  <a:gs pos="0">
                    <a:srgbClr val="a3c2e1"/>
                  </a:gs>
                  <a:gs pos="100000">
                    <a:srgbClr val="75a3d1"/>
                  </a:gs>
                </a:gsLst>
                <a:lin ang="0"/>
              </a:gradFill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ctr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ffff"/>
                    </a:solidFill>
                    <a:latin typeface="Arial"/>
                  </a:rPr>
                  <a:t>Alta competitividad acadé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2" name="AutoShape 27"/>
              <p:cNvCxnSpPr>
                <a:stCxn id="751" idx="4"/>
                <a:endCxn id="753" idx="6"/>
              </p:cNvCxnSpPr>
              <p:nvPr/>
            </p:nvCxnSpPr>
            <p:spPr>
              <a:xfrm flipH="1">
                <a:off x="3095280" y="5164920"/>
                <a:ext cx="534240" cy="294120"/>
              </a:xfrm>
              <a:prstGeom prst="straightConnector1">
                <a:avLst/>
              </a:prstGeom>
              <a:ln w="38160">
                <a:solidFill>
                  <a:srgbClr val="c0c0c0"/>
                </a:solidFill>
                <a:miter/>
                <a:headEnd len="med" type="triangle" w="med"/>
              </a:ln>
            </p:spPr>
          </p:cxnSp>
        </p:grpSp>
        <p:grpSp>
          <p:nvGrpSpPr>
            <p:cNvPr id="754" name="Group 19"/>
            <p:cNvGrpSpPr/>
            <p:nvPr/>
          </p:nvGrpSpPr>
          <p:grpSpPr>
            <a:xfrm>
              <a:off x="7331040" y="3894480"/>
              <a:ext cx="1812960" cy="1169640"/>
              <a:chOff x="7331040" y="3894480"/>
              <a:chExt cx="1812960" cy="1169640"/>
            </a:xfrm>
          </p:grpSpPr>
          <p:sp>
            <p:nvSpPr>
              <p:cNvPr id="755" name="Oval 22"/>
              <p:cNvSpPr/>
              <p:nvPr/>
            </p:nvSpPr>
            <p:spPr>
              <a:xfrm>
                <a:off x="7331040" y="4297680"/>
                <a:ext cx="1812960" cy="766440"/>
              </a:xfrm>
              <a:prstGeom prst="ellipse">
                <a:avLst/>
              </a:prstGeom>
              <a:gradFill rotWithShape="0">
                <a:gsLst>
                  <a:gs pos="0">
                    <a:srgbClr val="a3c2e1"/>
                  </a:gs>
                  <a:gs pos="100000">
                    <a:srgbClr val="75a3d1"/>
                  </a:gs>
                </a:gsLst>
                <a:lin ang="0"/>
              </a:gradFill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ffff"/>
                    </a:solidFill>
                    <a:latin typeface="Arial"/>
                  </a:rPr>
                  <a:t>Certificación de procesos estratégic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6" name="AutoShape 23"/>
              <p:cNvCxnSpPr/>
              <p:nvPr/>
            </p:nvCxnSpPr>
            <p:spPr>
              <a:xfrm flipH="1" flipV="1">
                <a:off x="8008200" y="3894480"/>
                <a:ext cx="229320" cy="369720"/>
              </a:xfrm>
              <a:prstGeom prst="straightConnector1">
                <a:avLst/>
              </a:prstGeom>
              <a:ln w="38160">
                <a:solidFill>
                  <a:srgbClr val="b2b2b2"/>
                </a:solidFill>
                <a:miter/>
                <a:tailEnd len="med" type="triangle" w="med"/>
              </a:ln>
            </p:spPr>
          </p:cxnSp>
        </p:grpSp>
        <p:grpSp>
          <p:nvGrpSpPr>
            <p:cNvPr id="757" name="Group 22"/>
            <p:cNvGrpSpPr/>
            <p:nvPr/>
          </p:nvGrpSpPr>
          <p:grpSpPr>
            <a:xfrm>
              <a:off x="4013280" y="3913920"/>
              <a:ext cx="2919240" cy="1396800"/>
              <a:chOff x="4013280" y="3913920"/>
              <a:chExt cx="2919240" cy="1396800"/>
            </a:xfrm>
          </p:grpSpPr>
          <p:sp>
            <p:nvSpPr>
              <p:cNvPr id="758" name="Oval 34">
                <a:hlinkClick r:id="rId1" action="ppaction://hlinksldjump"/>
              </p:cNvPr>
              <p:cNvSpPr/>
              <p:nvPr/>
            </p:nvSpPr>
            <p:spPr>
              <a:xfrm>
                <a:off x="5038920" y="4292640"/>
                <a:ext cx="1893600" cy="775080"/>
              </a:xfrm>
              <a:prstGeom prst="ellipse">
                <a:avLst/>
              </a:prstGeom>
              <a:gradFill rotWithShape="0">
                <a:gsLst>
                  <a:gs pos="0">
                    <a:srgbClr val="a3c2e1"/>
                  </a:gs>
                  <a:gs pos="100000">
                    <a:srgbClr val="75a3d1"/>
                  </a:gs>
                </a:gsLst>
                <a:lin ang="0"/>
              </a:gradFill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Rendición de cuent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9" name="AutoShape 35"/>
              <p:cNvCxnSpPr>
                <a:stCxn id="758" idx="0"/>
                <a:endCxn id="740" idx="3"/>
              </p:cNvCxnSpPr>
              <p:nvPr/>
            </p:nvCxnSpPr>
            <p:spPr>
              <a:xfrm flipV="1">
                <a:off x="5986440" y="3913920"/>
                <a:ext cx="255960" cy="360720"/>
              </a:xfrm>
              <a:prstGeom prst="straightConnector1">
                <a:avLst/>
              </a:prstGeom>
              <a:ln w="38160">
                <a:solidFill>
                  <a:srgbClr val="b2b2b2"/>
                </a:solidFill>
                <a:miter/>
                <a:headEnd len="med" type="triangle" w="med"/>
              </a:ln>
            </p:spPr>
          </p:cxnSp>
          <p:sp>
            <p:nvSpPr>
              <p:cNvPr id="760" name="Freeform 36"/>
              <p:cNvSpPr/>
              <p:nvPr/>
            </p:nvSpPr>
            <p:spPr>
              <a:xfrm>
                <a:off x="4013280" y="5083560"/>
                <a:ext cx="1598400" cy="227160"/>
              </a:xfrm>
              <a:prstGeom prst="pie">
                <a:avLst/>
              </a:prstGeom>
              <a:noFill/>
              <a:ln w="38160">
                <a:solidFill>
                  <a:srgbClr val="c0c0c0"/>
                </a:solidFill>
                <a:prstDash val="dash"/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Oval 19"/>
            <p:cNvGrpSpPr/>
            <p:nvPr/>
          </p:nvGrpSpPr>
          <p:grpSpPr>
            <a:xfrm>
              <a:off x="3193920" y="5460480"/>
              <a:ext cx="2286000" cy="1024200"/>
              <a:chOff x="3193920" y="5460480"/>
              <a:chExt cx="2286000" cy="1024200"/>
            </a:xfrm>
          </p:grpSpPr>
          <p:pic>
            <p:nvPicPr>
              <p:cNvPr id="762" name="Oval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3193920" y="5460480"/>
                <a:ext cx="2286000" cy="102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"/>
              <p:cNvSpPr/>
              <p:nvPr/>
            </p:nvSpPr>
            <p:spPr>
              <a:xfrm>
                <a:off x="3547440" y="5626440"/>
                <a:ext cx="1578240" cy="68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Estudios de: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Facti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Egres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Emplead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27"/>
            <p:cNvGrpSpPr/>
            <p:nvPr/>
          </p:nvGrpSpPr>
          <p:grpSpPr>
            <a:xfrm>
              <a:off x="869760" y="4145760"/>
              <a:ext cx="2363760" cy="1724400"/>
              <a:chOff x="869760" y="4145760"/>
              <a:chExt cx="2363760" cy="1724400"/>
            </a:xfrm>
          </p:grpSpPr>
          <p:sp>
            <p:nvSpPr>
              <p:cNvPr id="753" name="Oval 29">
                <a:hlinkClick r:id="rId4" action="ppaction://hlinksldjump"/>
              </p:cNvPr>
              <p:cNvSpPr/>
              <p:nvPr/>
            </p:nvSpPr>
            <p:spPr>
              <a:xfrm>
                <a:off x="1328760" y="5086800"/>
                <a:ext cx="1747800" cy="743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Innovación educati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5" name="AutoShape 30"/>
              <p:cNvCxnSpPr/>
              <p:nvPr/>
            </p:nvCxnSpPr>
            <p:spPr>
              <a:xfrm>
                <a:off x="869760" y="5146560"/>
                <a:ext cx="440280" cy="298800"/>
              </a:xfrm>
              <a:prstGeom prst="straightConnector1">
                <a:avLst/>
              </a:prstGeom>
              <a:ln w="38160">
                <a:solidFill>
                  <a:srgbClr val="c0c0c0"/>
                </a:solidFill>
                <a:miter/>
                <a:tailEnd len="med" type="triangle" w="med"/>
              </a:ln>
            </p:spPr>
          </p:cxnSp>
          <p:cxnSp>
            <p:nvCxnSpPr>
              <p:cNvPr id="766" name="AutoShape 31"/>
              <p:cNvCxnSpPr>
                <a:stCxn id="753" idx="0"/>
              </p:cNvCxnSpPr>
              <p:nvPr/>
            </p:nvCxnSpPr>
            <p:spPr>
              <a:xfrm flipH="1" flipV="1">
                <a:off x="2196720" y="4145760"/>
                <a:ext cx="7200" cy="922320"/>
              </a:xfrm>
              <a:prstGeom prst="straightConnector1">
                <a:avLst/>
              </a:prstGeom>
              <a:ln w="38160">
                <a:solidFill>
                  <a:srgbClr val="c0c0c0"/>
                </a:solidFill>
                <a:miter/>
                <a:tailEnd len="med" type="triangle" w="med"/>
              </a:ln>
            </p:spPr>
          </p:cxnSp>
          <p:cxnSp>
            <p:nvCxnSpPr>
              <p:cNvPr id="767" name="AutoShape 20"/>
              <p:cNvCxnSpPr/>
              <p:nvPr/>
            </p:nvCxnSpPr>
            <p:spPr>
              <a:xfrm flipH="1" flipV="1">
                <a:off x="2820240" y="5739480"/>
                <a:ext cx="413640" cy="131040"/>
              </a:xfrm>
              <a:prstGeom prst="straightConnector1">
                <a:avLst/>
              </a:prstGeom>
              <a:ln w="38160">
                <a:solidFill>
                  <a:srgbClr val="a3a3a3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768" name="Text Box 32"/>
          <p:cNvSpPr/>
          <p:nvPr/>
        </p:nvSpPr>
        <p:spPr>
          <a:xfrm>
            <a:off x="1800" y="105264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text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I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253080" y="9810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395280" y="170028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ntre los instrumentos que cada vez con más insistencia se plantean como adecuados para estimular el mejoramiento de la calidad de los PE, la gestión académica administrativa y por ende los servicios de calidad en la IES se encuentr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4"/>
          <p:cNvSpPr/>
          <p:nvPr/>
        </p:nvSpPr>
        <p:spPr>
          <a:xfrm>
            <a:off x="900000" y="3236760"/>
            <a:ext cx="3600720" cy="136872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1368720"/>
              <a:gd name="textAreaBottom" fmla="*/ 1369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0" y="0"/>
                </a:lnTo>
                <a:lnTo>
                  <a:pt x="21600" y="10800"/>
                </a:lnTo>
                <a:lnTo>
                  <a:pt x="1769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AUTO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I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5"/>
          <p:cNvSpPr/>
          <p:nvPr/>
        </p:nvSpPr>
        <p:spPr>
          <a:xfrm>
            <a:off x="4068720" y="3236760"/>
            <a:ext cx="4608720" cy="136872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1368720"/>
              <a:gd name="textAreaBottom" fmla="*/ 1369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75" y="0"/>
                </a:lnTo>
                <a:lnTo>
                  <a:pt x="21600" y="10800"/>
                </a:lnTo>
                <a:lnTo>
                  <a:pt x="18675" y="21600"/>
                </a:lnTo>
                <a:lnTo>
                  <a:pt x="0" y="21600"/>
                </a:lnTo>
                <a:lnTo>
                  <a:pt x="2925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EVALUACIÓN DIAGNÓ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I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AMEREI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6"/>
          <p:cNvSpPr/>
          <p:nvPr/>
        </p:nvSpPr>
        <p:spPr>
          <a:xfrm flipV="1">
            <a:off x="5003640" y="4677840"/>
            <a:ext cx="1152720" cy="1117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1001160" y="5181480"/>
            <a:ext cx="40716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 Antiqua"/>
              </a:rPr>
              <a:t>CI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 Antiqua"/>
              </a:rPr>
              <a:t>COPA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 Antiqua"/>
              </a:rPr>
              <a:t>Certificación de Procesos – ISO 9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 Antiqua"/>
              </a:rPr>
              <a:t>AMEREI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2"/>
          <p:cNvSpPr/>
          <p:nvPr/>
        </p:nvSpPr>
        <p:spPr>
          <a:xfrm>
            <a:off x="179280" y="19209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l fomento a la calidad de la educación superior se realiza c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826920" y="2968560"/>
            <a:ext cx="7734600" cy="1068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valuación diagnóstica a los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(Realizada por los Comités de CI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855720" y="4410000"/>
            <a:ext cx="7705800" cy="19076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creditación de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(Realizada por los organismos acreditadores reconocidos por el COPA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1080" y="981000"/>
            <a:ext cx="30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lidad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ducació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2"/>
          <p:cNvSpPr/>
          <p:nvPr/>
        </p:nvSpPr>
        <p:spPr>
          <a:xfrm>
            <a:off x="826920" y="2349360"/>
            <a:ext cx="7734600" cy="1068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ertificación de Procesos Estraté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orma ISO 9001:2008 (E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3"/>
          <p:cNvSpPr/>
          <p:nvPr/>
        </p:nvSpPr>
        <p:spPr>
          <a:xfrm>
            <a:off x="855720" y="3790800"/>
            <a:ext cx="7705800" cy="1127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valuación SI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(AMEREIA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1080" y="1052640"/>
            <a:ext cx="30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lidad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ducació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5"/>
          <p:cNvSpPr/>
          <p:nvPr/>
        </p:nvSpPr>
        <p:spPr>
          <a:xfrm>
            <a:off x="1440" y="98100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aluaciones 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395280" y="2416320"/>
            <a:ext cx="773424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uestionario PRO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969840" y="4000680"/>
            <a:ext cx="7705800" cy="11278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Valoración del SIIA en el Pro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I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611280" y="5945040"/>
            <a:ext cx="773424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uestionario SIIA - AMEREI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00000" y="1268280"/>
            <a:ext cx="7344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66"/>
                </a:solidFill>
                <a:latin typeface="Monotype Corsiv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- Que presente estados financieros bajo un enfoque integral, normalizado nacionalmente y compatible con estándares intern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Que contribuya a la modernización y eficientización de los procesos y estructuras administrativas de la Instit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Actualmente este programa se encuentra en su etapa de consolidación a través del PROGES del PIFI, implementando sistemas integrales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-46800" y="1268280"/>
            <a:ext cx="91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delo y cualidades de la evaluación interinstitu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 el sistema nacional de evaluación de la educació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3"/>
          <p:cNvSpPr/>
          <p:nvPr/>
        </p:nvSpPr>
        <p:spPr>
          <a:xfrm>
            <a:off x="2700360" y="3211560"/>
            <a:ext cx="0" cy="43164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4"/>
          <p:cNvSpPr/>
          <p:nvPr/>
        </p:nvSpPr>
        <p:spPr>
          <a:xfrm>
            <a:off x="2700360" y="457992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5"/>
          <p:cNvSpPr/>
          <p:nvPr/>
        </p:nvSpPr>
        <p:spPr>
          <a:xfrm>
            <a:off x="395280" y="2995560"/>
            <a:ext cx="504720" cy="2809800"/>
          </a:xfrm>
          <a:custGeom>
            <a:avLst/>
            <a:gdLst>
              <a:gd name="textAreaLeft" fmla="*/ 148320 w 504720"/>
              <a:gd name="textAreaRight" fmla="*/ 505080 w 504720"/>
              <a:gd name="textAreaTop" fmla="*/ 117000 h 2809800"/>
              <a:gd name="textAreaBottom" fmla="*/ 2692800 h 28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6"/>
          <p:cNvSpPr/>
          <p:nvPr/>
        </p:nvSpPr>
        <p:spPr>
          <a:xfrm>
            <a:off x="755640" y="5803920"/>
            <a:ext cx="216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7"/>
          <p:cNvSpPr/>
          <p:nvPr/>
        </p:nvSpPr>
        <p:spPr>
          <a:xfrm>
            <a:off x="755640" y="2995560"/>
            <a:ext cx="216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4932360" y="2203560"/>
            <a:ext cx="3672000" cy="4321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Cuali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toridad académica y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unción formativ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bje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cción inmed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tercambio de experi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omento de apertura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spectiva no viciada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cotidiane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tad respec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mpromisos 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1258920" y="2708280"/>
            <a:ext cx="2881440" cy="366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a1b9fd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. Auto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1042920" y="3859200"/>
            <a:ext cx="3313080" cy="64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B. Evaluación Inter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1187280" y="5372280"/>
            <a:ext cx="3095640" cy="641160"/>
          </a:xfrm>
          <a:prstGeom prst="rect">
            <a:avLst/>
          </a:prstGeom>
          <a:solidFill>
            <a:srgbClr val="3366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. Evaluación del sistema y sub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179280" y="2025720"/>
            <a:ext cx="864072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spcBef>
                <a:spcPts val="1001"/>
              </a:spcBef>
              <a:spcAft>
                <a:spcPts val="499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l Programa Nacional de Educación 2009 –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spcAft>
                <a:spcPts val="499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l Paradigma de una IES de buena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spcAft>
                <a:spcPts val="499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Los marcos de referencia definidos por AMEREIAF y el PRONAD en su m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spcAft>
                <a:spcPts val="499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Los Lineamientos de los </a:t>
            </a:r>
            <a:r>
              <a:rPr b="1" lang="es-MX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Programas Integrales de Fortalecimiento Institucional (PIFI), SES-S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spcAft>
                <a:spcPts val="499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Los lineamientos del Programa Integral de Fortalecimiento del Posgrado (PIFOP), SES-SEP, CONACY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spcAft>
                <a:spcPts val="499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Los lineamientos de PROM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spcAft>
                <a:spcPts val="499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l marco de referencia del Programa Nacional de Posgrados (PNP) CONACYT- S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spcAft>
                <a:spcPts val="499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La Declaración Mundial sobre la Educación Superior en el Siglo XXI: Visión y Acción (UNESCO, 19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spcAft>
                <a:spcPts val="499"/>
              </a:spcAft>
              <a:buClr>
                <a:srgbClr val="3333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Los estándares inter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0" y="105264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damentos del Modelo Evaluación SIIA-AMEREI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3"/>
          <p:cNvSpPr/>
          <p:nvPr/>
        </p:nvSpPr>
        <p:spPr>
          <a:xfrm>
            <a:off x="684360" y="3141720"/>
            <a:ext cx="7705440" cy="2421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Metodología para la evaluación del SI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Modelo AMEREI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900000" y="3079800"/>
            <a:ext cx="180036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OD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3851280" y="1125360"/>
            <a:ext cx="136836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1a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995640" y="1341360"/>
            <a:ext cx="1009800" cy="873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7"/>
          <p:cNvSpPr/>
          <p:nvPr/>
        </p:nvSpPr>
        <p:spPr>
          <a:xfrm>
            <a:off x="3203640" y="2492280"/>
            <a:ext cx="2592360" cy="1513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1a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8"/>
          <p:cNvSpPr/>
          <p:nvPr/>
        </p:nvSpPr>
        <p:spPr>
          <a:xfrm>
            <a:off x="3492360" y="2781360"/>
            <a:ext cx="1994040" cy="947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10"/>
          <p:cNvSpPr/>
          <p:nvPr/>
        </p:nvSpPr>
        <p:spPr>
          <a:xfrm>
            <a:off x="2987640" y="4076640"/>
            <a:ext cx="3087720" cy="252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1a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3492360" y="4508640"/>
            <a:ext cx="2187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12"/>
          <p:cNvSpPr/>
          <p:nvPr/>
        </p:nvSpPr>
        <p:spPr>
          <a:xfrm>
            <a:off x="2771640" y="1063800"/>
            <a:ext cx="289080" cy="5256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136800 h 5256000"/>
              <a:gd name="textAreaBottom" fmla="*/ 5119200 h 52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1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13"/>
          <p:cNvSpPr/>
          <p:nvPr/>
        </p:nvSpPr>
        <p:spPr>
          <a:xfrm rot="10800000">
            <a:off x="6013080" y="1063800"/>
            <a:ext cx="289080" cy="5256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136800 h 5256000"/>
              <a:gd name="textAreaBottom" fmla="*/ 5119200 h 52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1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14"/>
          <p:cNvGrpSpPr/>
          <p:nvPr/>
        </p:nvGrpSpPr>
        <p:grpSpPr>
          <a:xfrm>
            <a:off x="6372360" y="2359080"/>
            <a:ext cx="2376360" cy="2592360"/>
            <a:chOff x="6372360" y="2359080"/>
            <a:chExt cx="2376360" cy="2592360"/>
          </a:xfrm>
        </p:grpSpPr>
        <p:sp>
          <p:nvSpPr>
            <p:cNvPr id="809" name="AutoShape 15"/>
            <p:cNvSpPr/>
            <p:nvPr/>
          </p:nvSpPr>
          <p:spPr>
            <a:xfrm>
              <a:off x="6372360" y="2359080"/>
              <a:ext cx="2376360" cy="2592360"/>
            </a:xfrm>
            <a:prstGeom prst="foldedCorner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16"/>
            <p:cNvSpPr/>
            <p:nvPr/>
          </p:nvSpPr>
          <p:spPr>
            <a:xfrm>
              <a:off x="6381720" y="2444760"/>
              <a:ext cx="2343240" cy="1739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ffffff"/>
                  </a:solidFill>
                  <a:latin typeface="Arial"/>
                </a:rPr>
                <a:t>Valor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ffffff"/>
                  </a:solidFill>
                  <a:latin typeface="Arial"/>
                </a:rPr>
                <a:t>global d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ffffff"/>
                  </a:solidFill>
                  <a:latin typeface="Arial"/>
                </a:rPr>
                <a:t>SI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Text Box 17"/>
          <p:cNvSpPr/>
          <p:nvPr/>
        </p:nvSpPr>
        <p:spPr>
          <a:xfrm>
            <a:off x="1440" y="98100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todolo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aluación Diagnó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969840" y="2135160"/>
            <a:ext cx="3097440" cy="48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I. INTENCIO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5146560" y="2041560"/>
            <a:ext cx="30974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1. LEGISLACIÓN Y GES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2. PLANEACIÓN Y EVALU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969840" y="3449520"/>
            <a:ext cx="3097440" cy="53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II. 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2354400" y="4832280"/>
            <a:ext cx="193680" cy="31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"/>
          <p:cNvSpPr/>
          <p:nvPr/>
        </p:nvSpPr>
        <p:spPr>
          <a:xfrm flipV="1" rot="10745400">
            <a:off x="969840" y="4775760"/>
            <a:ext cx="3035520" cy="58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III. INFRA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969840" y="5929200"/>
            <a:ext cx="3097440" cy="48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IV.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5146560" y="3121200"/>
            <a:ext cx="309744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3.- MODELO CONCEPTUAL SI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4.- ADMINISTRACIÓN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5.- RECURSOS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6.- RECURSOS FINANCIERO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MATER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5084640" y="4826160"/>
            <a:ext cx="3097440" cy="54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7.- SERVICIOS, INSTA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Y EQUIP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0"/>
          <p:cNvSpPr/>
          <p:nvPr/>
        </p:nvSpPr>
        <p:spPr>
          <a:xfrm>
            <a:off x="5146560" y="5956200"/>
            <a:ext cx="3095640" cy="56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Book Antiqua"/>
              </a:rPr>
              <a:t>8.- TRASCENDENCIA E IMP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4210200" y="2136600"/>
            <a:ext cx="636480" cy="360360"/>
          </a:xfrm>
          <a:prstGeom prst="rightArrow">
            <a:avLst>
              <a:gd name="adj1" fmla="val 50000"/>
              <a:gd name="adj2" fmla="val 44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4210200" y="3444840"/>
            <a:ext cx="636480" cy="360360"/>
          </a:xfrm>
          <a:prstGeom prst="rightArrow">
            <a:avLst>
              <a:gd name="adj1" fmla="val 50000"/>
              <a:gd name="adj2" fmla="val 44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4148280" y="4826160"/>
            <a:ext cx="636480" cy="360360"/>
          </a:xfrm>
          <a:prstGeom prst="rightArrow">
            <a:avLst>
              <a:gd name="adj1" fmla="val 50000"/>
              <a:gd name="adj2" fmla="val 44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4210200" y="5956200"/>
            <a:ext cx="636480" cy="360360"/>
          </a:xfrm>
          <a:prstGeom prst="rightArrow">
            <a:avLst>
              <a:gd name="adj1" fmla="val 50000"/>
              <a:gd name="adj2" fmla="val 44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5"/>
          <p:cNvSpPr/>
          <p:nvPr/>
        </p:nvSpPr>
        <p:spPr>
          <a:xfrm>
            <a:off x="1440" y="9079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todolo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aluación Diagnó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468360" y="19461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</a:rPr>
              <a:t>Identificación de logros y deficiencias en el funcionamiento y operación del SIIA y de los procesos Académicos Administr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468360" y="36752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</a:rPr>
              <a:t>Análisis de las causas de estos logros y deficiencias,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"/>
          <p:cNvSpPr/>
          <p:nvPr/>
        </p:nvSpPr>
        <p:spPr>
          <a:xfrm>
            <a:off x="395280" y="4970520"/>
            <a:ext cx="85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</a:rPr>
              <a:t>Formulación de recomendaciones para el mejoramiento del SIIA y de los procesos académicos-administrativos institu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0" y="1268280"/>
            <a:ext cx="59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spectos que comprende la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0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1a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1a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0" name="AutoShape 2"/>
          <p:cNvCxnSpPr/>
          <p:nvPr/>
        </p:nvCxnSpPr>
        <p:spPr>
          <a:xfrm rot="5400000">
            <a:off x="6750360" y="4448880"/>
            <a:ext cx="1477080" cy="1224720"/>
          </a:xfrm>
          <a:prstGeom prst="bentConnector2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831" name="AutoShape 3"/>
          <p:cNvSpPr/>
          <p:nvPr/>
        </p:nvSpPr>
        <p:spPr>
          <a:xfrm>
            <a:off x="6516720" y="2162160"/>
            <a:ext cx="2448000" cy="216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900000" y="1779480"/>
            <a:ext cx="5400720" cy="43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Tabla-Guía de Autoevalu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Instructivo de la Tabla-Guí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Tablas de contenido de las carpetas de medios de ver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Glosario de térm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Información obligatoria para la eval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5"/>
          <p:cNvSpPr/>
          <p:nvPr/>
        </p:nvSpPr>
        <p:spPr>
          <a:xfrm>
            <a:off x="5867280" y="1413000"/>
            <a:ext cx="503280" cy="4321080"/>
          </a:xfrm>
          <a:custGeom>
            <a:avLst/>
            <a:gdLst>
              <a:gd name="textAreaLeft" fmla="*/ 0 w 503280"/>
              <a:gd name="textAreaRight" fmla="*/ 181800 w 50328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6431040" y="2546280"/>
            <a:ext cx="26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uto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1771560" y="5853240"/>
            <a:ext cx="5459760" cy="52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Talleres para la auto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8"/>
          <p:cNvSpPr/>
          <p:nvPr/>
        </p:nvSpPr>
        <p:spPr>
          <a:xfrm>
            <a:off x="2160" y="836640"/>
            <a:ext cx="37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utoevaluación: Apoy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2"/>
          <p:cNvSpPr/>
          <p:nvPr/>
        </p:nvSpPr>
        <p:spPr>
          <a:xfrm>
            <a:off x="903240" y="203832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Arial"/>
              </a:rPr>
              <a:t>Tabla-Guía de Auto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969840" y="2744640"/>
            <a:ext cx="72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Debe contener los indicadores, definidos en las 8 categorí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4"/>
          <p:cNvSpPr/>
          <p:nvPr/>
        </p:nvSpPr>
        <p:spPr>
          <a:xfrm>
            <a:off x="250920" y="4059360"/>
            <a:ext cx="849780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Cada </a:t>
            </a:r>
            <a:r>
              <a:rPr b="1" lang="es-ES" sz="3600" spc="-1" strike="noStrike">
                <a:solidFill>
                  <a:srgbClr val="333399"/>
                </a:solidFill>
                <a:latin typeface="Arial"/>
              </a:rPr>
              <a:t>Indicador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 presentará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Criterios a evalu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Preguntas orientad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Definición del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Análisis del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2160" y="981000"/>
            <a:ext cx="24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uto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2"/>
          <p:cNvSpPr/>
          <p:nvPr/>
        </p:nvSpPr>
        <p:spPr>
          <a:xfrm>
            <a:off x="324000" y="19461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l final de cada categoría o grupo de indicadores en la tabla, enunci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324000" y="320040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rincipales fortalezas, debilidades, amenaz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 las acciones que se desarrollan para su aseguramiento ó aten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324000" y="49705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rincipales áreas de oportunidad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y las acciones que se están realizando para atender esos aspectos de de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160" y="907920"/>
            <a:ext cx="24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uto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 Box 2"/>
          <p:cNvSpPr/>
          <p:nvPr/>
        </p:nvSpPr>
        <p:spPr>
          <a:xfrm>
            <a:off x="409680" y="283212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structura d</a:t>
            </a:r>
            <a:r>
              <a:rPr b="1" lang="es-MX" sz="3200" spc="-1" strike="noStrike">
                <a:solidFill>
                  <a:srgbClr val="333399"/>
                </a:solidFill>
                <a:latin typeface="Arial"/>
              </a:rPr>
              <a:t>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Arial"/>
              </a:rPr>
              <a:t>Informe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Arial"/>
              </a:rPr>
              <a:t>Auto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"/>
          <p:cNvSpPr/>
          <p:nvPr/>
        </p:nvSpPr>
        <p:spPr>
          <a:xfrm>
            <a:off x="3780000" y="1628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r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4"/>
          <p:cNvSpPr/>
          <p:nvPr/>
        </p:nvSpPr>
        <p:spPr>
          <a:xfrm>
            <a:off x="3781440" y="2297160"/>
            <a:ext cx="433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xto del Informe de auto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3781440" y="3432240"/>
            <a:ext cx="45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abla-Guía de Auto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"/>
          <p:cNvSpPr/>
          <p:nvPr/>
        </p:nvSpPr>
        <p:spPr>
          <a:xfrm>
            <a:off x="3780000" y="4479840"/>
            <a:ext cx="46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rpetas de evidencias (no se envían al AMEREIA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7"/>
          <p:cNvSpPr/>
          <p:nvPr/>
        </p:nvSpPr>
        <p:spPr>
          <a:xfrm>
            <a:off x="3564000" y="1631880"/>
            <a:ext cx="287280" cy="44611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1120"/>
              <a:gd name="textAreaBottom" fmla="*/ 4344840 h 446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8"/>
          <p:cNvSpPr/>
          <p:nvPr/>
        </p:nvSpPr>
        <p:spPr>
          <a:xfrm>
            <a:off x="2160" y="981000"/>
            <a:ext cx="24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uto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755640" y="1268280"/>
            <a:ext cx="7343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66"/>
                </a:solidFill>
                <a:latin typeface="Monotype Corsiva"/>
              </a:rPr>
              <a:t>Objetivo del SI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Verdana"/>
              </a:rPr>
              <a:t>El propósito fundamental del SIIA es organizar el flujo de información que de manera integral permita la administración eficiente y confiable de los recursos humanos, financieros y escolares, con el fin de que los datos que se obtienen lleguen con oportunidad  y calidad para la toma de decisiones; permitiendo responder  a los requerimientos de información de los organismos gubernamentales y de la sociedad en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407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COMISI</a:t>
            </a:r>
            <a:r>
              <a:rPr b="0" lang="es-MX" sz="4000" spc="-1" strike="noStrike">
                <a:solidFill>
                  <a:srgbClr val="333399"/>
                </a:solidFill>
                <a:latin typeface="Arial"/>
              </a:rPr>
              <a:t>ÓN</a:t>
            </a: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 AMEREIA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303984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Se definió e integró el grupo de trabajo conformado con la participación del  personal de once IES afiliadas a la AMEREIAF, todas ellas con la autorización correspondientes de sus respectivos rectores, siendo 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2"/>
          <p:cNvSpPr/>
          <p:nvPr/>
        </p:nvSpPr>
        <p:spPr>
          <a:xfrm>
            <a:off x="2520" y="981000"/>
            <a:ext cx="18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MEREIAF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395280" y="238356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Instituto Tecnológico de Son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Universidad Veracruz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Universidad Autónoma de Ciudad Juár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Universidad de Guadalaj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Universidad Autónoma del Estado de Hidal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Universidad Autónoma de Camp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Universidad Autónoma de Sinalo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Universidad Autónoma de Guanaju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Benemérita Universidad Autónoma de Pueb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Universidad Autónoma de Coahui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2"/>
          <p:cNvSpPr/>
          <p:nvPr/>
        </p:nvSpPr>
        <p:spPr>
          <a:xfrm>
            <a:off x="-2160" y="907920"/>
            <a:ext cx="64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Metodología para la evaluación del 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en las Instituciones de Educación 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179280" y="212904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Adicional a las reuniones generales de trabajo realizadas con anterioridad (una en la Ciudad de México y otra en el Puerto de Veracruz), se efectuaron dos 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Fecha:  13 de Febrero del 2009 </a:t>
            </a: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Lugar:  Centro Cultural Universit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Benemérita Universidad Autónoma de Puebla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Fecha: 19 de Marzo del 2009 </a:t>
            </a: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Lugar: USBI, Boca del Río Vera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Universidad Veracruz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2"/>
          <p:cNvSpPr/>
          <p:nvPr/>
        </p:nvSpPr>
        <p:spPr>
          <a:xfrm>
            <a:off x="-2160" y="981000"/>
            <a:ext cx="64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Metodología para la evaluación del 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en las Instituciones de Educación 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395280" y="299340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Se terminó la elaboración del Manual para la Evaluación del SIIA que contiene los siguientes apar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Proceso de Evalu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Marco de Re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Definiciones bá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Estructura orgánica de la AMEREI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2"/>
          <p:cNvSpPr/>
          <p:nvPr/>
        </p:nvSpPr>
        <p:spPr>
          <a:xfrm>
            <a:off x="-2160" y="836640"/>
            <a:ext cx="64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Metodología para la evaluación del 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en las Instituciones de Educación 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250920" y="23796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2. Evaluación al Sistema Integral de Información Administr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El proceso de evaluación del 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Información básica para la evaluación del 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Contextualización de la autoevaluación en las 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3. Autoevaluación del Sistema Integral de Información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Instructivo de la tabla-guía de autoevaluación del 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Tabla-guía de autoevaluación del 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Información Oblig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2"/>
          <p:cNvSpPr/>
          <p:nvPr/>
        </p:nvSpPr>
        <p:spPr>
          <a:xfrm>
            <a:off x="-2160" y="907920"/>
            <a:ext cx="64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Metodología para la evaluación del 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en las Instituciones de Educación 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250920" y="271188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4. Ane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Glosario de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Código de ética y reglamento del comité de autoevaluación de la AMEREIA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2"/>
          <p:cNvSpPr/>
          <p:nvPr/>
        </p:nvSpPr>
        <p:spPr>
          <a:xfrm>
            <a:off x="-2160" y="836640"/>
            <a:ext cx="64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Metodología para la evaluación del 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en las Instituciones de Educación 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3"/>
          <p:cNvSpPr/>
          <p:nvPr/>
        </p:nvSpPr>
        <p:spPr>
          <a:xfrm>
            <a:off x="395280" y="212976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Código de Ética de los Evalu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Propuesta del seminario-taller para la formación de evaluadores del SIIA – AMEREI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Formato de Registro de 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Instrumento para evaluar la calidad de los servicios de evaluación que aplica la AMERIAF en las 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2"/>
          <p:cNvSpPr/>
          <p:nvPr/>
        </p:nvSpPr>
        <p:spPr>
          <a:xfrm>
            <a:off x="-2160" y="981000"/>
            <a:ext cx="64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Metodología para la evaluación del S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en las Instituciones de Educación 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395280" y="248976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Se iniciaron los contactos y pláticas para dar a conocer la importancia y finalidad de estos trabajos que se están efectuando con  algunos funcionarios de las siguientes instancias de educación: SES de la SEP, ANUIES, CIEES, COPAES, AMOCVIES entre o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2"/>
          <p:cNvSpPr/>
          <p:nvPr/>
        </p:nvSpPr>
        <p:spPr>
          <a:xfrm>
            <a:off x="1800" y="9810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ciones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433440" y="2383200"/>
            <a:ext cx="817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Establecer los mecanismos para la difusión y aplicación del Manual para la Evaluación del SI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Aplicación en las IES definidas de la Metodología para la evaluación del SIIA elaborado por la AMEREIA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3"/>
          <p:cNvSpPr/>
          <p:nvPr/>
        </p:nvSpPr>
        <p:spPr>
          <a:xfrm>
            <a:off x="2182320" y="3548160"/>
            <a:ext cx="494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acias por su atenció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619280" y="1128600"/>
            <a:ext cx="2933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ódulos del SII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2117880"/>
            <a:ext cx="8110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489480"/>
            <a:ext cx="2057400" cy="12189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089680"/>
            <a:ext cx="2057400" cy="12189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63840" y="3716280"/>
            <a:ext cx="2238120" cy="825480"/>
          </a:xfrm>
          <a:prstGeom prst="rect">
            <a:avLst/>
          </a:prstGeom>
          <a:solidFill>
            <a:srgbClr val="d6d6d6"/>
          </a:solidFill>
          <a:ln w="0">
            <a:noFill/>
          </a:ln>
          <a:effectLst>
            <a:outerShdw dist="153753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Monotype Corsiva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Monotype Corsiva"/>
              </a:rPr>
              <a:t>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1600" y="5535720"/>
            <a:ext cx="2082600" cy="337320"/>
          </a:xfrm>
          <a:prstGeom prst="rect">
            <a:avLst/>
          </a:prstGeom>
          <a:solidFill>
            <a:srgbClr val="d6d6d6"/>
          </a:solidFill>
          <a:ln w="0">
            <a:noFill/>
          </a:ln>
          <a:effectLst>
            <a:outerShdw dist="153753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1889280"/>
            <a:ext cx="2057400" cy="12189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446160" y="2147760"/>
            <a:ext cx="1501920" cy="459720"/>
          </a:xfrm>
          <a:prstGeom prst="rect">
            <a:avLst/>
          </a:prstGeom>
          <a:solidFill>
            <a:srgbClr val="d6d6d6"/>
          </a:solidFill>
          <a:ln w="0">
            <a:noFill/>
          </a:ln>
          <a:effectLst>
            <a:outerShdw dist="153753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Monotype Corsiva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3489480"/>
            <a:ext cx="2057400" cy="1218960"/>
          </a:xfrm>
          <a:prstGeom prst="rect">
            <a:avLst/>
          </a:prstGeom>
          <a:solidFill>
            <a:srgbClr val="000066"/>
          </a:solidFill>
          <a:ln w="507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72200" y="5089680"/>
            <a:ext cx="2057400" cy="12189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552360" y="3900600"/>
            <a:ext cx="1354320" cy="459720"/>
          </a:xfrm>
          <a:prstGeom prst="rect">
            <a:avLst/>
          </a:prstGeom>
          <a:solidFill>
            <a:srgbClr val="d6d6d6"/>
          </a:solidFill>
          <a:ln w="0">
            <a:noFill/>
          </a:ln>
          <a:effectLst>
            <a:outerShdw dist="17819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Monotype Corsiva"/>
              </a:rPr>
              <a:t>E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20080" y="5348160"/>
            <a:ext cx="1941120" cy="825480"/>
          </a:xfrm>
          <a:prstGeom prst="rect">
            <a:avLst/>
          </a:prstGeom>
          <a:solidFill>
            <a:srgbClr val="d6d6d6"/>
          </a:solidFill>
          <a:ln w="0">
            <a:noFill/>
          </a:ln>
          <a:effectLst>
            <a:outerShdw dist="153753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Monotype Corsiva"/>
              </a:rPr>
              <a:t>Compra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Monotype Corsiva"/>
              </a:rPr>
              <a:t>Inv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2346480"/>
            <a:ext cx="2057400" cy="2438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3032280"/>
            <a:ext cx="1665360" cy="825480"/>
          </a:xfrm>
          <a:prstGeom prst="rect">
            <a:avLst/>
          </a:prstGeom>
          <a:solidFill>
            <a:srgbClr val="d6d6d6"/>
          </a:solidFill>
          <a:ln w="50760">
            <a:solidFill>
              <a:srgbClr val="d6d6d6"/>
            </a:solidFill>
            <a:miter/>
          </a:ln>
          <a:effectLst>
            <a:outerShdw dist="153753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Monotype Corsiva"/>
              </a:rPr>
              <a:t>Co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33680" y="5089680"/>
            <a:ext cx="2057400" cy="12189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21240" y="5257800"/>
            <a:ext cx="1670040" cy="1191240"/>
          </a:xfrm>
          <a:prstGeom prst="rect">
            <a:avLst/>
          </a:prstGeom>
          <a:solidFill>
            <a:srgbClr val="d6d6d6"/>
          </a:solidFill>
          <a:ln w="0">
            <a:noFill/>
          </a:ln>
          <a:effectLst>
            <a:outerShdw dist="153753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Monotype Corsiva"/>
              </a:rPr>
              <a:t>Bi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Monotype Corsiva"/>
              </a:rPr>
              <a:t>Patrimon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523880" y="4708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57400" y="4708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402264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5562360" y="40226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562360" y="1889280"/>
            <a:ext cx="6094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5562360" y="447948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419720" y="47844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95480" y="447984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2041560"/>
            <a:ext cx="2057400" cy="12193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77120" y="2438280"/>
            <a:ext cx="1099800" cy="398880"/>
          </a:xfrm>
          <a:prstGeom prst="rect">
            <a:avLst/>
          </a:prstGeom>
          <a:solidFill>
            <a:srgbClr val="e0e0e0"/>
          </a:solidFill>
          <a:ln w="0">
            <a:noFill/>
          </a:ln>
          <a:effectLst>
            <a:outerShdw dist="153753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c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742840" y="204156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2955960"/>
            <a:ext cx="76212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 rot="21360600">
            <a:off x="826560" y="1825200"/>
            <a:ext cx="719280" cy="455760"/>
          </a:xfrm>
          <a:prstGeom prst="rightArrow">
            <a:avLst>
              <a:gd name="adj1" fmla="val 39880"/>
              <a:gd name="adj2" fmla="val 33873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815920" y="1180800"/>
            <a:ext cx="1354320" cy="1361160"/>
            <a:chOff x="2815920" y="1180800"/>
            <a:chExt cx="1354320" cy="1361160"/>
          </a:xfrm>
        </p:grpSpPr>
        <p:sp>
          <p:nvSpPr>
            <p:cNvPr id="474" name=""/>
            <p:cNvSpPr/>
            <p:nvPr/>
          </p:nvSpPr>
          <p:spPr>
            <a:xfrm rot="19003800">
              <a:off x="2904480" y="1479240"/>
              <a:ext cx="1156680" cy="717480"/>
            </a:xfrm>
            <a:custGeom>
              <a:avLst/>
              <a:gdLst/>
              <a:ahLst/>
              <a:rect l="l" t="t" r="r" b="b"/>
              <a:pathLst>
                <a:path w="784" h="642">
                  <a:moveTo>
                    <a:pt x="706" y="312"/>
                  </a:moveTo>
                  <a:lnTo>
                    <a:pt x="671" y="263"/>
                  </a:lnTo>
                  <a:lnTo>
                    <a:pt x="633" y="216"/>
                  </a:lnTo>
                  <a:lnTo>
                    <a:pt x="590" y="179"/>
                  </a:lnTo>
                  <a:lnTo>
                    <a:pt x="551" y="147"/>
                  </a:lnTo>
                  <a:lnTo>
                    <a:pt x="504" y="111"/>
                  </a:lnTo>
                  <a:lnTo>
                    <a:pt x="463" y="84"/>
                  </a:lnTo>
                  <a:lnTo>
                    <a:pt x="419" y="63"/>
                  </a:lnTo>
                  <a:lnTo>
                    <a:pt x="369" y="44"/>
                  </a:lnTo>
                  <a:lnTo>
                    <a:pt x="325" y="25"/>
                  </a:lnTo>
                  <a:lnTo>
                    <a:pt x="281" y="9"/>
                  </a:lnTo>
                  <a:lnTo>
                    <a:pt x="232" y="3"/>
                  </a:lnTo>
                  <a:lnTo>
                    <a:pt x="184" y="1"/>
                  </a:lnTo>
                  <a:lnTo>
                    <a:pt x="137" y="0"/>
                  </a:lnTo>
                  <a:lnTo>
                    <a:pt x="93" y="7"/>
                  </a:lnTo>
                  <a:lnTo>
                    <a:pt x="47" y="11"/>
                  </a:lnTo>
                  <a:lnTo>
                    <a:pt x="0" y="28"/>
                  </a:lnTo>
                  <a:lnTo>
                    <a:pt x="2" y="60"/>
                  </a:lnTo>
                  <a:lnTo>
                    <a:pt x="40" y="58"/>
                  </a:lnTo>
                  <a:lnTo>
                    <a:pt x="82" y="62"/>
                  </a:lnTo>
                  <a:lnTo>
                    <a:pt x="122" y="66"/>
                  </a:lnTo>
                  <a:lnTo>
                    <a:pt x="161" y="81"/>
                  </a:lnTo>
                  <a:lnTo>
                    <a:pt x="199" y="93"/>
                  </a:lnTo>
                  <a:lnTo>
                    <a:pt x="238" y="108"/>
                  </a:lnTo>
                  <a:lnTo>
                    <a:pt x="276" y="129"/>
                  </a:lnTo>
                  <a:lnTo>
                    <a:pt x="312" y="153"/>
                  </a:lnTo>
                  <a:lnTo>
                    <a:pt x="347" y="180"/>
                  </a:lnTo>
                  <a:lnTo>
                    <a:pt x="385" y="215"/>
                  </a:lnTo>
                  <a:lnTo>
                    <a:pt x="416" y="251"/>
                  </a:lnTo>
                  <a:lnTo>
                    <a:pt x="451" y="289"/>
                  </a:lnTo>
                  <a:lnTo>
                    <a:pt x="483" y="328"/>
                  </a:lnTo>
                  <a:lnTo>
                    <a:pt x="512" y="377"/>
                  </a:lnTo>
                  <a:lnTo>
                    <a:pt x="544" y="424"/>
                  </a:lnTo>
                  <a:lnTo>
                    <a:pt x="573" y="478"/>
                  </a:lnTo>
                  <a:lnTo>
                    <a:pt x="486" y="581"/>
                  </a:lnTo>
                  <a:lnTo>
                    <a:pt x="769" y="641"/>
                  </a:lnTo>
                  <a:lnTo>
                    <a:pt x="783" y="223"/>
                  </a:lnTo>
                  <a:lnTo>
                    <a:pt x="706" y="312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9003800">
              <a:off x="3948480" y="1309680"/>
              <a:ext cx="57240" cy="502920"/>
            </a:xfrm>
            <a:custGeom>
              <a:avLst/>
              <a:gdLst/>
              <a:ahLst/>
              <a:rect l="l" t="t" r="r" b="b"/>
              <a:pathLst>
                <a:path w="39" h="450">
                  <a:moveTo>
                    <a:pt x="0" y="449"/>
                  </a:moveTo>
                  <a:lnTo>
                    <a:pt x="22" y="420"/>
                  </a:lnTo>
                  <a:lnTo>
                    <a:pt x="38" y="0"/>
                  </a:lnTo>
                  <a:lnTo>
                    <a:pt x="9" y="34"/>
                  </a:lnTo>
                  <a:lnTo>
                    <a:pt x="0" y="449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9003800">
              <a:off x="2903040" y="1534680"/>
              <a:ext cx="1152360" cy="708480"/>
            </a:xfrm>
            <a:custGeom>
              <a:avLst/>
              <a:gdLst/>
              <a:ahLst/>
              <a:rect l="l" t="t" r="r" b="b"/>
              <a:pathLst>
                <a:path w="781" h="634">
                  <a:moveTo>
                    <a:pt x="703" y="306"/>
                  </a:moveTo>
                  <a:lnTo>
                    <a:pt x="666" y="259"/>
                  </a:lnTo>
                  <a:lnTo>
                    <a:pt x="629" y="212"/>
                  </a:lnTo>
                  <a:lnTo>
                    <a:pt x="591" y="177"/>
                  </a:lnTo>
                  <a:lnTo>
                    <a:pt x="545" y="140"/>
                  </a:lnTo>
                  <a:lnTo>
                    <a:pt x="502" y="109"/>
                  </a:lnTo>
                  <a:lnTo>
                    <a:pt x="459" y="81"/>
                  </a:lnTo>
                  <a:lnTo>
                    <a:pt x="415" y="59"/>
                  </a:lnTo>
                  <a:lnTo>
                    <a:pt x="369" y="40"/>
                  </a:lnTo>
                  <a:lnTo>
                    <a:pt x="323" y="21"/>
                  </a:lnTo>
                  <a:lnTo>
                    <a:pt x="276" y="8"/>
                  </a:lnTo>
                  <a:lnTo>
                    <a:pt x="227" y="2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9" y="4"/>
                  </a:lnTo>
                  <a:lnTo>
                    <a:pt x="46" y="13"/>
                  </a:lnTo>
                  <a:lnTo>
                    <a:pt x="0" y="25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77" y="59"/>
                  </a:lnTo>
                  <a:lnTo>
                    <a:pt x="119" y="66"/>
                  </a:lnTo>
                  <a:lnTo>
                    <a:pt x="160" y="75"/>
                  </a:lnTo>
                  <a:lnTo>
                    <a:pt x="196" y="94"/>
                  </a:lnTo>
                  <a:lnTo>
                    <a:pt x="237" y="108"/>
                  </a:lnTo>
                  <a:lnTo>
                    <a:pt x="276" y="126"/>
                  </a:lnTo>
                  <a:lnTo>
                    <a:pt x="311" y="150"/>
                  </a:lnTo>
                  <a:lnTo>
                    <a:pt x="348" y="179"/>
                  </a:lnTo>
                  <a:lnTo>
                    <a:pt x="382" y="210"/>
                  </a:lnTo>
                  <a:lnTo>
                    <a:pt x="415" y="247"/>
                  </a:lnTo>
                  <a:lnTo>
                    <a:pt x="448" y="284"/>
                  </a:lnTo>
                  <a:lnTo>
                    <a:pt x="481" y="326"/>
                  </a:lnTo>
                  <a:lnTo>
                    <a:pt x="509" y="371"/>
                  </a:lnTo>
                  <a:lnTo>
                    <a:pt x="541" y="419"/>
                  </a:lnTo>
                  <a:lnTo>
                    <a:pt x="566" y="471"/>
                  </a:lnTo>
                  <a:lnTo>
                    <a:pt x="483" y="574"/>
                  </a:lnTo>
                  <a:lnTo>
                    <a:pt x="765" y="633"/>
                  </a:lnTo>
                  <a:lnTo>
                    <a:pt x="780" y="217"/>
                  </a:lnTo>
                  <a:lnTo>
                    <a:pt x="703" y="30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881520" y="1897200"/>
            <a:ext cx="1624320" cy="1654920"/>
            <a:chOff x="3881520" y="1897200"/>
            <a:chExt cx="1624320" cy="1654920"/>
          </a:xfrm>
        </p:grpSpPr>
        <p:grpSp>
          <p:nvGrpSpPr>
            <p:cNvPr id="478" name=""/>
            <p:cNvGrpSpPr/>
            <p:nvPr/>
          </p:nvGrpSpPr>
          <p:grpSpPr>
            <a:xfrm>
              <a:off x="3881520" y="1897200"/>
              <a:ext cx="1624320" cy="1654920"/>
              <a:chOff x="3881520" y="1897200"/>
              <a:chExt cx="1624320" cy="1654920"/>
            </a:xfrm>
          </p:grpSpPr>
          <p:sp>
            <p:nvSpPr>
              <p:cNvPr id="479" name=""/>
              <p:cNvSpPr/>
              <p:nvPr/>
            </p:nvSpPr>
            <p:spPr>
              <a:xfrm>
                <a:off x="3902760" y="2176560"/>
                <a:ext cx="1591200" cy="12463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16440" y="3168720"/>
                <a:ext cx="1589400" cy="38340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81520" y="1897200"/>
                <a:ext cx="1589040" cy="3812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4040280" y="2488320"/>
              <a:ext cx="143676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30240" bIns="30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Wareho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S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132000" y="4562640"/>
            <a:ext cx="3889080" cy="1568520"/>
            <a:chOff x="3132000" y="4562640"/>
            <a:chExt cx="3889080" cy="1568520"/>
          </a:xfrm>
        </p:grpSpPr>
        <p:sp>
          <p:nvSpPr>
            <p:cNvPr id="484" name=""/>
            <p:cNvSpPr/>
            <p:nvPr/>
          </p:nvSpPr>
          <p:spPr>
            <a:xfrm>
              <a:off x="3132000" y="4562640"/>
              <a:ext cx="3889080" cy="1022760"/>
            </a:xfrm>
            <a:prstGeom prst="foldedCorner">
              <a:avLst>
                <a:gd name="adj" fmla="val 12500"/>
              </a:avLst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81760" y="4637880"/>
              <a:ext cx="3402720" cy="1493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Verdana"/>
                </a:rPr>
                <a:t>Sistema (SIIA y SIAU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Verdana"/>
                </a:rPr>
                <a:t>Soporta Toma de decisiones en Lí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Verdana"/>
                </a:rPr>
                <a:t>Transpar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Verdana"/>
                </a:rPr>
                <a:t>Indicadores de Desemp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 rot="5380800">
            <a:off x="4179960" y="3806640"/>
            <a:ext cx="610920" cy="395280"/>
          </a:xfrm>
          <a:prstGeom prst="rightArrow">
            <a:avLst>
              <a:gd name="adj1" fmla="val 50000"/>
              <a:gd name="adj2" fmla="val 38638"/>
            </a:avLst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61680" y="1322280"/>
            <a:ext cx="169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FORM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699640" y="4852800"/>
            <a:ext cx="598320" cy="389160"/>
          </a:xfrm>
          <a:prstGeom prst="line">
            <a:avLst/>
          </a:prstGeom>
          <a:ln cap="rnd"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01360" y="5354640"/>
            <a:ext cx="20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Modelación de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6516720" y="3481560"/>
            <a:ext cx="1692000" cy="1152360"/>
            <a:chOff x="6516720" y="3481560"/>
            <a:chExt cx="1692000" cy="1152360"/>
          </a:xfrm>
        </p:grpSpPr>
        <p:pic>
          <p:nvPicPr>
            <p:cNvPr id="491" name="" descr=""/>
            <p:cNvPicPr/>
            <p:nvPr/>
          </p:nvPicPr>
          <p:blipFill>
            <a:blip r:embed="rId1"/>
            <a:stretch/>
          </p:blipFill>
          <p:spPr>
            <a:xfrm>
              <a:off x="6646680" y="3481560"/>
              <a:ext cx="1562040" cy="115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2" name=""/>
            <p:cNvGrpSpPr/>
            <p:nvPr/>
          </p:nvGrpSpPr>
          <p:grpSpPr>
            <a:xfrm>
              <a:off x="6516720" y="3552480"/>
              <a:ext cx="390240" cy="397800"/>
              <a:chOff x="6516720" y="3552480"/>
              <a:chExt cx="390240" cy="397800"/>
            </a:xfrm>
          </p:grpSpPr>
          <p:sp>
            <p:nvSpPr>
              <p:cNvPr id="493" name=""/>
              <p:cNvSpPr/>
              <p:nvPr/>
            </p:nvSpPr>
            <p:spPr>
              <a:xfrm>
                <a:off x="6589080" y="3774960"/>
                <a:ext cx="8208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89080" y="3699360"/>
                <a:ext cx="8208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89080" y="3623760"/>
                <a:ext cx="8208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89080" y="3552480"/>
                <a:ext cx="8208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668280" y="3774960"/>
                <a:ext cx="8352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668280" y="3699360"/>
                <a:ext cx="8352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68280" y="3623760"/>
                <a:ext cx="8352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68280" y="3552480"/>
                <a:ext cx="8352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44960" y="3774960"/>
                <a:ext cx="8136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44960" y="3699360"/>
                <a:ext cx="8136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744960" y="3623760"/>
                <a:ext cx="8136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744960" y="3552480"/>
                <a:ext cx="8136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24880" y="3774960"/>
                <a:ext cx="8208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24880" y="3699360"/>
                <a:ext cx="8208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24880" y="3623760"/>
                <a:ext cx="8208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24880" y="3552480"/>
                <a:ext cx="8208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62800" y="3805200"/>
                <a:ext cx="8280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62800" y="3729600"/>
                <a:ext cx="8280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62800" y="3654000"/>
                <a:ext cx="8280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2800" y="3581640"/>
                <a:ext cx="82800" cy="856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43440" y="3805200"/>
                <a:ext cx="8280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43440" y="3729600"/>
                <a:ext cx="8280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643440" y="3654000"/>
                <a:ext cx="8280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43440" y="3581640"/>
                <a:ext cx="82800" cy="856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19400" y="3805200"/>
                <a:ext cx="8280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19400" y="3729600"/>
                <a:ext cx="8280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19400" y="3654000"/>
                <a:ext cx="8280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719400" y="3581640"/>
                <a:ext cx="82800" cy="856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99320" y="3805200"/>
                <a:ext cx="8352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799320" y="3729600"/>
                <a:ext cx="8352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99320" y="3654000"/>
                <a:ext cx="8352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99320" y="3581640"/>
                <a:ext cx="83520" cy="856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541920" y="3835800"/>
                <a:ext cx="8100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41920" y="3760920"/>
                <a:ext cx="8100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541920" y="3684960"/>
                <a:ext cx="8100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41920" y="3611880"/>
                <a:ext cx="8100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22560" y="3835800"/>
                <a:ext cx="8136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622560" y="3760920"/>
                <a:ext cx="8136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22560" y="3684960"/>
                <a:ext cx="8136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622560" y="3611880"/>
                <a:ext cx="8136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98520" y="3835800"/>
                <a:ext cx="8136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98520" y="3760920"/>
                <a:ext cx="8136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698520" y="3684960"/>
                <a:ext cx="8136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98520" y="3611880"/>
                <a:ext cx="8136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778440" y="3835800"/>
                <a:ext cx="8208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78440" y="3760920"/>
                <a:ext cx="8208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78440" y="3684960"/>
                <a:ext cx="8208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778440" y="3611880"/>
                <a:ext cx="8208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516720" y="3866760"/>
                <a:ext cx="8280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516720" y="3790080"/>
                <a:ext cx="82800" cy="846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16720" y="3715560"/>
                <a:ext cx="8280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16720" y="3645000"/>
                <a:ext cx="8280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7000" y="3866760"/>
                <a:ext cx="8136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597000" y="3790080"/>
                <a:ext cx="81360" cy="846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97000" y="3715560"/>
                <a:ext cx="8136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597000" y="3645000"/>
                <a:ext cx="8136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672960" y="3866760"/>
                <a:ext cx="8208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672960" y="3790080"/>
                <a:ext cx="82080" cy="846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672960" y="3715560"/>
                <a:ext cx="8208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72960" y="3645000"/>
                <a:ext cx="8208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753600" y="3866760"/>
                <a:ext cx="82080" cy="835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53600" y="3790080"/>
                <a:ext cx="82080" cy="846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753600" y="3715560"/>
                <a:ext cx="8208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753600" y="3645000"/>
                <a:ext cx="82080" cy="82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5567040" y="5189400"/>
            <a:ext cx="911880" cy="635400"/>
          </a:xfrm>
          <a:prstGeom prst="line">
            <a:avLst/>
          </a:prstGeom>
          <a:ln cap="rnd"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587920" y="4192920"/>
            <a:ext cx="546120" cy="502560"/>
          </a:xfrm>
          <a:prstGeom prst="line">
            <a:avLst/>
          </a:prstGeom>
          <a:ln cap="rnd"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877080" y="5210280"/>
            <a:ext cx="1908000" cy="955440"/>
            <a:chOff x="6877080" y="5210280"/>
            <a:chExt cx="1908000" cy="955440"/>
          </a:xfrm>
        </p:grpSpPr>
        <p:pic>
          <p:nvPicPr>
            <p:cNvPr id="560" name="" descr=""/>
            <p:cNvPicPr/>
            <p:nvPr/>
          </p:nvPicPr>
          <p:blipFill>
            <a:blip r:embed="rId2"/>
            <a:stretch/>
          </p:blipFill>
          <p:spPr>
            <a:xfrm>
              <a:off x="6877080" y="5210280"/>
              <a:ext cx="1208520" cy="955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1" name=""/>
            <p:cNvGraphicFramePr/>
            <p:nvPr/>
          </p:nvGraphicFramePr>
          <p:xfrm>
            <a:off x="8148960" y="5662800"/>
            <a:ext cx="636120" cy="4492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48960" y="5662800"/>
                      <a:ext cx="636120" cy="449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63" name=""/>
          <p:cNvGrpSpPr/>
          <p:nvPr/>
        </p:nvGrpSpPr>
        <p:grpSpPr>
          <a:xfrm>
            <a:off x="1692360" y="2546280"/>
            <a:ext cx="1438920" cy="1033560"/>
            <a:chOff x="1692360" y="2546280"/>
            <a:chExt cx="1438920" cy="1033560"/>
          </a:xfrm>
        </p:grpSpPr>
        <p:grpSp>
          <p:nvGrpSpPr>
            <p:cNvPr id="564" name=""/>
            <p:cNvGrpSpPr/>
            <p:nvPr/>
          </p:nvGrpSpPr>
          <p:grpSpPr>
            <a:xfrm>
              <a:off x="1692360" y="2546280"/>
              <a:ext cx="1438920" cy="1033560"/>
              <a:chOff x="1692360" y="2546280"/>
              <a:chExt cx="1438920" cy="1033560"/>
            </a:xfrm>
          </p:grpSpPr>
          <p:sp>
            <p:nvSpPr>
              <p:cNvPr id="565" name=""/>
              <p:cNvSpPr/>
              <p:nvPr/>
            </p:nvSpPr>
            <p:spPr>
              <a:xfrm>
                <a:off x="1711080" y="2720520"/>
                <a:ext cx="1409400" cy="7783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723320" y="3340440"/>
                <a:ext cx="1407960" cy="23940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692360" y="2546280"/>
                <a:ext cx="1407600" cy="23796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2050560" y="2916360"/>
              <a:ext cx="842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30240" bIns="30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SI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 rot="19459200">
            <a:off x="633240" y="3725640"/>
            <a:ext cx="1716120" cy="1307880"/>
          </a:xfrm>
          <a:custGeom>
            <a:avLst/>
            <a:gdLst>
              <a:gd name="textAreaLeft" fmla="*/ 229680 w 1716120"/>
              <a:gd name="textAreaRight" fmla="*/ 1486440 w 1716120"/>
              <a:gd name="textAreaTop" fmla="*/ 228600 h 1307880"/>
              <a:gd name="textAreaBottom" fmla="*/ 948240 h 130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619280" y="1177920"/>
            <a:ext cx="1367640" cy="1104840"/>
            <a:chOff x="1619280" y="1177920"/>
            <a:chExt cx="1367640" cy="1104840"/>
          </a:xfrm>
        </p:grpSpPr>
        <p:grpSp>
          <p:nvGrpSpPr>
            <p:cNvPr id="571" name=""/>
            <p:cNvGrpSpPr/>
            <p:nvPr/>
          </p:nvGrpSpPr>
          <p:grpSpPr>
            <a:xfrm>
              <a:off x="1619280" y="1177920"/>
              <a:ext cx="1367640" cy="1104840"/>
              <a:chOff x="1619280" y="1177920"/>
              <a:chExt cx="1367640" cy="1104840"/>
            </a:xfrm>
          </p:grpSpPr>
          <p:sp>
            <p:nvSpPr>
              <p:cNvPr id="572" name=""/>
              <p:cNvSpPr/>
              <p:nvPr/>
            </p:nvSpPr>
            <p:spPr>
              <a:xfrm>
                <a:off x="1637280" y="1364400"/>
                <a:ext cx="1339560" cy="8319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648800" y="2026800"/>
                <a:ext cx="1338120" cy="25596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19280" y="1177920"/>
                <a:ext cx="1337760" cy="25452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1959840" y="1572120"/>
              <a:ext cx="8010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30240" bIns="30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SI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758320" y="2401920"/>
            <a:ext cx="973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720960" y="3390840"/>
            <a:ext cx="1557360" cy="1150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786120" y="3710160"/>
            <a:ext cx="452520" cy="70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59200" y="3710160"/>
            <a:ext cx="454320" cy="70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20960" y="4732200"/>
            <a:ext cx="1881360" cy="638280"/>
          </a:xfrm>
          <a:custGeom>
            <a:avLst/>
            <a:gdLst/>
            <a:ahLst/>
            <a:rect l="l" t="t" r="r" b="b"/>
            <a:pathLst>
              <a:path w="1507" h="861">
                <a:moveTo>
                  <a:pt x="301" y="213"/>
                </a:moveTo>
                <a:cubicBezTo>
                  <a:pt x="242" y="216"/>
                  <a:pt x="182" y="213"/>
                  <a:pt x="123" y="221"/>
                </a:cubicBezTo>
                <a:cubicBezTo>
                  <a:pt x="92" y="225"/>
                  <a:pt x="61" y="292"/>
                  <a:pt x="61" y="292"/>
                </a:cubicBezTo>
                <a:cubicBezTo>
                  <a:pt x="47" y="353"/>
                  <a:pt x="0" y="460"/>
                  <a:pt x="79" y="487"/>
                </a:cubicBezTo>
                <a:cubicBezTo>
                  <a:pt x="73" y="496"/>
                  <a:pt x="65" y="504"/>
                  <a:pt x="61" y="514"/>
                </a:cubicBezTo>
                <a:cubicBezTo>
                  <a:pt x="54" y="531"/>
                  <a:pt x="44" y="567"/>
                  <a:pt x="44" y="567"/>
                </a:cubicBezTo>
                <a:cubicBezTo>
                  <a:pt x="70" y="678"/>
                  <a:pt x="96" y="729"/>
                  <a:pt x="212" y="753"/>
                </a:cubicBezTo>
                <a:cubicBezTo>
                  <a:pt x="311" y="819"/>
                  <a:pt x="366" y="776"/>
                  <a:pt x="522" y="771"/>
                </a:cubicBezTo>
                <a:cubicBezTo>
                  <a:pt x="531" y="768"/>
                  <a:pt x="542" y="769"/>
                  <a:pt x="549" y="762"/>
                </a:cubicBezTo>
                <a:cubicBezTo>
                  <a:pt x="578" y="733"/>
                  <a:pt x="596" y="675"/>
                  <a:pt x="575" y="735"/>
                </a:cubicBezTo>
                <a:cubicBezTo>
                  <a:pt x="611" y="747"/>
                  <a:pt x="646" y="769"/>
                  <a:pt x="682" y="780"/>
                </a:cubicBezTo>
                <a:cubicBezTo>
                  <a:pt x="740" y="798"/>
                  <a:pt x="801" y="805"/>
                  <a:pt x="859" y="824"/>
                </a:cubicBezTo>
                <a:cubicBezTo>
                  <a:pt x="1003" y="818"/>
                  <a:pt x="1106" y="861"/>
                  <a:pt x="1169" y="735"/>
                </a:cubicBezTo>
                <a:cubicBezTo>
                  <a:pt x="1166" y="706"/>
                  <a:pt x="1169" y="675"/>
                  <a:pt x="1160" y="647"/>
                </a:cubicBezTo>
                <a:cubicBezTo>
                  <a:pt x="1157" y="637"/>
                  <a:pt x="1124" y="631"/>
                  <a:pt x="1134" y="629"/>
                </a:cubicBezTo>
                <a:cubicBezTo>
                  <a:pt x="1198" y="619"/>
                  <a:pt x="1264" y="623"/>
                  <a:pt x="1329" y="620"/>
                </a:cubicBezTo>
                <a:cubicBezTo>
                  <a:pt x="1364" y="596"/>
                  <a:pt x="1398" y="583"/>
                  <a:pt x="1435" y="558"/>
                </a:cubicBezTo>
                <a:cubicBezTo>
                  <a:pt x="1444" y="552"/>
                  <a:pt x="1462" y="540"/>
                  <a:pt x="1462" y="540"/>
                </a:cubicBezTo>
                <a:cubicBezTo>
                  <a:pt x="1479" y="513"/>
                  <a:pt x="1488" y="487"/>
                  <a:pt x="1506" y="461"/>
                </a:cubicBezTo>
                <a:cubicBezTo>
                  <a:pt x="1503" y="422"/>
                  <a:pt x="1507" y="383"/>
                  <a:pt x="1497" y="345"/>
                </a:cubicBezTo>
                <a:cubicBezTo>
                  <a:pt x="1492" y="325"/>
                  <a:pt x="1448" y="309"/>
                  <a:pt x="1435" y="301"/>
                </a:cubicBezTo>
                <a:cubicBezTo>
                  <a:pt x="1371" y="264"/>
                  <a:pt x="1362" y="273"/>
                  <a:pt x="1267" y="266"/>
                </a:cubicBezTo>
                <a:cubicBezTo>
                  <a:pt x="1223" y="199"/>
                  <a:pt x="1283" y="283"/>
                  <a:pt x="1213" y="213"/>
                </a:cubicBezTo>
                <a:cubicBezTo>
                  <a:pt x="1205" y="205"/>
                  <a:pt x="1205" y="192"/>
                  <a:pt x="1196" y="186"/>
                </a:cubicBezTo>
                <a:cubicBezTo>
                  <a:pt x="1183" y="177"/>
                  <a:pt x="1165" y="175"/>
                  <a:pt x="1151" y="168"/>
                </a:cubicBezTo>
                <a:cubicBezTo>
                  <a:pt x="1124" y="155"/>
                  <a:pt x="1105" y="141"/>
                  <a:pt x="1081" y="124"/>
                </a:cubicBezTo>
                <a:cubicBezTo>
                  <a:pt x="900" y="136"/>
                  <a:pt x="996" y="129"/>
                  <a:pt x="894" y="159"/>
                </a:cubicBezTo>
                <a:cubicBezTo>
                  <a:pt x="807" y="117"/>
                  <a:pt x="908" y="170"/>
                  <a:pt x="832" y="115"/>
                </a:cubicBezTo>
                <a:cubicBezTo>
                  <a:pt x="793" y="87"/>
                  <a:pt x="748" y="62"/>
                  <a:pt x="708" y="35"/>
                </a:cubicBezTo>
                <a:cubicBezTo>
                  <a:pt x="698" y="29"/>
                  <a:pt x="628" y="6"/>
                  <a:pt x="611" y="0"/>
                </a:cubicBezTo>
                <a:cubicBezTo>
                  <a:pt x="543" y="3"/>
                  <a:pt x="475" y="3"/>
                  <a:pt x="407" y="9"/>
                </a:cubicBezTo>
                <a:cubicBezTo>
                  <a:pt x="380" y="11"/>
                  <a:pt x="327" y="26"/>
                  <a:pt x="327" y="26"/>
                </a:cubicBezTo>
                <a:cubicBezTo>
                  <a:pt x="303" y="43"/>
                  <a:pt x="296" y="43"/>
                  <a:pt x="283" y="71"/>
                </a:cubicBezTo>
                <a:cubicBezTo>
                  <a:pt x="275" y="88"/>
                  <a:pt x="265" y="124"/>
                  <a:pt x="265" y="124"/>
                </a:cubicBezTo>
                <a:cubicBezTo>
                  <a:pt x="268" y="133"/>
                  <a:pt x="270" y="143"/>
                  <a:pt x="274" y="151"/>
                </a:cubicBezTo>
                <a:cubicBezTo>
                  <a:pt x="279" y="160"/>
                  <a:pt x="289" y="167"/>
                  <a:pt x="292" y="177"/>
                </a:cubicBezTo>
                <a:cubicBezTo>
                  <a:pt x="302" y="206"/>
                  <a:pt x="301" y="257"/>
                  <a:pt x="301" y="21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071240" y="486108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IA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3544920"/>
            <a:ext cx="1879560" cy="293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rol 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3301920"/>
            <a:ext cx="1879560" cy="2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suntos Acadé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1280" y="3301920"/>
            <a:ext cx="187956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1280" y="3544920"/>
            <a:ext cx="1879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11280" y="383868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11280" y="3301920"/>
            <a:ext cx="1440" cy="536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90840" y="3301920"/>
            <a:ext cx="1440" cy="536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56000" y="1846440"/>
            <a:ext cx="1879560" cy="88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quisi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gresos (SD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trol Esco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lanta de Maest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56000" y="1612800"/>
            <a:ext cx="1879560" cy="2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scuelas y Facult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56000" y="160344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56000" y="1846440"/>
            <a:ext cx="1879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273528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556000" y="1603440"/>
            <a:ext cx="1440" cy="1131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35560" y="1603440"/>
            <a:ext cx="1440" cy="1131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1846440"/>
            <a:ext cx="1879560" cy="14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gres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ta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uentas por Cob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uentas por Pa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heque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ciliaciones Banc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1603440"/>
            <a:ext cx="1879560" cy="2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esorería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160344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1846440"/>
            <a:ext cx="1879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325296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1603440"/>
            <a:ext cx="1440" cy="1649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90840" y="1603440"/>
            <a:ext cx="1440" cy="1649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508800" y="3452760"/>
            <a:ext cx="1879560" cy="1408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lific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Verdana"/>
              </a:rPr>
              <a:t>Kard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ntrol Esco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Oferta educati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onstanci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ctas de Evalu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Planta de Maestr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508800" y="1851120"/>
            <a:ext cx="1879560" cy="1601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Recursos Prop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Verdana"/>
              </a:rPr>
              <a:t>Ingres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gr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Verdana"/>
              </a:rPr>
              <a:t>Contabil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Verdana"/>
              </a:rPr>
              <a:t>Cuentas por Cobr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Verdana"/>
              </a:rPr>
              <a:t>Cuentas por Pag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Verdana"/>
              </a:rPr>
              <a:t>Cheque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Verdana"/>
              </a:rPr>
              <a:t>Conciliación Banc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08800" y="1609560"/>
            <a:ext cx="1879560" cy="2415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scuelas y Facult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508800" y="1609560"/>
            <a:ext cx="187956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08800" y="1851120"/>
            <a:ext cx="1879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08800" y="486108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508800" y="1609560"/>
            <a:ext cx="1440" cy="3251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388360" y="1609560"/>
            <a:ext cx="1440" cy="3251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08800" y="3452760"/>
            <a:ext cx="1879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08800" y="5189400"/>
            <a:ext cx="1879560" cy="692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sulta de Calific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Kar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deu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508800" y="4924440"/>
            <a:ext cx="1879560" cy="264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dres de Fam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508800" y="492444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508800" y="5189400"/>
            <a:ext cx="1879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508800" y="588168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508800" y="4924440"/>
            <a:ext cx="1440" cy="957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388360" y="4924440"/>
            <a:ext cx="1440" cy="957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1280" y="5923080"/>
            <a:ext cx="1879560" cy="66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tura de Calif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1280" y="5645160"/>
            <a:ext cx="187956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a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1280" y="562608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1280" y="5923080"/>
            <a:ext cx="1879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1280" y="6583320"/>
            <a:ext cx="187956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11280" y="5626080"/>
            <a:ext cx="1440" cy="957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490840" y="5626080"/>
            <a:ext cx="1440" cy="957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64080" y="5913360"/>
            <a:ext cx="1879560" cy="669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cripción Académica (Registro de Materias y Horari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564080" y="5626080"/>
            <a:ext cx="1879560" cy="287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564080" y="562608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564080" y="5913360"/>
            <a:ext cx="1879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64080" y="6583320"/>
            <a:ext cx="187956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64080" y="5626080"/>
            <a:ext cx="1440" cy="957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443640" y="5626080"/>
            <a:ext cx="1440" cy="957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11280" y="4200480"/>
            <a:ext cx="1879560" cy="40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heques pendientes de p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1280" y="3957480"/>
            <a:ext cx="1879560" cy="2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1280" y="3957480"/>
            <a:ext cx="187956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11280" y="4200480"/>
            <a:ext cx="1879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11280" y="4603680"/>
            <a:ext cx="187956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1280" y="3957480"/>
            <a:ext cx="1440" cy="646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490840" y="3957480"/>
            <a:ext cx="1440" cy="646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619360" y="5869080"/>
            <a:ext cx="1879560" cy="72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ptura de Calific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ptura de Alum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ptura de Grup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ptura de Pag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619360" y="5626080"/>
            <a:ext cx="1879560" cy="2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corpor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19360" y="562608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619360" y="5869080"/>
            <a:ext cx="1879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619360" y="6595920"/>
            <a:ext cx="187956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619360" y="5626080"/>
            <a:ext cx="1440" cy="969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98920" y="5626080"/>
            <a:ext cx="1800" cy="969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1280" y="4911840"/>
            <a:ext cx="1879560" cy="63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Kar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tado de Cu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aterias Actu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11280" y="4668840"/>
            <a:ext cx="1879560" cy="2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11280" y="466884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11280" y="4911840"/>
            <a:ext cx="1879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11280" y="5541840"/>
            <a:ext cx="187956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11280" y="4668840"/>
            <a:ext cx="1440" cy="873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90840" y="4668840"/>
            <a:ext cx="1440" cy="873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490840" y="2816280"/>
            <a:ext cx="142560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57600" y="2752560"/>
            <a:ext cx="322200" cy="102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490840" y="3519360"/>
            <a:ext cx="136044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90840" y="4284720"/>
            <a:ext cx="129528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2490840" y="5114520"/>
            <a:ext cx="123012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527280" y="5370480"/>
            <a:ext cx="51912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5600520" y="5116680"/>
            <a:ext cx="842760" cy="12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5211360" y="5307120"/>
            <a:ext cx="45396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148000" y="3137040"/>
            <a:ext cx="1360440" cy="76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40080" y="3967200"/>
            <a:ext cx="519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490840" y="5243040"/>
            <a:ext cx="129528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498920" y="4541760"/>
            <a:ext cx="18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98440" y="118260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Monotype Corsiva"/>
              </a:rPr>
              <a:t>MODELO CONCEPTUAL SI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564080" y="2039760"/>
            <a:ext cx="1879560" cy="6908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nes de E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4080" y="1603440"/>
            <a:ext cx="1879560" cy="436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uperación Acadé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laneación Acadé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64080" y="160344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564080" y="2039760"/>
            <a:ext cx="1879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64080" y="2730600"/>
            <a:ext cx="18795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64080" y="1603440"/>
            <a:ext cx="1440" cy="1127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443640" y="1603440"/>
            <a:ext cx="1440" cy="1127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952880" y="2752560"/>
            <a:ext cx="519120" cy="7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925080" y="34560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BD Integ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5277960" y="4157640"/>
            <a:ext cx="116676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5945040"/>
            <a:ext cx="258840" cy="25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dc0f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508800" y="6265800"/>
            <a:ext cx="258840" cy="254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768720" y="59450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ódulos Ac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769080" y="6265800"/>
            <a:ext cx="14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ódulos Nue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57200" y="981000"/>
            <a:ext cx="7570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84120" y="2060640"/>
            <a:ext cx="8364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Verdana"/>
              </a:rPr>
              <a:t>El objetivo es dotar al SIIA de elementos que permitan mejorar la confiabilidad, disponibilidad e integridad de la información para la toma de decisiones y análisis institucional, mejorar los procesos y brindar mejores servicios a la comunidad universitaria. Colaborar en la construcción de la ¨Sociedad de la Información¨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Verdana"/>
              </a:rPr>
              <a:t>Filosofía: La tecnología al servicio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Verdana"/>
              </a:rPr>
              <a:t>Paradigma de trabajo colabor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2826360" y="2650320"/>
            <a:ext cx="3998520" cy="3921120"/>
            <a:chOff x="2826360" y="2650320"/>
            <a:chExt cx="3998520" cy="3921120"/>
          </a:xfrm>
        </p:grpSpPr>
        <p:sp>
          <p:nvSpPr>
            <p:cNvPr id="685" name="_s124935"/>
            <p:cNvSpPr/>
            <p:nvPr/>
          </p:nvSpPr>
          <p:spPr>
            <a:xfrm flipH="1" flipV="1">
              <a:off x="4032000" y="4054320"/>
              <a:ext cx="396720" cy="3168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124936"/>
            <p:cNvSpPr/>
            <p:nvPr/>
          </p:nvSpPr>
          <p:spPr>
            <a:xfrm>
              <a:off x="3122640" y="3222000"/>
              <a:ext cx="1018800" cy="10188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5640" rIns="485640" tIns="243000" bIns="243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end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cu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124937"/>
            <p:cNvSpPr/>
            <p:nvPr/>
          </p:nvSpPr>
          <p:spPr>
            <a:xfrm flipH="1">
              <a:off x="3836520" y="4800240"/>
              <a:ext cx="497520" cy="112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124938"/>
            <p:cNvSpPr/>
            <p:nvPr/>
          </p:nvSpPr>
          <p:spPr>
            <a:xfrm>
              <a:off x="2826360" y="4516200"/>
              <a:ext cx="1018800" cy="10188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5640" rIns="485640" tIns="243000" bIns="243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Cono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124939"/>
            <p:cNvSpPr/>
            <p:nvPr/>
          </p:nvSpPr>
          <p:spPr>
            <a:xfrm flipH="1">
              <a:off x="4386960" y="5144400"/>
              <a:ext cx="222120" cy="4586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124940"/>
            <p:cNvSpPr/>
            <p:nvPr/>
          </p:nvSpPr>
          <p:spPr>
            <a:xfrm>
              <a:off x="3652560" y="5552640"/>
              <a:ext cx="1018800" cy="1018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5640" rIns="485640" tIns="243000" bIns="243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Interactu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c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organis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_s124941"/>
            <p:cNvSpPr/>
            <p:nvPr/>
          </p:nvSpPr>
          <p:spPr>
            <a:xfrm>
              <a:off x="5047560" y="5140800"/>
              <a:ext cx="222120" cy="4593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_s124942"/>
            <p:cNvSpPr/>
            <p:nvPr/>
          </p:nvSpPr>
          <p:spPr>
            <a:xfrm>
              <a:off x="4979880" y="5552640"/>
              <a:ext cx="1018800" cy="10188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5680" rIns="445680" tIns="222840" bIns="22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Evalu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credit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_s124943"/>
            <p:cNvSpPr/>
            <p:nvPr/>
          </p:nvSpPr>
          <p:spPr>
            <a:xfrm>
              <a:off x="5320440" y="4797720"/>
              <a:ext cx="497520" cy="111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_s124944"/>
            <p:cNvSpPr/>
            <p:nvPr/>
          </p:nvSpPr>
          <p:spPr>
            <a:xfrm>
              <a:off x="5806080" y="4516200"/>
              <a:ext cx="1018800" cy="10188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5640" rIns="485640" tIns="243000" bIns="243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S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efic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_s124945"/>
            <p:cNvSpPr/>
            <p:nvPr/>
          </p:nvSpPr>
          <p:spPr>
            <a:xfrm flipV="1">
              <a:off x="5222160" y="4050720"/>
              <a:ext cx="396720" cy="3168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_s124946"/>
            <p:cNvSpPr/>
            <p:nvPr/>
          </p:nvSpPr>
          <p:spPr>
            <a:xfrm>
              <a:off x="5509800" y="3224520"/>
              <a:ext cx="1018800" cy="10188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5640" rIns="485640" tIns="243000" bIns="243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Tom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_s124947"/>
            <p:cNvSpPr/>
            <p:nvPr/>
          </p:nvSpPr>
          <p:spPr>
            <a:xfrm flipV="1">
              <a:off x="4826160" y="3669480"/>
              <a:ext cx="0" cy="5090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_s124948"/>
            <p:cNvSpPr/>
            <p:nvPr/>
          </p:nvSpPr>
          <p:spPr>
            <a:xfrm>
              <a:off x="4316040" y="2650320"/>
              <a:ext cx="1018800" cy="10188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5640" rIns="485640" tIns="243000" bIns="243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Transparent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_s124949"/>
            <p:cNvSpPr/>
            <p:nvPr/>
          </p:nvSpPr>
          <p:spPr>
            <a:xfrm>
              <a:off x="4316040" y="4178520"/>
              <a:ext cx="1018800" cy="10188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5640" rIns="485640" tIns="243000" bIns="243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Da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042920" y="1197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Verdana"/>
              </a:rPr>
              <a:t>Los datos deben ser: Confiables, disponibles, integrales</a:t>
            </a:r>
            <a:r>
              <a:rPr b="1" lang="es-MX" sz="24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8:02:24Z</dcterms:created>
  <dc:creator>UNIVERSIDAD VERACRUZANA</dc:creator>
  <dc:description/>
  <dc:language>en-US</dc:language>
  <cp:lastModifiedBy>jnevarez</cp:lastModifiedBy>
  <dcterms:modified xsi:type="dcterms:W3CDTF">2009-11-12T21:46:56Z</dcterms:modified>
  <cp:revision>37</cp:revision>
  <dc:subject/>
  <dc:title>Metodología para la Evaluación del SIIA</dc:title>
</cp:coreProperties>
</file>