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CF7-6C62-433B-A444-0496A5CD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67F-6685-43CB-8412-DAAE627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27B-A740-4966-B4BB-010744C4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E72-64EC-46D8-9E1F-00A0CB9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A4F-9707-47F8-95EA-2390C1E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BE9-483A-40B5-B852-B7AAD18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1CC-D325-4114-8B50-813B426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53A-284B-4C47-AAF1-AB88300A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2F2-A31E-46EC-9A42-895D6CF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EB9-A3F8-4276-8E79-365FE6D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F51-C59C-46FA-8588-16303487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2B4-65C5-4BE8-970B-AF98C3E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2239-DA75-43F0-B22E-78F147DA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19200" y="-4929120"/>
            <a:ext cx="12182400" cy="167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519200" y="-4929120"/>
            <a:ext cx="12182400" cy="167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19200" y="-4929120"/>
            <a:ext cx="12182400" cy="167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19200" y="-4929120"/>
            <a:ext cx="12182400" cy="167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19200" y="-4929120"/>
            <a:ext cx="12182400" cy="167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29:42Z</dcterms:created>
  <dc:creator>Clara</dc:creator>
  <dc:description/>
  <dc:language>en-US</dc:language>
  <cp:lastModifiedBy>Clara</cp:lastModifiedBy>
  <dcterms:modified xsi:type="dcterms:W3CDTF">2010-02-11T17:35:50Z</dcterms:modified>
  <cp:revision>1</cp:revision>
  <dc:subject/>
  <dc:title>Diapositiva 1</dc:title>
</cp:coreProperties>
</file>